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D01B-60BD-4983-9EB9-24A9A92D5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5B3-1E77-4F32-A153-AEB55CE34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7A1-DFCA-48A8-A97C-20B3EBCD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716-A674-4667-A5A0-AB8839DD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9E299-F980-4256-9A20-15B96A2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82B5B-CBD2-47FF-9911-14E0AE7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C08D5-9419-4DBE-AC6E-3496EDA8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F3A00-3A0F-4C0F-81F1-402E667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FD45-8F27-4D88-BB22-33DB00AC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33537-FED5-4DE1-B7ED-6217104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5F896-8ADA-4726-A601-6DE8FD87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17B34-4D46-4476-A614-59FB5D0F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98932-9031-4C4C-AE68-2BD5EE81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1672-7677-4660-85C4-F57C1FAE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0E3-4311-42AC-80B4-DBEA83FE5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2F27-9BE1-4358-8141-533480CC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E8F1-BCD0-4907-8F07-9CC06468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7E4F-2343-41D6-A3CF-68868907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D2A0-95A3-43A9-A703-6204C3D0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ED45-1099-443E-BD6F-326294B8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1025-6AF0-4694-9493-FA0781AB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DA20-28D0-43AE-A7C0-98E7D9B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AD5-15B6-46E1-B75A-9C953260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EAE3-1C66-4746-9CA9-BE85A33A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050C-5AA7-47ED-A134-CEA25066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6F6-E1AB-48C2-8632-13C5ACB2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10C-DD05-4BEC-8D88-AE061829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1D5-9478-4EBF-897E-8076522A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E329-902B-4527-AA04-F0AD7BFC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965D-1571-4CEF-ABF0-B4C14E03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74A8-7F2D-4FB7-A753-72C606F4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E8EB0-D8CC-4ABC-B4AE-2E918B29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9E4F-9C23-42E7-A7BC-B08E410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3DE-F094-4348-839E-64FF185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96B2-5D87-49C5-A8DA-65F945BE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B9E2-94A1-49B1-B087-F36BFFCE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57266-7FB9-4787-A1B2-81330C96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2C61-D751-4263-BD83-27DA903E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57A5-7EDE-4AB9-80CD-4A5A145C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89BA1-0254-4883-92C6-813785BD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B8F1-07E7-45CE-9D4E-62FB6357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A2FF-368F-4C07-9268-0FD2BE1E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6757-5667-43C9-B386-E10DF9DF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36A9-4166-4CD7-A868-B0D4486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859-FB51-47D7-99F9-476FD46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D522B-5AB6-4322-8697-22E9FA47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12971-4692-4979-AF74-F4FAE7A8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D1166-170D-42D8-9D1A-3807B90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4F52-39CF-49A8-9512-A4FF2D97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C115E-B633-46DB-934B-D4D6B8D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0AD30-D0FE-4CAD-9948-25C39B82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C11D-AC12-4996-BC3F-74D96BC9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02559-603A-4ACE-80FD-B1AB73A1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98BA-66A7-42E5-8D0B-678BA6F9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733DE-EA11-469F-9333-097D2F20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DC5-F0C1-4AD1-A0B3-0A350EAD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DFD4-428A-4027-B554-062914BC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A97CC-2804-4A98-B719-67707687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BD06-672B-46C4-85CF-5FFBA295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6E1F2-250A-414D-B4E5-9FA342C1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FF0B-ADC1-4E6A-B26A-23C83A0F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CA840-CC6A-4A8D-BAE0-04B9FDB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A7F5-2DCF-4FF8-B235-556D50B2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5A59D-28B1-4D40-8565-1CB707F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9AD64-2ADC-4588-9059-791843E1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4EA8-9C16-42A6-B843-E993804F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9B4-3848-4897-A5BE-284C07A5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B8A5-C60B-455E-BA2C-C076CC10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5EE2C-4A39-477A-B0B1-65E9EAE8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C1A6C-9960-4F4F-90C1-5A228ACB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8CE8-0FA7-4D9C-AEC1-94891CEB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9A45-B7F2-4F26-A2B8-E5E6703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89DA2-D194-486A-8CC1-E7420CA7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D379-02E0-4EBA-ADFD-3B39C53E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F0820-37C9-415D-A80A-E13282A7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1AACD-5745-432E-8F1A-F188B01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FD972-624E-4B29-9314-7AD83864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395-4580-4E9F-B2CE-193A0A67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1AAC7-3451-4664-8018-7061220D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01430-0303-430F-A9A0-228E93F7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45C19-2950-4285-96DD-ED058BA9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2819-CE11-45A0-A3FD-BE807771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E36CF-52C7-44E4-AC42-15E2623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C246-5BA6-4EFD-89B0-0B2E963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A9BC-D96A-41EE-AFB5-943ADD4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0D84-0DF2-4403-8C40-7E9874ED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BCB9-3224-4F6D-892B-1D761028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31BD7-9CD2-4FC0-B26E-E0AFE0B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435-034A-43FC-B708-F10330DB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C994-6E11-41ED-AF82-CA7F683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0C895-1928-48B0-ADD0-6241485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84368-04E0-41B9-93D7-9CEF115D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A31DA-3D19-47C7-9F76-210F4D8B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DD935-8D77-456F-841C-169C7C93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8943D-2BBE-4301-8726-5CAAF8B9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889B8-AD00-4772-A97E-5562EDA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FBE43-097D-44E4-A141-592FE9AB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1C87-A402-4E1B-A39E-40DE0336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0872D-5263-4A1D-81F8-855EDF9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31B-CE03-4192-ACF8-054E5FB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7EC68-47D8-4726-B9DB-418FF303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A6EDE-E6BB-4874-9046-781DF7D1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162A5-50D4-4320-96DE-4AC50EBB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7418D-8538-4F1B-9898-83C15EEC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DCE59-CD83-472D-9BAC-84D4A50B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9CCF1-6A55-489D-8AE3-5DDB4176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141A7-8957-44F5-B89C-BD885E86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EC3FD-BCEA-4CD2-B025-0203CEA1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EC8C4-97C8-42E4-82BD-7215A7C2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E791D-C92E-4735-B07C-5E69B52C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1CE-B71C-4AA6-92FB-86FA84388F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5CC1-BEB4-4584-A5B7-AFCCA829CBA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8D2-2518-47F6-8DEC-45BA05BAEBE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CDC-BE2E-44E6-9302-CEE1DF97A4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1FB-F5DD-4C97-9803-AB59150EBC9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874D-8836-4FAD-A3C6-7F7373F634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F614-D91D-4411-BED4-C88393B103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0F85-9C66-464D-8758-110A7F94DC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4786-05E4-4725-AB87-8B5163FC3CB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378000" y="4400640"/>
            <a:ext cx="8467560" cy="18478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56760" y="3286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43329"/>
                </a:solidFill>
                <a:latin typeface="Comic Sans MS"/>
              </a:rPr>
              <a:t>Mr.sc. Nevia Močinić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43329"/>
                </a:solidFill>
                <a:latin typeface="Comic Sans MS"/>
              </a:rPr>
              <a:t>Didattica della natura e società 3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61B5-6F24-49DB-B410-D922FB15AE18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33200" y="60480"/>
            <a:ext cx="9017280" cy="1493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560" y="1356840"/>
            <a:ext cx="85532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Comprendono i metodi che stimolan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e assicurano lo sviluppo dell’educando come individuo autonomo, maturo e responsabi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Metodo della persuasi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Metodo della terapia (terapia con il gioco, terapia dell’ascolto attivo, terapia realistic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44DF-8B09-4511-9699-310C67D0ACFE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328680" y="450720"/>
            <a:ext cx="8461440" cy="1054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47640" y="1285560"/>
            <a:ext cx="7740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b2c24"/>
                </a:solidFill>
                <a:latin typeface="Comic Sans MS"/>
              </a:rPr>
              <a:t>La persuasione 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- è un'opera di convincimento,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 un atto che comporta sempre una scelta, un esercizio di libera volontà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;</a:t>
            </a:r>
            <a:r>
              <a:rPr b="0" lang="it-IT" sz="2400" spc="-1" strike="noStrike">
                <a:solidFill>
                  <a:srgbClr val="3b2c24"/>
                </a:solidFill>
                <a:latin typeface="Franklin Gothic Book"/>
              </a:rPr>
              <a:t> 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serve a dare una direzione al pensiero dell'interlocutore.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 I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l persuadere esclude non solo la minaccia e il ricatto, ma anche mosse sleali come l'appello alla pietà o alla fiducia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cieca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b2c24"/>
                </a:solidFill>
                <a:latin typeface="Comic Sans MS"/>
              </a:rPr>
              <a:t>Tecniche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3b2c24"/>
                </a:solidFill>
                <a:latin typeface="Comic Sans MS"/>
              </a:rPr>
              <a:t>Trovare una motivazione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: utilizza in maniera sottile ragioni cariche di significato per far cambiare il punto di vista agli alunni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b2c24"/>
                </a:solidFill>
                <a:latin typeface="Comic Sans MS"/>
              </a:rPr>
              <a:t>Perché no?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- 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Questa tecnica consiste nel chiedere ‘perché no?’ e poi cominciare a </a:t>
            </a:r>
            <a:r>
              <a:rPr b="1" lang="it-IT" sz="2400" spc="-1" strike="noStrike">
                <a:solidFill>
                  <a:srgbClr val="3b2c24"/>
                </a:solidFill>
                <a:latin typeface="Comic Sans MS"/>
              </a:rPr>
              <a:t>smontare una per una tutte le obiezioni </a:t>
            </a:r>
            <a:r>
              <a:rPr b="0" lang="it-IT" sz="2400" spc="-1" strike="noStrike">
                <a:solidFill>
                  <a:srgbClr val="3b2c24"/>
                </a:solidFill>
                <a:latin typeface="Comic Sans MS"/>
              </a:rPr>
              <a:t>che si ricevono</a:t>
            </a: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CF5-B675-447E-BDD1-3E927CA69698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428840"/>
            <a:ext cx="86868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Reciprocità – 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fare qualcosa per l’alunno. Quando qualcuno fa qualcosa per noi, di solito ci sentiamo in obbligo di restituire il favor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Coerenza </a:t>
            </a:r>
            <a:r>
              <a:rPr b="0" lang="it-IT" sz="2800" spc="-1" strike="noStrike">
                <a:solidFill>
                  <a:srgbClr val="3b2c24"/>
                </a:solidFill>
                <a:latin typeface="Comic Sans MS"/>
              </a:rPr>
              <a:t>fra le proprie conoscenze, opinioni, credenze e i propri comportamenti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Offrire una caramella, una cioccolata, una bevanda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 per avviare la conversazio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Contatto – 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toccare in maniera delicata ed appropriata o semplicemente rassicurare la contropart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47E-681B-49C7-8F42-F1108B312B05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647640" y="1483920"/>
            <a:ext cx="774072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Il gioco con burattini o altri pupazzi che rappresentano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familiari (genitori, fratelli, sorelle, nonni)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altre persone con cui il bambino è a contatto, es. amici, maestre, medici, infermiere, poliziotti, ecc.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animali domestici o selvatici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modellini di case, edifici pubblici, ecc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5535-994A-4055-B15B-AC7FBDE07975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L'ASPETTO CATARTICO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 della terapia del gioco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corrisponde alla possibilità di scaricare ansie, tensioni, paure, insicurezze e atteggiamenti aggressivi generatisi nei confronti dell'ambiente circostante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il gioco a questo proposito favorisce una distensione dell'Io ed un migliore adeguamento al proprio ambiente di riferimento soprattutto grazie al ricrearsi e al ripetersi in forma ludica della situazione che crea problemi nella vita real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4689-DBFC-4CE8-AA37-B6562AF1F8FE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2855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Richiede all’educatore di fornire assistenza specifica all’allievo rivolta allo sviluppo di 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modalità di lettura e di interpretazione della loro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realtà 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p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e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r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 orientare una presa di decisio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si tratta di una valorizzazione non retorica de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gli alunni 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che così vengono aiutat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i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 ad andare in profondità nell’analisi di eventi e di decisioni, connesse al modo di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4e3b30"/>
                </a:solidFill>
                <a:latin typeface="Comic Sans MS"/>
              </a:rPr>
              <a:t>porsi, di prendere parte, di interrogarsi, del senso di una propria collocazione nei vari contesti, sia</a:t>
            </a:r>
            <a:r>
              <a:rPr b="0" lang="hr-HR" sz="2800" spc="-1" strike="noStrike">
                <a:solidFill>
                  <a:srgbClr val="4e3b30"/>
                </a:solidFill>
                <a:latin typeface="Comic Sans MS"/>
              </a:rPr>
              <a:t> relazionale che emotiv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B116-CDCA-4356-972A-6DD1D53CA92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3572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L’educatore deve far parlare l’alunno e ascoltarlo con attenzione</a:t>
            </a:r>
            <a:r>
              <a:rPr b="0" lang="hr-HR" sz="3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consapevole,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trasmette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ndo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 segnali di 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comprensione,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compartecipazione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 e appoggio (ruolo del silenzio,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dello sguardo, della comunicazione analogica, del giudizio…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Se necessario deve fornire aiuto all’alunno nell’esprimersi, riepilogando con parole proprie la situazione descritt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Si evita di sottovalutare problemi che sembrano poco rilevanti (es. il rifiuto da parte degli amici, l’antipatia per certe forme di attività, il sentirsi brutti, ecc.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8A66-700F-4A5A-BE4F-DAFF6C187119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E’ l’insieme di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interventi che mirano a stabilire una “relazione di aiuto”, un rapporto interpersonale adeguato a prevenire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eventuali disagi, a sostenere la stima di sé e le capacità di superare ostacoli di vario genere, quali ad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esempio tensioni, disarmonie a livello familiare, scolastico, 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sociale,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ecc.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C605-C77A-482D-AAC3-3ECB5175B2D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L’intervento di aiuto alla persona 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parte dall’idea che un individuo, che a lungo non riesce a soddisfare i propri bisogni, deve essere aiutato a diventare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consapevole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e superare le proprie difficoltà con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 procedure efficaci, utili all’azione e,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quindi, alla soluzione di problemi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Con la sensazione di avere la situazione sotto controllo scompariranno la frustrazione e gli altri sentimenti negativ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372-93ED-4E50-BC45-86842AFB3C9A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1ª fase: Per prima cosa bisogna far amicizia con il bambino, conquistandone la fiducia. Fargli capire che egli stesso sceglie il proprio comportamen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2ª fase: Analisi dell’efficacia e utilità di tale comportamento ai fini del benessere del bambino. Quando si renderà conto della sua inefficacia, il bambino sarà pronto a cambiare modo di agir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3685-DD92-4DE7-B3C3-F8B7D1B5087D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0040" y="1285560"/>
            <a:ext cx="7888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b2c24"/>
                </a:solidFill>
                <a:latin typeface="Comic Sans MS"/>
              </a:rPr>
              <a:t>L’educazione deve prendersi cura degli aspetti esistenziali, sociali e individuali dell’alunno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914400" indent="-9144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b2c24"/>
                </a:solidFill>
                <a:latin typeface="Comic Sans MS"/>
              </a:rPr>
              <a:t>Distinguiamo le strategie dell’esistenza, della socializzazione e dell’individualizzazione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914400" indent="-9144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914400" indent="-9144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70DD-4258-4921-90E7-D66310A59E9D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35684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3ª fase: costruire un piano d’azione insieme al bambino, cioè trovare alcune soluzioni possibili per superare il problema; il bambino deve assumersi la responsabilità di realizzazione del piano stabilito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4ª fase: non accettare la rinuncia alla realizzazione del piano, ma, se necessario, cambiarlo. Evitare ad ogni modo la punizione che umilia il bambino permettendogli di giustificare la non avvenuta attuazion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2B6A-A4E3-407A-A43F-C0F554E2BA55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L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e qualità umane fondamentali del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terapeuta sono: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l’empatia, la considerazione positiva incondizionata e la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congruenza/genuinit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L’ “</a:t>
            </a:r>
            <a:r>
              <a:rPr b="0" i="1" lang="it-IT" sz="3200" spc="-1" strike="noStrike">
                <a:solidFill>
                  <a:srgbClr val="4e3b30"/>
                </a:solidFill>
                <a:latin typeface="Comic Sans MS"/>
              </a:rPr>
              <a:t>empatia” si riferisce alla capacità di comprensione profonda dei vissuti di</a:t>
            </a:r>
            <a:r>
              <a:rPr b="0" i="1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un’altra persona, di mettersi cioè “nei suoi panni”, interpretandone</a:t>
            </a:r>
            <a:r>
              <a:rPr b="0" lang="hr-HR" sz="32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4e3b30"/>
                </a:solidFill>
                <a:latin typeface="Comic Sans MS"/>
              </a:rPr>
              <a:t>correttamente gli schemi di pensiero o di azione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9E0-D647-4171-B45A-C5250A358FB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7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la “</a:t>
            </a:r>
            <a:r>
              <a:rPr b="0" i="1" lang="it-IT" sz="3000" spc="-1" strike="noStrike">
                <a:solidFill>
                  <a:srgbClr val="4e3b30"/>
                </a:solidFill>
                <a:latin typeface="Comic Sans MS"/>
              </a:rPr>
              <a:t>considerazione positiva incondizionata” si riferisce alla capacità di rispetto</a:t>
            </a:r>
            <a:r>
              <a:rPr b="0" i="1" lang="hr-HR" sz="30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e di valorizzazione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 e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interesse per la persona che chiede aiu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la “</a:t>
            </a:r>
            <a:r>
              <a:rPr b="0" i="1" lang="it-IT" sz="3000" spc="-1" strike="noStrike">
                <a:solidFill>
                  <a:srgbClr val="4e3b30"/>
                </a:solidFill>
                <a:latin typeface="Comic Sans MS"/>
              </a:rPr>
              <a:t>congruenza” si riferisce a strategie di comunicazione chiare e genuine,</a:t>
            </a:r>
            <a:r>
              <a:rPr b="0" i="1" lang="hr-HR" sz="30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espressione dell’autenticità personale quale atteggiamento di fondo del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 terapeuta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, che caratterizza così la sua abilità comunicativa non tanto come</a:t>
            </a:r>
            <a:r>
              <a:rPr b="0" lang="hr-HR" sz="30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it-IT" sz="3000" spc="-1" strike="noStrike">
                <a:solidFill>
                  <a:srgbClr val="4e3b30"/>
                </a:solidFill>
                <a:latin typeface="Comic Sans MS"/>
              </a:rPr>
              <a:t>tecnica, ma come atteggiamento di disponibilità relazional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EC59-5B6E-4A8D-9942-BEFDF64901D4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e3b30"/>
                </a:solidFill>
                <a:latin typeface="Franklin Gothic Book"/>
              </a:rPr>
              <a:t>Strategie dell’esistenza</a:t>
            </a:r>
            <a:r>
              <a:rPr b="1" lang="hr-HR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hr-HR" sz="2800" spc="-1" strike="noStrike">
                <a:solidFill>
                  <a:srgbClr val="4e3b30"/>
                </a:solidFill>
                <a:latin typeface="Franklin Gothic Book"/>
              </a:rPr>
              <a:t>(La strategia dell'esistenza comprende metodi e procedimenti che soddisfano i bisogni fisiologici riguardanti l'esistenza e che assicurano la conservazione della vita, la tutela e la protezione della salute). Riguardano l’alimentazione sana, la permanenza all'aria aperta, i giochi liberi e la cura per la salute dei bambini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e3b30"/>
                </a:solidFill>
                <a:latin typeface="Franklin Gothic Book"/>
              </a:rPr>
              <a:t>Strategie della socializzazi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4e3b30"/>
                </a:solidFill>
                <a:latin typeface="Franklin Gothic Book"/>
              </a:rPr>
              <a:t>Strategie dell’individualizzazio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AAEB-E260-4579-B0BD-1CF6F60487B1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89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56760" y="1071720"/>
            <a:ext cx="8031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5540a"/>
                </a:solidFill>
                <a:latin typeface="Comic Sans MS"/>
              </a:rPr>
              <a:t>comprendono metodi che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soddisfano i bisogni fisiologici,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assicurano la conservazione della vita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assicurano la tutela e la protezione della salu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Se l’esistenza è in pericolo (vivere in condizioni disagiate, poco igieniche, essere maltrattati e malnutriti) non si può parlare di sviluppo della personalit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6ED-3C61-4B13-9A69-E0E7291A920F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rispettare le regole della vita in comu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collaborare con gli altr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aiutare chi ne ha bisogno (i compagni di classe, gli anziani, l’insegnante, ecc.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rispettare gli animali e le pia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85540a"/>
                </a:solidFill>
                <a:latin typeface="Comic Sans MS"/>
              </a:rPr>
              <a:t>non inquinare l’ambie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71F-3883-469E-856E-839C2991D16B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285840" y="42840"/>
            <a:ext cx="8437320" cy="14875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647640" y="1285920"/>
            <a:ext cx="7740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comprendono i metodi e i procedimenti che soddisfano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il bisogno di amore, di appartenenza, di tolleranz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di stare insieme agli altri e di collaborazione reciproc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 </a:t>
            </a: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di autostima e realizzazione personale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987-970D-4D8A-8C78-298E493C44B8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647640" y="1484280"/>
            <a:ext cx="7740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autogestione - gestione partecipata dei propri obiettivi e dei metodi con i quali raggiungerl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organizzare attività sociali extradidattiche ed extrascolast. - </a:t>
            </a:r>
            <a:r>
              <a:rPr b="0" lang="it-IT" sz="3200" spc="-1" strike="noStrike">
                <a:solidFill>
                  <a:srgbClr val="3b2c24"/>
                </a:solidFill>
                <a:latin typeface="Comic Sans MS"/>
              </a:rPr>
              <a:t>serate dedicate alla cultura (teatro, conferenze</a:t>
            </a: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, </a:t>
            </a:r>
            <a:r>
              <a:rPr b="0" lang="it-IT" sz="3200" spc="-1" strike="noStrike">
                <a:solidFill>
                  <a:srgbClr val="3b2c24"/>
                </a:solidFill>
                <a:latin typeface="Comic Sans MS"/>
              </a:rPr>
              <a:t>cinema) ma anche al divertimento, alla gastronomia, allo sport</a:t>
            </a:r>
            <a:r>
              <a:rPr b="1" lang="it-IT" sz="3200" spc="-1" strike="noStrike">
                <a:solidFill>
                  <a:srgbClr val="3b2c24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3b2c24"/>
                </a:solidFill>
                <a:latin typeface="Comic Sans MS"/>
              </a:rPr>
              <a:t>e alla music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468-0C47-4BFB-ACE2-4D18F781B5F5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285840" y="42840"/>
            <a:ext cx="829152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28400" y="114300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b2c24"/>
                </a:solidFill>
                <a:latin typeface="Comic Sans MS"/>
              </a:rPr>
              <a:t>1. 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La prima regola è la </a:t>
            </a: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democraticità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. L'autogestione deve essere decisa da tutti, altrimenti si finisce per riprodurre il normale sistema che c'è a scuol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2. L'autogestione </a:t>
            </a: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deve avere un obiettivo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: un progetto, qualcosa di concreto che porti tutti a vivere l'autogestione stessa come un percors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3. La discussione deve essere aperta a tutti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4. Bisogna creare </a:t>
            </a:r>
            <a:r>
              <a:rPr b="1" lang="hr-HR" sz="2800" spc="-1" strike="noStrike">
                <a:solidFill>
                  <a:srgbClr val="3b2c24"/>
                </a:solidFill>
                <a:latin typeface="Comic Sans MS"/>
              </a:rPr>
              <a:t>un comitato organizzativo</a:t>
            </a:r>
            <a:r>
              <a:rPr b="0" lang="hr-HR" sz="2800" spc="-1" strike="noStrike">
                <a:solidFill>
                  <a:srgbClr val="3b2c24"/>
                </a:solidFill>
                <a:latin typeface="Comic Sans MS"/>
              </a:rPr>
              <a:t>, per mantenere i contatti con le persone esterne e realizzare il programma dell'autogestio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0464-337B-45DB-A6EE-36542246CA28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5408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Sempre accompagnato da conflitti fra il singolo e il gruppo, fra il singolo e la comunità sociale, fra l’educando e l’educato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Per i bambini piccoli il controllo nasce dall’autorità che essi rispettano, per gli adolescenti dai coetane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b2c24"/>
                </a:solidFill>
                <a:latin typeface="Comic Sans MS"/>
              </a:rPr>
              <a:t>A volte necessario applicare misure repressiv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E1F-5BFF-46FC-B2A1-D30A9139310D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4:18:35Z</dcterms:created>
  <dc:creator>sandra v.</dc:creator>
  <dc:description/>
  <dc:language>en-US</dc:language>
  <cp:lastModifiedBy>Miro</cp:lastModifiedBy>
  <dcterms:modified xsi:type="dcterms:W3CDTF">2011-11-02T16:45:20Z</dcterms:modified>
  <cp:revision>96</cp:revision>
  <dc:subject/>
  <dc:title>Biljke, životinje i ljudi u proljeće</dc:title>
</cp:coreProperties>
</file>