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0A3F-23D9-4FDA-8626-6DF7A4682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938C-0359-436B-8EF6-95AE4B6F7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F567-ED29-4F45-B993-8A60F411F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9CFD-DF38-4FBC-AB25-F3AE00587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DB9A1-5FE4-49D9-A6A8-588236FB1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EB152-70B5-44F0-A0FB-8A3F4468F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A7782-A7A6-46CF-8876-E829B01DF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BD720-F433-4C71-9762-3E5E37BEF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CE3E6-1A3E-48A2-934A-B8D2070BC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8B5A8-CE6B-4189-931E-46F99E15B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7A07E-004E-4AA1-A2BD-B20E1775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EDA4-05D3-4377-908F-ECAB11D55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34D20-687C-4608-8097-EF22F2206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CF52D-1733-4D97-8341-6F0A661F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5E88D-9E50-4BB7-A148-3AC617AE4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52A63-DE69-47AF-B102-C55F3E906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3F3C9-8639-492F-B823-03B8A9BE6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8CFC-E7C1-43EB-8094-B33E15262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A474-BF69-41A8-BE69-2C2B7B675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2A55-59B7-4040-9280-BB9347D96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A817-26DA-4BB8-874C-7B099C264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3781-6550-4365-892C-C6FF52E8A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C1EC-1385-4743-AED8-BC0A9F726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76FE-E833-418B-9080-A1ADC659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00007e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0000ac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5917C-A72F-47F9-B79D-203B1C722C4F}" type="slidenum">
              <a:rPr b="0" lang="hr-H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000072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0000ac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2FA82-1AC3-46EF-B8F5-82472D9AF3A6}" type="slidenum">
              <a:rPr b="0" lang="hr-H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3748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400" spc="-1" strike="noStrike">
                <a:solidFill>
                  <a:srgbClr val="ccffff"/>
                </a:solidFill>
                <a:latin typeface="Tahoma"/>
              </a:rPr>
              <a:t>EFFICACIA DELLE STRATEGIE</a:t>
            </a: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642840"/>
            <a:ext cx="640080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DI EDUCAZIONE E ISTRUZIO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j0082190.mid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6"/>
          <p:cNvSpPr/>
          <p:nvPr/>
        </p:nvSpPr>
        <p:spPr>
          <a:xfrm>
            <a:off x="3708360" y="2997360"/>
            <a:ext cx="1871640" cy="936360"/>
          </a:xfrm>
          <a:custGeom>
            <a:avLst/>
            <a:gdLst>
              <a:gd name="textAreaLeft" fmla="*/ 110160 w 1871640"/>
              <a:gd name="textAreaRight" fmla="*/ 1761480 w 1871640"/>
              <a:gd name="textAreaTop" fmla="*/ 110160 h 936360"/>
              <a:gd name="textAreaBottom" fmla="*/ 826200 h 936360"/>
            </a:gdLst>
            <a:ahLst/>
            <a:rect l="textAreaLeft" t="textAreaTop" r="textAreaRight" b="textAreaBottom"/>
            <a:pathLst>
              <a:path w="43167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567" y="21600"/>
                </a:lnTo>
                <a:arcTo wR="3600" hR="3600" stAng="10800000" swAng="5400000"/>
                <a:lnTo>
                  <a:pt x="43167" y="3600"/>
                </a:lnTo>
                <a:arcTo wR="3600" hR="3600" stAng="5400000" swAng="5400000"/>
                <a:close/>
              </a:path>
            </a:pathLst>
          </a:cu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3851280" y="3068640"/>
            <a:ext cx="172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Strategie didattich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Line 10"/>
          <p:cNvSpPr/>
          <p:nvPr/>
        </p:nvSpPr>
        <p:spPr>
          <a:xfrm flipV="1">
            <a:off x="5508720" y="1916280"/>
            <a:ext cx="1224000" cy="1225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Line 11"/>
          <p:cNvSpPr/>
          <p:nvPr/>
        </p:nvSpPr>
        <p:spPr>
          <a:xfrm>
            <a:off x="4643280" y="3929040"/>
            <a:ext cx="71640" cy="1500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Line 12"/>
          <p:cNvSpPr/>
          <p:nvPr/>
        </p:nvSpPr>
        <p:spPr>
          <a:xfrm flipH="1" flipV="1">
            <a:off x="2214720" y="3357720"/>
            <a:ext cx="1436400" cy="142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WordArt 14"/>
          <p:cNvSpPr txBox="1"/>
          <p:nvPr/>
        </p:nvSpPr>
        <p:spPr>
          <a:xfrm rot="18819600">
            <a:off x="5368680" y="2187000"/>
            <a:ext cx="112572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10938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pprendimento</a:t>
            </a:r>
            <a:endParaRPr b="0" lang="en-US" sz="16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10938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7" name="WordArt 15"/>
          <p:cNvSpPr txBox="1"/>
          <p:nvPr/>
        </p:nvSpPr>
        <p:spPr>
          <a:xfrm rot="5199000">
            <a:off x="4430520" y="4536720"/>
            <a:ext cx="105732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19044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esperienza</a:t>
            </a:r>
            <a:endParaRPr b="0" lang="en-US" sz="16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19044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8" name="WordArt 16"/>
          <p:cNvSpPr txBox="1"/>
          <p:nvPr/>
        </p:nvSpPr>
        <p:spPr>
          <a:xfrm rot="345000">
            <a:off x="2369880" y="3046320"/>
            <a:ext cx="1208160" cy="30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7758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esercitazione</a:t>
            </a:r>
            <a:endParaRPr b="0" lang="en-US" sz="16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7758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Line 18"/>
          <p:cNvSpPr/>
          <p:nvPr/>
        </p:nvSpPr>
        <p:spPr>
          <a:xfrm flipV="1">
            <a:off x="6732720" y="692280"/>
            <a:ext cx="0" cy="1224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Line 19"/>
          <p:cNvSpPr/>
          <p:nvPr/>
        </p:nvSpPr>
        <p:spPr>
          <a:xfrm>
            <a:off x="6732720" y="1916280"/>
            <a:ext cx="1655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Line 20"/>
          <p:cNvSpPr/>
          <p:nvPr/>
        </p:nvSpPr>
        <p:spPr>
          <a:xfrm>
            <a:off x="4714920" y="5429160"/>
            <a:ext cx="1571760" cy="714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Line 21"/>
          <p:cNvSpPr/>
          <p:nvPr/>
        </p:nvSpPr>
        <p:spPr>
          <a:xfrm flipH="1">
            <a:off x="3357720" y="5429160"/>
            <a:ext cx="1357200" cy="785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Line 22"/>
          <p:cNvSpPr/>
          <p:nvPr/>
        </p:nvSpPr>
        <p:spPr>
          <a:xfrm flipH="1" flipV="1">
            <a:off x="713880" y="2642760"/>
            <a:ext cx="1514520" cy="714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Line 23"/>
          <p:cNvSpPr/>
          <p:nvPr/>
        </p:nvSpPr>
        <p:spPr>
          <a:xfrm flipH="1">
            <a:off x="1000080" y="3357720"/>
            <a:ext cx="1224000" cy="1223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Line 24"/>
          <p:cNvSpPr/>
          <p:nvPr/>
        </p:nvSpPr>
        <p:spPr>
          <a:xfrm>
            <a:off x="2214720" y="3357720"/>
            <a:ext cx="647640" cy="1296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WordArt 28"/>
          <p:cNvSpPr txBox="1"/>
          <p:nvPr/>
        </p:nvSpPr>
        <p:spPr>
          <a:xfrm rot="16200000">
            <a:off x="5800680" y="914040"/>
            <a:ext cx="1361880" cy="39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insegnamento</a:t>
            </a:r>
            <a:endParaRPr b="0" lang="en-US" sz="1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7" name="WordArt 29"/>
          <p:cNvSpPr txBox="1"/>
          <p:nvPr/>
        </p:nvSpPr>
        <p:spPr>
          <a:xfrm>
            <a:off x="6877080" y="1628640"/>
            <a:ext cx="1224000" cy="23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coperta</a:t>
            </a:r>
            <a:endParaRPr b="0" lang="en-US" sz="1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8" name="WordArt 30"/>
          <p:cNvSpPr txBox="1"/>
          <p:nvPr/>
        </p:nvSpPr>
        <p:spPr>
          <a:xfrm rot="1488600">
            <a:off x="5145120" y="5484960"/>
            <a:ext cx="1224000" cy="2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ricettiva</a:t>
            </a:r>
            <a:endParaRPr b="0" lang="en-US" sz="1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9" name="WordArt 31"/>
          <p:cNvSpPr txBox="1"/>
          <p:nvPr/>
        </p:nvSpPr>
        <p:spPr>
          <a:xfrm rot="19798200">
            <a:off x="3271680" y="5487480"/>
            <a:ext cx="1179720" cy="3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produttiva</a:t>
            </a:r>
            <a:endParaRPr b="0" lang="en-US" sz="1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0" name="WordArt 32"/>
          <p:cNvSpPr txBox="1"/>
          <p:nvPr/>
        </p:nvSpPr>
        <p:spPr>
          <a:xfrm rot="1543800">
            <a:off x="717120" y="2554200"/>
            <a:ext cx="164484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pprendere ad apprendere</a:t>
            </a:r>
            <a:endParaRPr b="0" lang="en-US" sz="1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1" name="WordArt 33"/>
          <p:cNvSpPr txBox="1"/>
          <p:nvPr/>
        </p:nvSpPr>
        <p:spPr>
          <a:xfrm rot="18932400">
            <a:off x="642600" y="3681000"/>
            <a:ext cx="1514520" cy="44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pprendere le lingue</a:t>
            </a:r>
            <a:endParaRPr b="0" lang="en-US" sz="1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2" name="WordArt 34"/>
          <p:cNvSpPr txBox="1"/>
          <p:nvPr/>
        </p:nvSpPr>
        <p:spPr>
          <a:xfrm rot="3781200">
            <a:off x="2214000" y="3981600"/>
            <a:ext cx="127944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Lavori pratici</a:t>
            </a:r>
            <a:endParaRPr b="0" lang="en-US" sz="1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ccffff"/>
                </a:solidFill>
                <a:latin typeface="Tahoma"/>
              </a:rPr>
              <a:t>EFFICACIA DEI METODI DI APPRENDIMENTO 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Diagram 4" descr=""/>
          <p:cNvPicPr/>
          <p:nvPr/>
        </p:nvPicPr>
        <p:blipFill>
          <a:blip r:embed="rId1"/>
          <a:stretch/>
        </p:blipFill>
        <p:spPr>
          <a:xfrm>
            <a:off x="1706400" y="1768320"/>
            <a:ext cx="6108840" cy="439452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5"/>
          <p:cNvSpPr/>
          <p:nvPr/>
        </p:nvSpPr>
        <p:spPr>
          <a:xfrm>
            <a:off x="357120" y="1143000"/>
            <a:ext cx="2357640" cy="52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00"/>
                </a:solidFill>
                <a:latin typeface="Tahoma"/>
              </a:rPr>
              <a:t>GLI UOMINI RICORDANO</a:t>
            </a:r>
            <a:r>
              <a:rPr b="0" lang="hr-HR" sz="1800" spc="-1" strike="noStrike">
                <a:solidFill>
                  <a:srgbClr val="0000ac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10% di ciò che leggon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20% di ciò che senton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30% di ciò che vedon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50% di ciò che sentono e vedon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70% di ciò che dicono o scrivon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90% di ciò che hanno  fatt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7072200" y="1285920"/>
            <a:ext cx="1928880" cy="47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0000"/>
                </a:solidFill>
                <a:latin typeface="Tahoma"/>
              </a:rPr>
              <a:t>STILI DI APPRENDIMENTO</a:t>
            </a:r>
            <a:r>
              <a:rPr b="0" lang="hr-HR" sz="1800" spc="-1" strike="noStrike">
                <a:solidFill>
                  <a:srgbClr val="0000ac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Stile verba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Stile visua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Ascolto, parlato, osservazione e attività pratic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800" spc="-1" strike="noStrike">
                <a:solidFill>
                  <a:srgbClr val="ffffff"/>
                </a:solidFill>
                <a:latin typeface="Tahoma"/>
              </a:rPr>
              <a:t>Ciò che sento- dimentico</a:t>
            </a:r>
            <a:r>
              <a:rPr b="0" lang="hr-HR" sz="5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400" spc="-1" strike="noStrike">
                <a:solidFill>
                  <a:srgbClr val="ffffff"/>
                </a:solidFill>
                <a:latin typeface="Tahoma"/>
              </a:rPr>
              <a:t>Ciò che vedo - ricordo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400" spc="-1" strike="noStrike">
                <a:solidFill>
                  <a:srgbClr val="ffffff"/>
                </a:solidFill>
                <a:latin typeface="Tahoma"/>
              </a:rPr>
              <a:t>Ciò che faccio - so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8000"/>
                            </p:stCondLst>
                            <p:childTnLst>
                              <p:par>
                                <p:cTn id="111" nodeType="afterEffect" fill="hold" presetClass="entr" presetID="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AutoShape 2"/>
          <p:cNvSpPr/>
          <p:nvPr/>
        </p:nvSpPr>
        <p:spPr>
          <a:xfrm>
            <a:off x="3708360" y="2997360"/>
            <a:ext cx="1871640" cy="936360"/>
          </a:xfrm>
          <a:custGeom>
            <a:avLst/>
            <a:gdLst>
              <a:gd name="textAreaLeft" fmla="*/ 110160 w 1871640"/>
              <a:gd name="textAreaRight" fmla="*/ 1761480 w 1871640"/>
              <a:gd name="textAreaTop" fmla="*/ 110160 h 936360"/>
              <a:gd name="textAreaBottom" fmla="*/ 826200 h 936360"/>
            </a:gdLst>
            <a:ahLst/>
            <a:rect l="textAreaLeft" t="textAreaTop" r="textAreaRight" b="textAreaBottom"/>
            <a:pathLst>
              <a:path w="43167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567" y="21600"/>
                </a:lnTo>
                <a:arcTo wR="3600" hR="3600" stAng="10800000" swAng="5400000"/>
                <a:lnTo>
                  <a:pt x="43167" y="3600"/>
                </a:lnTo>
                <a:arcTo wR="3600" hR="3600" stAng="5400000" swAng="5400000"/>
                <a:close/>
              </a:path>
            </a:pathLst>
          </a:cu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3714840" y="3068640"/>
            <a:ext cx="1928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Strategie dell’educazion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Line 4"/>
          <p:cNvSpPr/>
          <p:nvPr/>
        </p:nvSpPr>
        <p:spPr>
          <a:xfrm flipV="1">
            <a:off x="5508720" y="1916280"/>
            <a:ext cx="1224000" cy="1225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Line 6"/>
          <p:cNvSpPr/>
          <p:nvPr/>
        </p:nvSpPr>
        <p:spPr>
          <a:xfrm>
            <a:off x="4643280" y="3933720"/>
            <a:ext cx="0" cy="1079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Line 7"/>
          <p:cNvSpPr/>
          <p:nvPr/>
        </p:nvSpPr>
        <p:spPr>
          <a:xfrm flipH="1" flipV="1">
            <a:off x="2700000" y="1915920"/>
            <a:ext cx="1150920" cy="1152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WordArt 8"/>
          <p:cNvSpPr txBox="1"/>
          <p:nvPr/>
        </p:nvSpPr>
        <p:spPr>
          <a:xfrm rot="18819600">
            <a:off x="5293080" y="2210040"/>
            <a:ext cx="1303560" cy="30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10938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Individualizzazione</a:t>
            </a:r>
            <a:endParaRPr b="0" lang="en-US" sz="16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10938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4" name="WordArt 10"/>
          <p:cNvSpPr txBox="1"/>
          <p:nvPr/>
        </p:nvSpPr>
        <p:spPr>
          <a:xfrm rot="16200000">
            <a:off x="3931560" y="4426560"/>
            <a:ext cx="1066680" cy="21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162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socializzazione</a:t>
            </a:r>
            <a:endParaRPr b="0" lang="en-US" sz="16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162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5" name="WordArt 11"/>
          <p:cNvSpPr txBox="1"/>
          <p:nvPr/>
        </p:nvSpPr>
        <p:spPr>
          <a:xfrm rot="2753400">
            <a:off x="2833200" y="2224080"/>
            <a:ext cx="1122480" cy="21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21486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Esistenza</a:t>
            </a:r>
            <a:endParaRPr b="0" lang="en-US" sz="16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21486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6" name="Line 12"/>
          <p:cNvSpPr/>
          <p:nvPr/>
        </p:nvSpPr>
        <p:spPr>
          <a:xfrm flipV="1">
            <a:off x="6732720" y="692280"/>
            <a:ext cx="0" cy="1224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Line 13"/>
          <p:cNvSpPr/>
          <p:nvPr/>
        </p:nvSpPr>
        <p:spPr>
          <a:xfrm>
            <a:off x="6732720" y="1916280"/>
            <a:ext cx="1655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Line 16"/>
          <p:cNvSpPr/>
          <p:nvPr/>
        </p:nvSpPr>
        <p:spPr>
          <a:xfrm flipH="1">
            <a:off x="2700360" y="5084640"/>
            <a:ext cx="19447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Line 17"/>
          <p:cNvSpPr/>
          <p:nvPr/>
        </p:nvSpPr>
        <p:spPr>
          <a:xfrm>
            <a:off x="4643280" y="5013360"/>
            <a:ext cx="0" cy="1224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Line 18"/>
          <p:cNvSpPr/>
          <p:nvPr/>
        </p:nvSpPr>
        <p:spPr>
          <a:xfrm>
            <a:off x="4643280" y="5084640"/>
            <a:ext cx="1513080" cy="720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Line 19"/>
          <p:cNvSpPr/>
          <p:nvPr/>
        </p:nvSpPr>
        <p:spPr>
          <a:xfrm flipV="1">
            <a:off x="2700360" y="549000"/>
            <a:ext cx="0" cy="1366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Line 20"/>
          <p:cNvSpPr/>
          <p:nvPr/>
        </p:nvSpPr>
        <p:spPr>
          <a:xfrm flipH="1" flipV="1">
            <a:off x="1476360" y="692280"/>
            <a:ext cx="1224000" cy="1224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Line 21"/>
          <p:cNvSpPr/>
          <p:nvPr/>
        </p:nvSpPr>
        <p:spPr>
          <a:xfrm flipH="1">
            <a:off x="1042920" y="1916280"/>
            <a:ext cx="1657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WordArt 22"/>
          <p:cNvSpPr txBox="1"/>
          <p:nvPr/>
        </p:nvSpPr>
        <p:spPr>
          <a:xfrm rot="16200000">
            <a:off x="6010920" y="1124280"/>
            <a:ext cx="1098360" cy="23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erapia</a:t>
            </a:r>
            <a:endParaRPr b="0" lang="en-US" sz="1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5" name="WordArt 23"/>
          <p:cNvSpPr txBox="1"/>
          <p:nvPr/>
        </p:nvSpPr>
        <p:spPr>
          <a:xfrm>
            <a:off x="6877080" y="1643040"/>
            <a:ext cx="122400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pporto </a:t>
            </a:r>
            <a:endParaRPr b="0" lang="en-US" sz="1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6" name="WordArt 26"/>
          <p:cNvSpPr txBox="1"/>
          <p:nvPr/>
        </p:nvSpPr>
        <p:spPr>
          <a:xfrm>
            <a:off x="2700360" y="4786200"/>
            <a:ext cx="1440000" cy="29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omunicazione </a:t>
            </a:r>
            <a:endParaRPr b="0" lang="en-US" sz="1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7" name="WordArt 27"/>
          <p:cNvSpPr txBox="1"/>
          <p:nvPr/>
        </p:nvSpPr>
        <p:spPr>
          <a:xfrm rot="16200000">
            <a:off x="3797280" y="5560920"/>
            <a:ext cx="1211040" cy="3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ffermazione </a:t>
            </a:r>
            <a:endParaRPr b="0" lang="en-US" sz="1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8" name="WordArt 28"/>
          <p:cNvSpPr txBox="1"/>
          <p:nvPr/>
        </p:nvSpPr>
        <p:spPr>
          <a:xfrm rot="1547400">
            <a:off x="4858920" y="5157720"/>
            <a:ext cx="1152720" cy="24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ooperazione </a:t>
            </a:r>
            <a:endParaRPr b="0" lang="en-US" sz="1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9" name="WordArt 29"/>
          <p:cNvSpPr txBox="1"/>
          <p:nvPr/>
        </p:nvSpPr>
        <p:spPr>
          <a:xfrm>
            <a:off x="1116000" y="1643040"/>
            <a:ext cx="129528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icurezza </a:t>
            </a:r>
            <a:endParaRPr b="0" lang="en-US" sz="1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0" name="WordArt 30"/>
          <p:cNvSpPr txBox="1"/>
          <p:nvPr/>
        </p:nvSpPr>
        <p:spPr>
          <a:xfrm rot="2733000">
            <a:off x="1564200" y="1031040"/>
            <a:ext cx="1152360" cy="23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Gioco-lavoro</a:t>
            </a:r>
            <a:endParaRPr b="0" lang="en-US" sz="1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1" name="WordArt 31"/>
          <p:cNvSpPr txBox="1"/>
          <p:nvPr/>
        </p:nvSpPr>
        <p:spPr>
          <a:xfrm rot="5400000">
            <a:off x="2303280" y="1089000"/>
            <a:ext cx="11527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Vita sana</a:t>
            </a:r>
            <a:endParaRPr b="0" lang="en-US" sz="1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42" name="j0082190.mid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7300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4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6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4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8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90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9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98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03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0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11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14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ccffff"/>
                </a:solidFill>
                <a:latin typeface="Tahoma"/>
              </a:rPr>
              <a:t>EFFICACIA DEI METODI EDUCATIVI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457200" y="1600200"/>
          <a:ext cx="8362800" cy="4495680"/>
        </p:xfrm>
        <a:graphic>
          <a:graphicData uri="http://schemas.openxmlformats.org/drawingml/2006/table">
            <a:tbl>
              <a:tblPr/>
              <a:tblGrid>
                <a:gridCol w="2787480"/>
                <a:gridCol w="2787840"/>
                <a:gridCol w="2787480"/>
              </a:tblGrid>
              <a:tr h="449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EFFICAC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ttenzion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ccess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mprension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scolt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pport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duc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sercizi adatt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imol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utostim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ccffff"/>
                          </a:solidFill>
                          <a:latin typeface="Tahoma"/>
                        </a:rPr>
                        <a:t>NEUTRAL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arlare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hiamare i genitor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ornire consigl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mpedire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99ff"/>
                          </a:solidFill>
                          <a:latin typeface="Tahoma"/>
                        </a:rPr>
                        <a:t>INEFFICAC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astig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ritic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vvertiment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gnora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omessa di migliorament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7T05:24:42Z</dcterms:created>
  <dc:creator>Ladislav Bognar</dc:creator>
  <dc:description/>
  <dc:language>en-US</dc:language>
  <cp:lastModifiedBy>Miro</cp:lastModifiedBy>
  <dcterms:modified xsi:type="dcterms:W3CDTF">2014-05-28T20:19:08Z</dcterms:modified>
  <cp:revision>2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