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2E26-DFCD-4606-80BF-21B0F370434D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43E-D97B-4315-B5B3-773FE9AE20B5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CC5-5D41-43A5-B214-07D19239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7DD-8560-40A7-8880-C3F25FC7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C77-C304-47CD-8F95-F39E9F0D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57C-9265-411F-9217-BCF1CED4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AABA-3730-420A-9412-247A4C72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59DA-3B37-45E3-8697-6A2EC899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4E1A-0FF2-46DA-BF64-9DAAC954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300A-A137-4AFA-B67B-F4CDECCF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B090-CE05-44E6-8142-197C1378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5D2A-BBA0-4D70-94E6-B76049C9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33F6-B52E-4DCE-91E1-BEA91C1F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D08-F05D-40D0-AD74-62843AD4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85D0-9DED-4A4E-9C25-0236AC2D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B96D-491C-49DA-B8B4-7A44891D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4B8A-AAEC-4F62-8697-9C0C5140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8908-FFED-42B7-AC8E-36BFC91D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23B2-D007-4487-AD95-79DB5E2C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0E5-65DA-4691-968F-21D50566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774-9FF7-4B36-9838-3229BCEC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BA9-9F22-4A25-9916-26690CAD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C7B-F4CA-41B6-BC35-233123CE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142-B3D1-4447-A0B0-3554CC7F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85C-1E46-4EF8-B646-FBD1A0EB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0BB-C333-47C7-BC3B-63110DCA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F7D3-D7D7-4B1D-8D19-36C5C34EA723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3960" cy="2255760"/>
            <a:chOff x="7167960" y="-82800"/>
            <a:chExt cx="2433960" cy="22557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3960" cy="2255760"/>
              <a:chOff x="7167960" y="-82800"/>
              <a:chExt cx="2433960" cy="22557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3960" cy="2255760"/>
                <a:chOff x="7167960" y="-82800"/>
                <a:chExt cx="2433960" cy="22557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6920" y="518400"/>
                  <a:ext cx="4309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3440" y="281520"/>
                  <a:ext cx="8089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1600"/>
                  <a:ext cx="1214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2920" y="1421280"/>
                  <a:ext cx="2703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8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880"/>
                  <a:ext cx="2898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6720" y="212040"/>
                  <a:ext cx="28656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67960" y="-82800"/>
            <a:ext cx="2433960" cy="2255760"/>
            <a:chOff x="7167960" y="-82800"/>
            <a:chExt cx="2433960" cy="225576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67960" y="-82800"/>
              <a:ext cx="2433960" cy="2255760"/>
              <a:chOff x="7167960" y="-82800"/>
              <a:chExt cx="2433960" cy="225576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67960" y="-82800"/>
                <a:ext cx="2433960" cy="2255760"/>
                <a:chOff x="7167960" y="-82800"/>
                <a:chExt cx="2433960" cy="225576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26920" y="518400"/>
                  <a:ext cx="4309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23440" y="281520"/>
                  <a:ext cx="8089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77440" y="-21600"/>
                  <a:ext cx="1214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22920" y="1421280"/>
                  <a:ext cx="2703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8680" y="1275840"/>
                  <a:ext cx="2898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2440" y="335880"/>
                  <a:ext cx="2898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66720" y="212040"/>
                  <a:ext cx="28656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9D12-1D54-46E9-A640-B21BFA36AE81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5840" y="1356840"/>
            <a:ext cx="8424720" cy="3225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L’INSEGNAMENTO INTEGRATO</a:t>
            </a:r>
            <a:br>
              <a:rPr sz="4400"/>
            </a:b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NELLA NATURA E SOCIETA’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71680" y="4857480"/>
            <a:ext cx="85723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so di studio: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segnamento di classe V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idattica della natura e societ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ente: Mr.sc. Nevia Močini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l giornale mur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428480"/>
            <a:ext cx="83581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è un pannello dove si espone il materiale che illustra, mette in evidenza, chiarisce e precisa il tema che per un certo tempo è al centro dell'attenzione della clas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uò essere costituito da una parte del muro o un angolo dell'aula foderato di carta colorata, il flanellografo, un pannello di polistirolo, di sughero opp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n pannello di legno abbinato ad u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affale o ad un tavo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Varianti di giornali mura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56760" y="1214280"/>
            <a:ext cx="83581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'angolo delle mostre - si usa per esporre illustrazioni, testi scritti, libri e altro materiale a tre dimensio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pannello dopp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pannello di cartone ondula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pannello mob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sare carta colorata che servirà da sfondo per l'esposizione dei materia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titolo del tema svolto va scritto 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ettere stampatelle maiusc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151920"/>
            <a:ext cx="750096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Aspetti  del giornale mur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4200" y="1356840"/>
            <a:ext cx="84297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va preparato assieme, insegnante e alun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uò contenere testi scritti, lavori artistici, oggetti costruiti con la stoffa, con la spugna, illustrazioni ritagliate dalle riviste o trovate da altre parti, fotografie, articoli di giornale, commenti personali o con qualsiasi altro oggetto attinente al tema centr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eve essere interessante, diverso per ogni tema, contenente numerosi lavo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Preparazione del giornale mur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714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gni lavoro si sistema prima su un foglio colorato che funge da cornice e mette in evidenza il lavoro stes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decorazione artistica dipende dal t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giornale murale viene completato con contributi di varia natura, raggruppati secondo le varie unità didattiche che ne fanno par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icapitolazione - mappa concettu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Mappa concettu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Content Placeholder 3" descr=""/>
          <p:cNvPicPr/>
          <p:nvPr/>
        </p:nvPicPr>
        <p:blipFill>
          <a:blip r:embed="rId1"/>
          <a:stretch/>
        </p:blipFill>
        <p:spPr>
          <a:xfrm>
            <a:off x="676440" y="1822320"/>
            <a:ext cx="772452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5840" y="152280"/>
            <a:ext cx="727056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Utilità del giornale mur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28760" y="1213920"/>
            <a:ext cx="8143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ttirare l'attenzione di tutta la classe su un argomento particol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artecipare alla soluzione collettiva di una quest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antenere l'interesse per un determinato argomento molto a lung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artecipazione attiva degli alunn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ll'insegna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endere gli alunni creativi e capaci d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llegare i campi di studio fra lo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l progetto di ricerca collettiv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28760" y="1828440"/>
            <a:ext cx="79531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udio approfondito di un argomento scelto in base agli interessi degli alun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orma di attività didattica che soddisfa molte esigenze dell’alunn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) apprendimento basato sull’attività degli alunni (esperienze concrete; studio di materiali scritti, intervist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sperimenti, osservazioni,ec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Vantaggi del progetto di ricer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56760" y="1828440"/>
            <a:ext cx="802476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’apprendimento è un processo unico e comprende l’uso di tutte le abilità  dell'alunno: lettura, scrittura, ragionamento logico-matematico, espressione artistica e musicale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i sviluppa l'autonomia e la creatività dell'alun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i stimola la motivazione interio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Scelta dell’ argomen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28760" y="1500120"/>
            <a:ext cx="8143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problema scelto deve essere collegato con la vita rea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ricerca deve essere realizzabile dagli alunni della clas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ricerca deve prevedere la collaborazione degli alunni tra loro e con altre persone (coetanei e adult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ricerca deve concludersi con risult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ncreti, visibi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Le caratteristiche essenziali del progetto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6760" y="1828440"/>
            <a:ext cx="802476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uò essere considerato ricerca ogni lavoro del bambino se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n argomento come centro d'interes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n'attività prolungata nel tempo (non di un'ora soltant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possibilità di soluzioni var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possibilità di lavorare in mo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utonomo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Processo di conoscenz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428840"/>
            <a:ext cx="7696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iaget e Vygotski: la conoscenza – nasce da un'interazione attiva con l'ambiente naturale, tecnologico e socia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’apprendimento sincretico - il più logico e naturale per i bambini in età scola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è un processo unico indirizzato all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struzione dei concett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Differenze tra l’insegnamento classico e il progetto di ricerc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85880" y="2000160"/>
          <a:ext cx="7696080" cy="37753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gnamento clas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getto di ricer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zione esteri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tivazione interi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rettività dell’insegn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bertà  nei procedim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formazioni fornite dall’insegn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cumentazione auto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esura degli appunti diretta dall’insegn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aborazione autonoma dei risul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uida verso un’unica solu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uzioni va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rendimento frammen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pprendimento integr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peri chiusi all’interno dell’a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peri dissemina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Domande utili durante il progetto di ricer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2000160"/>
            <a:ext cx="769608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he cosa sappiamo già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he cosa vogliamo sapere ancor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me possiamo conoscere ciò che ci interess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he cosa abbiamo imparato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Fasi della ricer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785600"/>
            <a:ext cx="76960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ase iniziale – scelta dell'argo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ase della document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laborazione e rappresentazione dei risult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Fase inizi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285560"/>
            <a:ext cx="76960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scussione guidata dall'insegnante sugli argomenti/problemi</a:t>
            </a:r>
            <a:r>
              <a:rPr b="1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ossibili all'interno del nucleo tema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elta dell'argomen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issare gli obiettivi globali del proget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struire una mappa concettuale sull’argom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Fase della documentazi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56760" y="1828800"/>
            <a:ext cx="80247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abilire i metodi di ricerca (osservazione, selezione di testi, interviste, trovare documenti di archivio, di famiglia, parrocchiali, dati statistici, esperimenti, ec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abilire gli obiettivi e le attività parziali da realizz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ealizzare la raccolta dei d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Fase dell’elaborazio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28840"/>
            <a:ext cx="7953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gli alunni riassumono, sistemano e interpretano le esperienze avute e i dati raccol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reano cartelloni con fotografie, commenti personali, articoli ritagliati dai giornali, relazioni su escursioni e gite, su sperimentazioni effettu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reano materiale audiovisivo: presentazioni in PowerPoint, filma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reano drammatizzazioni, opere artistiche, musicali, letterarie, ec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Presentazione dei risult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sentano i risultati sotto forma di: manifesto, disegni, lavori scritti, dispense, lezioni, relazioni, filmati, drammatizzazioni o in qualche altro modo 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Genitori, alunni di altre classi, direttore, pedagogista, psicologo, inseriscono i dati sulla pagina web della scuola, inviano i materiali a riviste specializzate: es. Arcobale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La frutta e la verdura primaverili – cl.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828800"/>
            <a:ext cx="802944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1ª fase: Conversazione sulla primavera e sulle piante in primavera per giungere al concetto “la frutta e la verdura primaverili”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i analizza ciò che sappiamo già e si decide che cosa vogliamo sapere ancor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pariamo un elenco delle caratteristiche della frutta e della verdura primaverili che vogliamo conoscere megl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Continuazio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0040" y="1499760"/>
            <a:ext cx="8215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2ª fase: Si stabilisce il procedimento da seguire per la documentazione. Ogni alunno riceve la consegna di portare a scuola della frutta e della verdura primaverili dal mercato o dal proprio or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i informano i genitori sugli obiettivi della ricerca e si chiede la loro collaborazione nel portare i bambini al mercato, nello scegliere e acquistare della frutta e della verdura da portare a scuola, nel prestare gli utensili usati nella preparazione della verdura: la grattuggia, lo spelapatate, lo spazzolino per lavare la verdura, il passino, il tagliere, il coltellino, la terrina per l'insalata, ec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56760" y="357120"/>
            <a:ext cx="82868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onversazione e discussione sulle caratteristiche della frutta e della verdura. I bambini, divisi in gruppi, ne analizzeranno le caratteristich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Comic Sans MS"/>
              </a:rPr>
              <a:t>Il primo grupp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analizza le caratteristiche esteriori: la grandezza, il colore, la superficie, il profumo, il sapo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Comic Sans MS"/>
              </a:rPr>
              <a:t>Il secondo grupp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analizza le altre caratteristiche: dove cresce, come si può mangia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Comic Sans MS"/>
              </a:rPr>
              <a:t>Il terzo gruppo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interroga i compagni di classe sulla frutta e sulla verdura che piace loro mangia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6760" y="151920"/>
            <a:ext cx="7643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Organizzare l’apprendimento significativ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85480" y="1828440"/>
            <a:ext cx="82868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necessario respingere una metodologia didattica basata su sequenze rigide di micro-apprendiment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tener conto della peculiarità degli stili cognitivi e delle modalità di apprendimento degli alun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necessario ottenere livelli più alti d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mprensione e di motiv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56760" y="356760"/>
            <a:ext cx="85726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Il quarto grupp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analizza le qualità matematiche: il numero di frutta e verdura, confronta i frutti secondo la lunghezza, secondo la grossezza, li classifica secondo la somiglianza con i corpi geometrici, ne osserva la sezione trasversale per definirne la forma geometrica, classifica la frutta e la verdura secondo l'altezza e secondo la lunghezz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Il quinto gruppo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analizza i modi di preparare la frutta e la verdura: spelare, grattuggiare, friggere, cucinare, arrostire, lessare, ec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Il sesto grupp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legge e racconta la fiaba «La principessa sul pisello» e la storia di «Cipollino»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Comic Sans MS"/>
              </a:rPr>
              <a:t>Il settimo grupp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discute sulla verdura che si può mangiare cruda o cotta, raccoglie e trascrive ricette semplici da realizzare con la frutta e la verdura portate a scuola (es. insalata di verdure, macedonia di frutta, dolci alla frutta, ecc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Fase fin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4284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3ª fase: Sistemazione e rappresentazione dei risultati a partire dalla domanda: - Che cosa abbiamo imparato sulla frutta e verdura primaverili?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 vari gruppi rappresentano in modi diversi i risultati delle proprie ricerche, applicando il proprio sapere nei vari camp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omic Sans MS"/>
              </a:rPr>
              <a:t>L'educazione artis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57120" y="1828440"/>
            <a:ext cx="842976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artelloni con i disegni della frutta e della verdura classificata secondo l'aspetto esteriore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llustrazioni con tecniche artistiche varie degli ambienti in cui cresce la frutta e la verdu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stampa con le pa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composizione dei men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la preparazione di oggetti in carta (berretti da cuoco, centrini decorativi a forma di frutta e di verdura da mettere sotto i panini, ecc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omic Sans MS"/>
              </a:rPr>
              <a:t>Let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eggere e riassumere la fiaba «La principessa sul pisello» e la storia di «Cipollino»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ercare brani e poesie sulla primave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ercare brani e poesie sulla frutta e verdura primaveril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rammatizzazioni con la frutta sec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omic Sans MS"/>
              </a:rPr>
              <a:t>Scrittu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1828440"/>
            <a:ext cx="76960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parare dispense sul tema della frutta e verdur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iformulare le storie lette cambiando il tipo di verd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reare fumetti sulla base delle storie let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iassumere le storie let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appresentazione dello zero con le storielle sulla frutta mangi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omic Sans MS"/>
              </a:rPr>
              <a:t>Matemat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85480" y="1285920"/>
            <a:ext cx="8429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parare cartelloni con la classificazione della frutta e della verdura secondo la grandezza, la lunghezza, la for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schema grafico delle preferenze (quanti alunni amano mangiare la carota, la bietola, i piselli, ecc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l confronto dei numeri da 1 a 100 usando i piselli o altra verdura picco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ostruzione della tabella dell'addizione con l'aiuto dei pisel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ddizione da 1 a 100 con l'aiuto della frutta e della verd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omic Sans MS"/>
              </a:rPr>
              <a:t>L'educazione music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ercare canzoni sulla frutta e sulla verdu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antare canzoni sulla frutta e sulla verdu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struzione di strumenti musicali usando verdura o frutta sec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1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Comunicazione dei risulta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499760"/>
            <a:ext cx="79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ocializzazione della ricerca: invito ai genito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rammatizzazione delle storie lette, nella mostra dei lavori: il cartellone, il giornale murale, la dispensa, e festicciola con le pietanze preparate usando la frutta e la verdura (dolci con la frutta, macedonia di frutta, insalate di verdura, verdure cotte o fritte, ec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l progetto di ricerca individu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differenza di questo tipo di progetto consiste nella possibilità di tener conto maggiormente degli interessi e delle capacità specifiche dell'alunno (alunni particolarmente dotati e alunni che hanno difficoltà nell'apprendimento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Differenz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28400" y="1213920"/>
            <a:ext cx="83581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Tutte le fasi della ricerca individuale e collettiva coincidono, tranne quella dell'elaborazione dei risultati della ricerca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er questa fase finale l'insegnante deve trovare le forme adeguate di espressione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na relazione individuale sui risultati della ricerca di fronte alla class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una specie di esame in privato tra insegnante e alunno da soli o in presenza dei genitori dell'alun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86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 perché dell’insegnamento integra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pprendimento unitario e significativ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organicità e di ricomposizione dei sape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igliore organizzazione delle conoscenz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mprensione delle relazioni fra le conoscenz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pprendimenti trasferibili 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iversi contesti e situazio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omic Sans MS"/>
              </a:rPr>
              <a:t>La casa nel temp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56760" y="1285920"/>
            <a:ext cx="82868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oblema n°1: Quali tipi di case conosc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'alunno può risolvere la questione in diversi modi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itagliando, raccogliendo, classificando, incollando e disegnando i diversi tipi di cas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eparando un albo illustrato con le immagini e le didascalie sotto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lassificazione di case diverse per l'uso dei materiali di costruzione, per il numero di persone che ci vive, per la posizione dove sorgono, ec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500040" y="213840"/>
            <a:ext cx="814392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oblema n°2: Tipi di c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omic Sans MS"/>
              </a:rPr>
              <a:t>le case strane: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ull'acqua (barche, palafitte, faro), sottoterra (caverne, catacombe), nello spazio (stazione spaziale, navicelle spaziali), le case del futuro (creazioni degli alunn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omic Sans MS"/>
              </a:rPr>
              <a:t>le case degli animali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: animali domestici, animali del bosco, la casa mobile, la casa fissa, la casa piccola, la casa grande, la funzione della casa per l'uomo e per gli animali, le forme delle c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4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La casa nei tes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642680"/>
            <a:ext cx="7696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omic Sans MS"/>
              </a:rPr>
              <a:t>lettura di testi: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narrativi, poetici, espositivi sulle c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Comic Sans MS"/>
              </a:rPr>
              <a:t>le case nei libri e nei racconti: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la casa degli hobbit, la casa di Robinson Crusoe, la casetta dei sette nani, i castelli incantati delle fiabe, ecc. Ricerca di altri testi nella biblioteca con case fantastiche e invenzione di possibili case fantasti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28760" y="213840"/>
            <a:ext cx="828648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0000"/>
                </a:solidFill>
                <a:uFillTx/>
                <a:latin typeface="Comic Sans MS"/>
              </a:rPr>
              <a:t>una casa in particolare: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es. il formicaio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: osservazione del formicaio nella natura usando la lente d'ingrandimento, illustrazione e descrizione del formicaio, confronto con il grattacielo, ec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icerca di informazioni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ul formicaio nei libri monografici, nelle enciclopedie, rappresentazione schematica del formicaio, descrizione con l'aiuto di schizzi e disegn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escrizione dell'organizzazione della vita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 nel formicaio con l'uso di illustrazioni var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reazione di un racconto o di una poesia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sulla vita nel formicaio con analogie umoristiche in riferimento alla vita dell'uomo (il bagno delle formiche, l'asilo nido, il soggiorno delle formiche, ecc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Comic Sans MS"/>
              </a:rPr>
              <a:t>La ricerca per concett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1213920"/>
            <a:ext cx="76960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è adatta soprattutto agli alunni particolarmente dota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ricerca per concetti offre temi come l'energia, il conflitto, la bellezza, la crescita, il potere, il movimento, il ritmo, la velocità, la forza, l'amicizia, l'onestà, ec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articolare cura va dedicata alla scelta del tema (concett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La cresci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440" y="1428840"/>
            <a:ext cx="7815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 esempio, dopo aver scelto il concetto di crescita, tutti gli alunni preparano assieme all'insegnante l'elenco delle definizioni e delle conoscenze sul concetto di crescita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a crescita è un cambi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a crescita può essere visibile o invisib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a crescita può essere un fenomeno negativo o un fenomeno posi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a crescita si può misurare, ec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L'elaborazione dei dati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1213920"/>
            <a:ext cx="76960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orma grafica: schemi grafici, tabelle, cartelloni, manifesti,  caricature, fumetti, serie di fotograf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orma scritta: pubblicazione , racconto critica, saggio,  scenario, bibliografia, rebus, indovinello, relazione, giornal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avori pratici: mappe  di dati, collezioni di oggetti, modellini, programma per computer, esper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000" spc="-1" strike="noStrike">
                <a:solidFill>
                  <a:srgbClr val="000000"/>
                </a:solidFill>
                <a:latin typeface="Comic Sans MS"/>
              </a:rPr>
              <a:t>Unità didattica integrat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357200"/>
            <a:ext cx="7696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nserva alcune caratteristiche del modo classico di lavorare abbinate ad altre caratteristiche tipiche della ricerca vera e propri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me la ricerca, l'unità didattica integrata permette ai bambini di conoscere un argomento da diversi punti di vista, cioè dal punto di vista di varie materie e richiede l'applicazione di abilità var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Differenz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499760"/>
            <a:ext cx="8215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li alunni hanno assai meno libertà di scelta dell'argomento e del modo di lavorare che nel progetto di ricer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a scelta dell'argomento e la direzione dei lavori spetta all'insegn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oca attenzione viene rivolta alle idee nuove degli alunni sull'argomento della ricerca, alle eventuali soluzioni diverse del problema individuate dagli alun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386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Descrizione dell’insegnamento integra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8760" y="1828800"/>
            <a:ext cx="8215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hiama in causa molte discipline scolastiche che confluiscono a chiarire e sviluppare un argomento da diversi punti di vis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evita apprendimenti settoriali separati tra loro, favorendo il transf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ermette la conquista attiva del sap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sa le discipline come strumenti d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dagine e lettura dell’amb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Forme di insegnamento integra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82844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giornale murale su un tema scel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progetto di ricerca integra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progetto di ricerca per concett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progetto di ricerca individua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'unità didattica integrat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Caratteristiche comun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828800"/>
            <a:ext cx="769608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un'attività prolungata e approfondita sullo stesso problema o sullo stesso argoment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l’argomento viene studiato dal punto di vista di discipline divers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i utilizzano modelli di lettura della realtà che contribuiscono a chiarire 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precisare l'argomento di stu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Vantaggi per gli alunn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85840" y="1828800"/>
            <a:ext cx="85010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ende sensati e coerenti i contenuti classici d'insegna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offre la possibilità di prendere l'iniziativa, di assumersi la responsabilità e l'autonomia dell'apprendimen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privilegia l'indagine del reale, il principio della riscoper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è occasione di maturazione, di crescita, di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cquisto di comportamenti controllati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onsapevo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Vantaggi per l’insegnan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85480" y="1428480"/>
            <a:ext cx="8429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rompe con la logica delle materie o dei campi didattici nell'ambito di una singola materi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a approdare a visioni d'insie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salta anche l'apertura al dialogo e alla collabora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nvita a riconoscere i limiti della propria competenza e/o materia, ad abbandona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la segreta convinzione che la „propria“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isciplina da sola sia la più importante di tut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35:01Z</dcterms:created>
  <dc:creator>Korisnik</dc:creator>
  <dc:description/>
  <dc:language>en-US</dc:language>
  <cp:lastModifiedBy>Miro</cp:lastModifiedBy>
  <dcterms:modified xsi:type="dcterms:W3CDTF">2014-03-19T17:18:40Z</dcterms:modified>
  <cp:revision>92</cp:revision>
  <dc:subject/>
  <dc:title>IL RAPPORTO FRA LA DIDATTICA DELLA NATURA E SOCIETÀ E LE ALTRE SCIENZE</dc:title>
</cp:coreProperties>
</file>