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795A-D7AF-4208-BFF6-F8F1A412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7640" y="3703680"/>
            <a:ext cx="77407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4C4-8912-4A58-8802-95BDB415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412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6AE-5986-4362-9F3E-BC20C0D3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4840" y="148392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82040" y="148392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7640" y="370368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4840" y="370368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82040" y="370368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8D5-40B1-4D50-AA5A-8155BD0B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9A50-A504-44DD-BC13-89F123E6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0D31-9060-4782-9A14-1F02E6C3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C56C-4000-49DC-8370-DC5AE515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2BE9-512F-4515-873C-A7CB9558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5D66-5ADD-4068-B980-B2DCAB4B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2080" y="335160"/>
            <a:ext cx="7959960" cy="29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7A5A-5E08-4229-8972-344834A2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764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CCC7-22C0-42C6-B303-CADE7301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CA7-0DDA-48D9-BD01-2A8FA7EA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1412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8C7B-9157-4960-A882-155A7F9B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7640" y="3703680"/>
            <a:ext cx="77407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B934-55E7-4EC9-B296-7D261A99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47640" y="3703680"/>
            <a:ext cx="77407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CEB5-9C12-4534-ABA8-CFC324BC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64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1412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99B6-DD8B-4E40-8B09-F700E3FF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4840" y="148392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2040" y="148392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47640" y="370368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4840" y="370368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2040" y="3703680"/>
            <a:ext cx="249228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51B1-2AB2-4694-B478-6FCC0FC1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C8E-AAD0-471E-9DA2-8290D7F4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9483-0A1B-479F-AFE2-E5CA9532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151-2CF8-4FD1-81DC-11FB8413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2080" y="335160"/>
            <a:ext cx="7959960" cy="29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A09-D3AC-4754-9782-28133126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4764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161-E3AD-4E30-B7E1-7F0FA0C8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4120" y="370368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D12-A6EC-43FA-A551-0FDC6CFE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2080" y="304560"/>
            <a:ext cx="7959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764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4120" y="1483920"/>
            <a:ext cx="37771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7640" y="3703680"/>
            <a:ext cx="7740720" cy="20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A5B-7811-4BE4-8826-A3C9E3C7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3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142920" y="1160640"/>
            <a:ext cx="8569440" cy="5292720"/>
          </a:xfrm>
          <a:prstGeom prst="pie">
            <a:avLst/>
          </a:prstGeom>
          <a:solidFill>
            <a:srgbClr val="94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6b2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77920" y="630864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44440" y="6308640"/>
            <a:ext cx="289548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37344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BDE-B1D2-4372-A761-9F73FA5F2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 rot="2880000">
            <a:off x="8026200" y="5262840"/>
            <a:ext cx="1013040" cy="1152360"/>
          </a:xfrm>
          <a:prstGeom prst="pie">
            <a:avLst/>
          </a:prstGeom>
          <a:solidFill>
            <a:srgbClr val="f2f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3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2"/>
          <p:cNvSpPr/>
          <p:nvPr/>
        </p:nvSpPr>
        <p:spPr>
          <a:xfrm>
            <a:off x="142920" y="925560"/>
            <a:ext cx="7200720" cy="4448160"/>
          </a:xfrm>
          <a:prstGeom prst="pie">
            <a:avLst/>
          </a:prstGeom>
          <a:solidFill>
            <a:srgbClr val="94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4" name="Freeform 8"/>
          <p:cNvSpPr/>
          <p:nvPr/>
        </p:nvSpPr>
        <p:spPr>
          <a:xfrm>
            <a:off x="7338960" y="3629160"/>
            <a:ext cx="9720" cy="1440"/>
          </a:xfrm>
          <a:prstGeom prst="pie">
            <a:avLst/>
          </a:prstGeom>
          <a:solidFill>
            <a:srgbClr val="4409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5" name="Freeform 9"/>
          <p:cNvSpPr/>
          <p:nvPr/>
        </p:nvSpPr>
        <p:spPr>
          <a:xfrm rot="2880000">
            <a:off x="6018840" y="3364920"/>
            <a:ext cx="2720880" cy="3097080"/>
          </a:xfrm>
          <a:prstGeom prst="pie">
            <a:avLst/>
          </a:prstGeom>
          <a:solidFill>
            <a:srgbClr val="f2f8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96b2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96b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6b2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6b2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6b2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0DED-DC34-4C67-9A56-A151562006A0}" type="slidenum">
              <a:rPr b="0" lang="en-US" sz="1400" spc="-1" strike="noStrike">
                <a:solidFill>
                  <a:srgbClr val="496b2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518840"/>
            <a:ext cx="69832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Le gite e le escursioni nell’insegnamento della natura e società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000" y="3224160"/>
            <a:ext cx="4498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96b2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96b2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96b2e"/>
                </a:solidFill>
                <a:latin typeface="Arial"/>
              </a:rPr>
              <a:t>Mr.sc. Nevia Močinić</a:t>
            </a:r>
            <a:endParaRPr b="0" lang="en-US" sz="2000" spc="-1" strike="noStrike">
              <a:solidFill>
                <a:srgbClr val="496b2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96b2e"/>
                </a:solidFill>
                <a:latin typeface="Arial"/>
              </a:rPr>
              <a:t>Didattica della natura e società 3</a:t>
            </a:r>
            <a:endParaRPr b="0" lang="en-US" sz="2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844B-B5E1-4E8B-B83E-494E03B87486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96b2e"/>
                </a:solidFill>
                <a:latin typeface="Arial"/>
              </a:rPr>
              <a:t>Momento socializzante 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perché gli alunni e gli insegnati imparano a conoscersi meglio in un contesto differente da quello scolastico mediante specifiche attività di animazione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,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es. attività di cooperazione, giochi di ruolo, giochi educativi, a piccoli o grandi gruppi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6F43-4B7F-40BB-9625-D03DD30F74A4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Occasione di svago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47640" y="1484280"/>
            <a:ext cx="7740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m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omento di recupero delle energie psico-fisich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occasione per trascorrere 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momenti indimenticabili con i propri amici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giochi di equilibrio 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e arrampicate 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sugli alberi, giochi sensoriali, esperienze ritmiche e musicali, 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camminate nella natura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, giochi d’orientamento, ecc.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B49F-7FA8-463F-8FD6-CF2511DAA38F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Tipi di escursioni e gite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71320" y="1357200"/>
            <a:ext cx="774036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Secondo il criterio del tempo possono essere: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di un’ora scolastica – nelle immediate vicinanze della scuola: es. visita al mercato, osservazione delle botteghe artigianali, osservazione del traffico, ecc.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di più ore scolastiche – simili alle precedenti:es. visite ai monumenti della città, alle istituzioni culturali, ecc.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28D-1A3A-4D18-809F-C415BE96EF53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Gite secondo il tempo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7640" y="1285560"/>
            <a:ext cx="7740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6b2e"/>
                </a:solidFill>
                <a:latin typeface="Arial"/>
              </a:rPr>
              <a:t>di mezza giornata – uscite nelle località vicine alla città o al villaggio: escursioni nel bosco, nel vigneto, alla sorgente del ruscello, alla fattoria, ecc.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6b2e"/>
                </a:solidFill>
                <a:latin typeface="Arial"/>
              </a:rPr>
              <a:t>nell’arco di una giornata – organizzate per visitare una o più città, gita sulla neve, visita ad una fabbrica, all’idrocentrale, gite per conoscere la propria regione, ecc.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6b2e"/>
                </a:solidFill>
                <a:latin typeface="Arial"/>
              </a:rPr>
              <a:t>nell’arco di più giorni – rare nelle classi inferiori della scuola elementare: es. Settimane bianche, gite istruttive a fine anno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2700-39A7-41E3-92D2-6203EA652D00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Gite secondo le finalità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483920"/>
            <a:ext cx="78883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96b2e"/>
                </a:solidFill>
                <a:latin typeface="Arial"/>
              </a:rPr>
              <a:t>Gite culturali o d’istruzione:</a:t>
            </a:r>
            <a:r>
              <a:rPr b="1" lang="it-IT" sz="3200" spc="-1" strike="noStrike">
                <a:solidFill>
                  <a:srgbClr val="496b2e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esperienze di apprendimento e di crescita della personalità 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momento di arricchimento conoscitivo, culturale e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umano, 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considerato il 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contributo fondamentale che esso può dare allo sviluppo di un’adeguata cultura del viaggio, rispettosa delle identità locali e protesa alla tutela e alla valorizzazione del patrimonio culturale e ambiental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8ABA-165C-46D8-815B-22D8C31B1A94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Gite con scopi ricreativi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47640" y="1484280"/>
            <a:ext cx="774072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escursioni nella natura senza un programma di studio (es. una giornata in campagna, una giornata al mare, la raccolta delle castagne, gita sulla neve)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visite allo zoo, al parco giochi acquatico, al parco nazionale, ecc.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partecipazione a spettacoli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 teatr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ali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, 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a concerti, a spettacoli folcloristici, a 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laboratori manuali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, ecc.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8E86-908B-44B7-934A-B11E7CA27271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Gite miste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7640" y="1484280"/>
            <a:ext cx="774072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Con gli alunni della scuola primaria si realizzano quasi sempre gite miste, con scopi ricreativi e formativi.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Una parte del tempo si dedica alle attività didattiche, di osservazione e studio, un’altra allo svago e al divertimento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6C7C-46D4-41C9-9E4F-E69880A13866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143" name="Picture 4" descr="scuolabus1.gif"/>
          <p:cNvPicPr/>
          <p:nvPr/>
        </p:nvPicPr>
        <p:blipFill>
          <a:blip r:embed="rId1"/>
          <a:stretch/>
        </p:blipFill>
        <p:spPr>
          <a:xfrm>
            <a:off x="5500800" y="4714920"/>
            <a:ext cx="2111400" cy="138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Gite secondo il contenuto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47640" y="1484280"/>
            <a:ext cx="7740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Escursioni a carattere biologico – per conoscere animali o piante (es. orto botanico, vivaio, parco naturalistico)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Escursioni a carattere geografico – es. visita alla sorgente, allo stagno, al fiume, gita in motagna, al mare, ecc.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Escursioni a carattere storico – visite ai musei, a siti archeologici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BCB1-E6F2-44D4-A427-0B1758E9E091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Gite secondo il numero di alunni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Con tutti gli alunni della classe – accompagnati dal capoclasse o anche da alcuni genitori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Con gruppi di alunni: es. per ritirare un premio, per partecipare a una gara, ecc.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Con singoli alunni – in genere accompagnati dai genitori, ma anche dall’insegnant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F583-7B5B-4C7C-98B3-C8BBAF20979C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Considerazioni finali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47640" y="1484280"/>
            <a:ext cx="7740720" cy="48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Nella realtà educativa spesso si combinano vari tipi di git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Importante è non porsi troppi obiettivi da raggiungere che poi sarebbe impossibile realizzar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Organizzare gite 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o anche brev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 escursion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 giornalier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e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 che sia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no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 istruttiv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e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 e divertent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 nello stesso tem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po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8F83-10CB-48F2-874D-E1BBA634FC5B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C758-AA40-4993-91D1-E3B19F26BE98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96b2e"/>
                </a:solidFill>
                <a:latin typeface="Arial"/>
              </a:rPr>
              <a:t>Motivi che rendono importanti le gite</a:t>
            </a:r>
            <a:endParaRPr b="0" lang="en-US" sz="36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00040" y="1285560"/>
            <a:ext cx="7888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M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omento didattico riconosciuto e fondamentale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per i fenomeni naturali da osservare nella natura: es.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scoprire le abitudini degli animali o conoscere la flora local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c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onoscenza e lettura del territorio e delle sue componenti ambientali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: es. aspetti geografici 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osservazione di 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aspett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 cultural</a:t>
            </a: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i</a:t>
            </a:r>
            <a:r>
              <a:rPr b="0" lang="it-IT" sz="3200" spc="-1" strike="noStrike">
                <a:solidFill>
                  <a:srgbClr val="496b2e"/>
                </a:solidFill>
                <a:latin typeface="Arial"/>
              </a:rPr>
              <a:t>: gli uomini e il loro modo di viver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L’organizzazione della gita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Fattori di cui tener conto: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l’età e gli interessi degli alunni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gli argomenti del programma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le condizioni materiali della scuola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lo status economico dei genitori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la stagione dell’anno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le possibilità di trasporto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0423-E19C-4E83-AC87-472AE7A2F73C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La preparazione della gita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47640" y="1483920"/>
            <a:ext cx="774072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Una buona preparazione garantisce in gran misura un buon esito della gita. 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Le improvvisazioni durante la gita possono comprometterne l’esito o creare situazioni imbarazzanti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La preparazione comprende: la preparazione dell’insegnante, degli alunni, dei genitori, delle persone da incontrare durante la gita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700D-277C-4C2E-AD4C-A2AC5CECC9DE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La preparazione dell’insegnante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42960" y="1213920"/>
            <a:ext cx="77407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definire le finalità della gita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fissare il tempo quando verrà eseguita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fissare i luoghi da visitar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fissare il mezzo di trasporto da utilizzar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stabilire gli accordi con gli addetti alle relazioni pubbliche delle istituzioni o aziende da visitar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preparare gli esercizi per gli alunni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6C18-1755-46F7-A93F-5DB91CD89783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La preparazione degli alunni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47640" y="1214280"/>
            <a:ext cx="77407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La preparazione per la gita è indispensabile, ma si vuole scoprire quale sia la miglior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esperimento dei ricercatori Falk e Balling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ricerca sulla preparazione migliore per la visita a un giardino zoologico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finalità della visita: imparare quanto più possibile sulla vita, sull’alimentazione e sul comportamento dei gorilla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673B-61BE-4AFF-8D1A-426BE4898BA2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Tipi di preparazioni degli alunni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00040" y="1357200"/>
            <a:ext cx="8143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96b2e"/>
                </a:solidFill>
                <a:latin typeface="Arial"/>
              </a:rPr>
              <a:t>1° gruppo </a:t>
            </a:r>
            <a:r>
              <a:rPr b="0" lang="hr-HR" sz="2400" spc="-1" strike="noStrike">
                <a:solidFill>
                  <a:srgbClr val="496b2e"/>
                </a:solidFill>
                <a:latin typeface="Arial"/>
              </a:rPr>
              <a:t>– preparazione dettagliata sulla vita, sull’aspetto, sul comportamento, sull’alimentazione dei gorilla</a:t>
            </a:r>
            <a:endParaRPr b="0" lang="en-US" sz="24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96b2e"/>
                </a:solidFill>
                <a:latin typeface="Arial"/>
              </a:rPr>
              <a:t>2° gruppo </a:t>
            </a:r>
            <a:r>
              <a:rPr b="0" lang="hr-HR" sz="2400" spc="-1" strike="noStrike">
                <a:solidFill>
                  <a:srgbClr val="496b2e"/>
                </a:solidFill>
                <a:latin typeface="Arial"/>
              </a:rPr>
              <a:t>– esercizi sulle abilità dell’osservazione, della concentrazione, dell’attenzione, del prendere appunti</a:t>
            </a:r>
            <a:endParaRPr b="0" lang="en-US" sz="24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96b2e"/>
                </a:solidFill>
                <a:latin typeface="Arial"/>
              </a:rPr>
              <a:t>3° gruppo </a:t>
            </a:r>
            <a:r>
              <a:rPr b="0" lang="hr-HR" sz="2400" spc="-1" strike="noStrike">
                <a:solidFill>
                  <a:srgbClr val="496b2e"/>
                </a:solidFill>
                <a:latin typeface="Arial"/>
              </a:rPr>
              <a:t>– istruzioni dettagliate sull’organizzazione della gita (con chi sarebbero stati seduti, dove avrebbero fatto merenda, dove sarebbero andati ai servizi, dove potevano far acquisti, ecc.</a:t>
            </a:r>
            <a:endParaRPr b="0" lang="en-US" sz="24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96b2e"/>
                </a:solidFill>
                <a:latin typeface="Arial"/>
              </a:rPr>
              <a:t>4° gruppo </a:t>
            </a:r>
            <a:r>
              <a:rPr b="0" lang="hr-HR" sz="2400" spc="-1" strike="noStrike">
                <a:solidFill>
                  <a:srgbClr val="496b2e"/>
                </a:solidFill>
                <a:latin typeface="Arial"/>
              </a:rPr>
              <a:t>– è partito senza alcuna preparazione</a:t>
            </a:r>
            <a:endParaRPr b="0" lang="en-US" sz="24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96b2e"/>
                </a:solidFill>
                <a:latin typeface="Arial"/>
              </a:rPr>
              <a:t>5° gruppo </a:t>
            </a:r>
            <a:r>
              <a:rPr b="0" lang="hr-HR" sz="2400" spc="-1" strike="noStrike">
                <a:solidFill>
                  <a:srgbClr val="496b2e"/>
                </a:solidFill>
                <a:latin typeface="Arial"/>
              </a:rPr>
              <a:t>– non ha partecipato all’escursione, ma ha studiato</a:t>
            </a:r>
            <a:r>
              <a:rPr b="0" lang="hr-HR" sz="2800" spc="-1" strike="noStrike">
                <a:solidFill>
                  <a:srgbClr val="496b2e"/>
                </a:solidFill>
                <a:latin typeface="Arial"/>
              </a:rPr>
              <a:t> la vita dei gorilla sui libri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8F73-829C-444C-91CF-24AFC04EC006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Qual’è la preparazione migliore?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47640" y="1483920"/>
            <a:ext cx="7740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Dopo aver effettuato la gita gli alunni vengono sottoposti alla verifica del sapere sui gorilla, sulle capacità di osservazione e di cogliere gli elementi essenziali della situazione osservata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I risultati migliori sono stati ottenuti dal 3° gruppo, poi dal 1° e dal 2° e infine dal 4° e dal 5°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267F-68D0-427E-9AF7-0F312DD57B59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Riflessioni sul tipo di preparazione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47640" y="1484280"/>
            <a:ext cx="774072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6b2e"/>
                </a:solidFill>
                <a:latin typeface="Arial"/>
              </a:rPr>
              <a:t>I risultati sembrano sorprendenti per le informazioni apparentemente senza importanza date agli alunni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6b2e"/>
                </a:solidFill>
                <a:latin typeface="Arial"/>
              </a:rPr>
              <a:t>I bambini considerano alla stessa stregua se non più importanti gli oggetti da acquistare, i panini da mangiare, i succhi di frutta da bere e l’osservazione dei gorilla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6b2e"/>
                </a:solidFill>
                <a:latin typeface="Arial"/>
              </a:rPr>
              <a:t>Per avere un’utilità maggiore dalla gita, bisogna assicurare il tempo sia per lo studio che per la soddisfazione dei bisogni fisiologici e psichici dei bambini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8127-3166-4F39-86DD-CF84B102F335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La realizzazione della gita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85480" y="1071360"/>
            <a:ext cx="82868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96b2e"/>
                </a:solidFill>
                <a:latin typeface="Arial"/>
              </a:rPr>
              <a:t>Escursione a piedi – far attenzione alle regole di comportamento nel traffico, soprattutto nell’attraversare la strada</a:t>
            </a:r>
            <a:endParaRPr b="0" lang="en-US" sz="2400" spc="-1" strike="noStrike">
              <a:solidFill>
                <a:srgbClr val="496b2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96b2e"/>
                </a:solidFill>
                <a:latin typeface="Arial"/>
              </a:rPr>
              <a:t>Viaggi con l’autobus di linea – essere muniti di biglietto, salire con ordine e stare vicini all’insegnante per poter scegliere alla fermata scelta</a:t>
            </a:r>
            <a:endParaRPr b="0" lang="en-US" sz="2400" spc="-1" strike="noStrike">
              <a:solidFill>
                <a:srgbClr val="496b2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96b2e"/>
                </a:solidFill>
                <a:latin typeface="Arial"/>
              </a:rPr>
              <a:t>Autobus a disposizione della scolaresca – all’arrivo, breve riposo, rifocillarsi, andare al bagno e poi organizzare l’osservazione secondo un piano prestabilito (prendere appunti, scattare fotografie, fare schizzi, raccogliere piante, insetti, frutti, foglie, ecc. prevedere come conservare i campioni)</a:t>
            </a:r>
            <a:endParaRPr b="0" lang="en-US" sz="2400" spc="-1" strike="noStrike">
              <a:solidFill>
                <a:srgbClr val="496b2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96b2e"/>
                </a:solidFill>
                <a:latin typeface="Arial"/>
              </a:rPr>
              <a:t>Rispondere alle domande formulate in classe</a:t>
            </a:r>
            <a:endParaRPr b="0" lang="en-US" sz="2400" spc="-1" strike="noStrike">
              <a:solidFill>
                <a:srgbClr val="496b2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96b2e"/>
                </a:solidFill>
                <a:latin typeface="Arial"/>
              </a:rPr>
              <a:t>Prevedere pause per il riposo dopo fasi di lavoro circoscritte </a:t>
            </a:r>
            <a:endParaRPr b="0" lang="en-US" sz="24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60B9-6C42-40F2-BE95-0EFB367EAF1B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Visite a fabbriche o aziende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47640" y="1484280"/>
            <a:ext cx="774072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Prendere tutte le precauzioni possibili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Osservare le misure di sicurezza per evitare incidenti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Non allontanarsi dal gruppo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Non toccare le macchin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Pregare il tecnico incaricato di fornire le spiegazioni sul processo di produzione usando un linguaggio semplic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Attenersi al piano prestabilito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CE9D-FF22-4598-80FF-50EABA03DF9D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Le attività al rientro dalla gita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47640" y="1285920"/>
            <a:ext cx="7740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6b2e"/>
                </a:solidFill>
                <a:latin typeface="Arial"/>
              </a:rPr>
              <a:t>Invitare gli alunni ad esprimere le impressioni sulla gita in modo spontaneo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6b2e"/>
                </a:solidFill>
                <a:latin typeface="Arial"/>
              </a:rPr>
              <a:t>Passare ad un lavoro organizzato: esporre secondo i compiti di ciascuno, seguendo gli appunti e gli schizzi e riferendo le cose più importanti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6b2e"/>
                </a:solidFill>
                <a:latin typeface="Arial"/>
              </a:rPr>
              <a:t>Riassumere i contenuti esposti secondo dei criteri per sistemarli e annotarli in uno schema da scrivere alla lavagna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6b2e"/>
                </a:solidFill>
                <a:latin typeface="Arial"/>
              </a:rPr>
              <a:t>Verifica del sapere acquisito</a:t>
            </a:r>
            <a:endParaRPr b="0" lang="en-US" sz="28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E2BF-9665-43E6-A121-20C2B247ACA6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Il mimetismo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94" name="Content Placeholder 4" descr="mimetismo_ragno.jpg"/>
          <p:cNvPicPr/>
          <p:nvPr/>
        </p:nvPicPr>
        <p:blipFill>
          <a:blip r:embed="rId1"/>
          <a:srcRect l="0" t="7283" r="0" b="14438"/>
          <a:stretch/>
        </p:blipFill>
        <p:spPr>
          <a:xfrm>
            <a:off x="4286160" y="142920"/>
            <a:ext cx="4707000" cy="307188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7D59-D0C2-4A87-8CAE-367CA3D43E46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96" name="Picture 5" descr="Mimetismo_rana.jpg"/>
          <p:cNvPicPr/>
          <p:nvPr/>
        </p:nvPicPr>
        <p:blipFill>
          <a:blip r:embed="rId2"/>
          <a:srcRect l="0" t="15758" r="0" b="23471"/>
          <a:stretch/>
        </p:blipFill>
        <p:spPr>
          <a:xfrm>
            <a:off x="214200" y="2286000"/>
            <a:ext cx="4488120" cy="3857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mimetismo-rana2.jpg"/>
          <p:cNvPicPr/>
          <p:nvPr/>
        </p:nvPicPr>
        <p:blipFill>
          <a:blip r:embed="rId3"/>
          <a:srcRect l="27000" t="0" r="0" b="0"/>
          <a:stretch/>
        </p:blipFill>
        <p:spPr>
          <a:xfrm>
            <a:off x="5000760" y="3071880"/>
            <a:ext cx="3863880" cy="3527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Esercitazioni 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213920"/>
            <a:ext cx="8286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Organizzare un’escursione per visitare i monumenti storico-culturali di Pola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Organizzare un’escursione per visitare un oleificio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Organizzare un’escursione per visitare l’acquario di Verudella / Rovigno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Organizzare la gita di fine anno per conoscere la propria regione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Organizzare una passeggiata sul Castello per l’orientamento con la bussola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1FA3-E91C-432C-83CD-DAAFF8224B02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La sorgente del fiume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99" name="Content Placeholder 4" descr="sorgente-korana.jpg"/>
          <p:cNvPicPr/>
          <p:nvPr/>
        </p:nvPicPr>
        <p:blipFill>
          <a:blip r:embed="rId1"/>
          <a:stretch/>
        </p:blipFill>
        <p:spPr>
          <a:xfrm>
            <a:off x="1428840" y="1571760"/>
            <a:ext cx="3936960" cy="244764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3603-877A-417C-92D4-DF7E0AA837C9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101" name="Picture 5" descr="sorgente-sava.jpg"/>
          <p:cNvPicPr/>
          <p:nvPr/>
        </p:nvPicPr>
        <p:blipFill>
          <a:blip r:embed="rId2"/>
          <a:srcRect l="6216" t="4137" r="3697" b="4920"/>
          <a:stretch/>
        </p:blipFill>
        <p:spPr>
          <a:xfrm>
            <a:off x="5643720" y="1785960"/>
            <a:ext cx="2111040" cy="320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sorgente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2643120" y="407196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L’atmosfera del mercato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104" name="Content Placeholder 4" descr="Mercato.JPG"/>
          <p:cNvPicPr/>
          <p:nvPr/>
        </p:nvPicPr>
        <p:blipFill>
          <a:blip r:embed="rId1"/>
          <a:stretch/>
        </p:blipFill>
        <p:spPr>
          <a:xfrm>
            <a:off x="1714680" y="1428840"/>
            <a:ext cx="5665680" cy="424980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C612-4599-4336-8DF9-3FBF353013F4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Piante industriali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107" name="Content Placeholder 4" descr="barb-da-zucchero.jpeg"/>
          <p:cNvPicPr/>
          <p:nvPr/>
        </p:nvPicPr>
        <p:blipFill>
          <a:blip r:embed="rId1"/>
          <a:stretch/>
        </p:blipFill>
        <p:spPr>
          <a:xfrm>
            <a:off x="1071720" y="1214280"/>
            <a:ext cx="3824280" cy="306072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157A-F7EB-4FB3-B6DB-FFACDA8DE7E0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109" name="Picture 5" descr="lino.jpg"/>
          <p:cNvPicPr/>
          <p:nvPr/>
        </p:nvPicPr>
        <p:blipFill>
          <a:blip r:embed="rId2"/>
          <a:stretch/>
        </p:blipFill>
        <p:spPr>
          <a:xfrm>
            <a:off x="5572080" y="214200"/>
            <a:ext cx="2538360" cy="338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otone2.jpg"/>
          <p:cNvPicPr/>
          <p:nvPr/>
        </p:nvPicPr>
        <p:blipFill>
          <a:blip r:embed="rId3"/>
          <a:stretch/>
        </p:blipFill>
        <p:spPr>
          <a:xfrm>
            <a:off x="5143680" y="3643200"/>
            <a:ext cx="3008160" cy="277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luppolo.jpg"/>
          <p:cNvPicPr/>
          <p:nvPr/>
        </p:nvPicPr>
        <p:blipFill>
          <a:blip r:embed="rId4"/>
          <a:stretch/>
        </p:blipFill>
        <p:spPr>
          <a:xfrm>
            <a:off x="1928880" y="4429080"/>
            <a:ext cx="2589120" cy="194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Comportamento nel traffico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113" name="Content Placeholder 4" descr="incrocio.jpg"/>
          <p:cNvPicPr/>
          <p:nvPr/>
        </p:nvPicPr>
        <p:blipFill>
          <a:blip r:embed="rId1"/>
          <a:srcRect l="2670" t="5357" r="2576" b="5440"/>
          <a:stretch/>
        </p:blipFill>
        <p:spPr>
          <a:xfrm>
            <a:off x="1143000" y="1285920"/>
            <a:ext cx="6467400" cy="446400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A65D-3FBF-464E-A2A0-A392ACB1F621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Folclore 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116" name="Content Placeholder 4" descr="costume maschile1.bmp"/>
          <p:cNvPicPr/>
          <p:nvPr/>
        </p:nvPicPr>
        <p:blipFill>
          <a:blip r:embed="rId1"/>
          <a:stretch/>
        </p:blipFill>
        <p:spPr>
          <a:xfrm>
            <a:off x="1214280" y="1357200"/>
            <a:ext cx="2837160" cy="428472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8B60-023E-44E8-BBEB-48E9D48F7334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  <p:pic>
        <p:nvPicPr>
          <p:cNvPr id="118" name="Picture 5" descr="costume dignanese feriale 2.jpg"/>
          <p:cNvPicPr/>
          <p:nvPr/>
        </p:nvPicPr>
        <p:blipFill>
          <a:blip r:embed="rId2"/>
          <a:stretch/>
        </p:blipFill>
        <p:spPr>
          <a:xfrm>
            <a:off x="4143240" y="1285920"/>
            <a:ext cx="3716640" cy="4680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2080" y="335160"/>
            <a:ext cx="7959960" cy="641880"/>
          </a:xfrm>
          <a:prstGeom prst="rect">
            <a:avLst/>
          </a:prstGeom>
          <a:solidFill>
            <a:srgbClr val="94cc66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96b2e"/>
                </a:solidFill>
                <a:latin typeface="Arial"/>
              </a:rPr>
              <a:t>Coinvolgimento emotivo</a:t>
            </a:r>
            <a:endParaRPr b="0" lang="en-US" sz="40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7640" y="1285920"/>
            <a:ext cx="7740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Le uscite suscitano interesse e quindi gli alunni sono più motivati all’apprendimento.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Le uscite suscitano emozioni e i concetti imparati si ricordano molto più a lungo.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96b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96b2e"/>
                </a:solidFill>
                <a:latin typeface="Arial"/>
              </a:rPr>
              <a:t>Necessario affidare compiti concreti a ciascun alunno: es. guida, verbalista, fotografo, addetto agli attrezzi, addetto alla merenda, capogruppo, ecc.</a:t>
            </a:r>
            <a:endParaRPr b="0" lang="en-US" sz="3200" spc="-1" strike="noStrike">
              <a:solidFill>
                <a:srgbClr val="496b2e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373800" y="630864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5EEA-98B3-4FEB-879E-2EF57CF870AE}" type="slidenum">
              <a:rPr b="0" lang="en-US" sz="1400" spc="-1" strike="noStrike">
                <a:solidFill>
                  <a:srgbClr val="496b2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496b2e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4:18:35Z</dcterms:created>
  <dc:creator>sandra v.</dc:creator>
  <dc:description/>
  <dc:language>en-US</dc:language>
  <cp:lastModifiedBy>Miro</cp:lastModifiedBy>
  <dcterms:modified xsi:type="dcterms:W3CDTF">2011-10-15T18:33:05Z</dcterms:modified>
  <cp:revision>81</cp:revision>
  <dc:subject/>
  <dc:title>Biljke, životinje i ljudi u proljeće</dc:title>
</cp:coreProperties>
</file>