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AB58-47FD-48C0-9BAA-47A90AC5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A0F-176E-431D-84AD-F404CC49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63B7-C0B7-41C0-AD7C-3FBC20CF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F3A3-FE6D-4C88-8B6B-D9D6ECCF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59F-A1E5-4EB1-A2FB-7FFD06AB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2174-3E46-4DC1-A76C-ED836CFE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72DD-4A8D-4F0B-9770-FC0C4314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526F-E0A1-4E83-BD19-5AC9F29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CFE8-DC49-42AC-AC6C-87CF364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4F50-B250-4E6B-B31E-D7876DD3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88E-4352-4852-A499-49EBCA43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84A-58AE-47F1-96A5-1ABB882E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A0DC-307E-418D-B2A7-17486E40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D11B-516B-4B6B-852A-CE6EA85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4223-00A4-4E18-9893-8FC4223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7BFD-07F1-40EF-827D-DC068F7F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030-1C0A-437D-9F0E-702B6FE5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F96-A6DE-47F8-89C0-C48D69F0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289-4234-4BA8-8323-2B5D8F60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9B2-476F-427F-9E3E-798789D5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2BE-074E-47CE-A786-7780FB51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C29-8A0F-4F65-AED2-F32BF7B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FB0-0C56-474D-B267-C5CE991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926-7DA3-4D36-85CD-FBDC9DA5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42E-BFE9-4892-81AE-D69A2E5FBD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2340-2EB6-4FD8-AE62-5D6623537F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5" descr=""/>
          <p:cNvPicPr/>
          <p:nvPr/>
        </p:nvPicPr>
        <p:blipFill>
          <a:blip r:embed="rId1"/>
          <a:stretch/>
        </p:blipFill>
        <p:spPr>
          <a:xfrm>
            <a:off x="633240" y="1000080"/>
            <a:ext cx="8407440" cy="25606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854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r.sc. Nevia Močini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Che cosa seguire? - 3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omunicazione verba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sentarsi (se si tratta del primo incontr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nstaurare il rapporto con gli alun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fluidità della comunicazi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a conversazione con gli alun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 segnali di simpatia e approvazi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trasmettere energia positiva (npr. evitare le parole che provocano ansia, paura, rabbia, minaccia, ec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ettere in evidenza aspetti positivi e piccoli success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ercare interessi in comu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fare e suscitare domande ape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Che cosa seguire? - 4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426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a comunicazione non verba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) comunicazione paralinguistica: il colore della voce, la velocità  e l’intensità della pronuncia delle parole, l’altezza della voce, le pause tra le par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) i gesti, le espressioni, il contatto  con lo sguardo, l’uso dello spazio, il conteg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imostrano interesse i seguenti segnali non verbali: il contatto con lo sguardo, il sorriso, le braccia allargate, il contegno aperto, la vicinanza fisi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imostrano chiusura, disinteresse, tensione: braccia incrociate,  sguardo scu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Regole per formulare </a:t>
            </a:r>
            <a:br>
              <a:rPr sz="4000"/>
            </a:b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le osservazioni critich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a critica deve essere costruttiva e basarsi su esempi concreti di comportamento, pittosto che su giudizi personali riguardo alla person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s. Agitavi la penna mentre parlavi e ciò distrae gli alunni. / Sembravi nervoso e imprepara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’osservazione critica deve essere concreta e non gener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s. Jenny, penso che hai fatto un buon lavo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Jenny, penso che mai motivato gli alunni e hai spiegato il concetto seguendo passaggi logici chiar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Calibri"/>
              </a:rPr>
              <a:t>Regole per formulare </a:t>
            </a:r>
            <a:br>
              <a:rPr sz="3600"/>
            </a:br>
            <a:r>
              <a:rPr b="0" lang="hr-HR" sz="3600" spc="-1" strike="noStrike">
                <a:solidFill>
                  <a:srgbClr val="04617b"/>
                </a:solidFill>
                <a:latin typeface="Calibri"/>
              </a:rPr>
              <a:t>le osservazioni critiche - continuazio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Descrivere il comportamento, non esprimete valutazion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s. Mi sentivo a disagio perché mi hai posto la domanda anche se non ho alzato la 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’ sbagliato interrogare gli alunni se non alzano la man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Fare osservazioni su ciò che lo studente può miglior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s. Barbara, devi respirare profondamente per migliorare il tuo tono di voc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vitare conclusioni personali sui motivi, le intenzioni o i  sentimenti dell’esecuto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s. Cambiando il tono e l’altezza della voce  potresti ottenere uno stile più dinamico di insegnamento.                                                                   Non sembravi entusiasta della lezion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04617b"/>
                </a:solidFill>
                <a:latin typeface="Calibri"/>
              </a:rPr>
              <a:t>Contenuti – classe prima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’uso delle paroline gentil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’orientamento nello spazio (rapporti spaziali – sopra/sotto, davanti/dietro, destra/sinistr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 membri della famigl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l luogo in cui viv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’alunno nel traffic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a natura si risveglia – la primave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e parti del gio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 giorni della settima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’igiene person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’alimentazione corret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La salvaguardia dell’ambien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Microinsegnamento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umento per la formazione professionale degli insegnanti in condizioni semplificate: durata limitata dell’intervento, numero limitato di alunni, esercitazione di un’abilità specific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antaggi dell’applicazion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Focalizzarsi su una specifica abilità o tecnica didattica e analizzarla con l’aiuto  di una persona esperta e il gruppo dei par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nalizzare criticamente il proprio comportamento insegna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viluppare l’abilità di riflessione e autocri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Vantaggi dell’applicazione del </a:t>
            </a:r>
            <a:br>
              <a:rPr sz="4000"/>
            </a:b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microinsegnamento - continuazion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sibilità di realizzare l’esercitazione in condizioni  semplificate:  gruppo piccolo, ambiente noto, contenuto semplice, una sola abilità didat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Esercitazione di breve durata(10 minuti e non un’intera ora scolastic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sibilità di usare le informazioni di ritorno per migliorare le proprie competenze professiona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ssibilità di esercitare le abilità didattiche prima di realizzare  la  lezione in clas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Come procede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1. formare un gruppo di 5-6 studenti  nel quale uno studente eseguirà l’esercitazione, mentre gli altri interpreteranno il ruolo degli alunn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2. scegliere l’abilità didattica  e il contenuto da prepara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3. preparare l’esercitazi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4. eseguire l’esercitazione della durata di 10 minuti mentre gli altri si immedesimano nel ruolo di alunn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5. contemporaneamente registrare la prestazione con la videocamer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6. rivedere le registrazioni: lo studente – esecutore dell’esercitazione e ogni membro del gruppo seguono con attenzione e scrivono due commenti positivi e due suggerimenti per migliorare la prestazi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7. discussione su ogni singola esercitazione sotto la guida del professore di didatt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Constantia"/>
              </a:rPr>
              <a:t>8. trarre le conclusioni; eventualmente ripetere l’esercitazio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Regole da seguire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ispettare la confidenzialità dei dati che si viene a conoscere su ogni membro del grupp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ispettare i termini di tempo stabili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Esprimere le osservazioni critiche sul comportamento dell’esecutore  e non sulla sua perso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repararsi con cura per l’esecuzione dell’esercitazio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Partecipare attivamente sia nel ruolo di maestro che in quello di alun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Rispettare il diritto degli altri di sperimentare e rischi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Collaborare attivamente con i membri del gruppo per preparare l’esercitazio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Iniziare l’osservazione critica con le espressioni :”Secondo  me... Io penso che...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900" spc="-1" strike="noStrike">
                <a:solidFill>
                  <a:srgbClr val="04617b"/>
                </a:solidFill>
                <a:latin typeface="Calibri"/>
              </a:rPr>
              <a:t>Quali </a:t>
            </a:r>
            <a:r>
              <a:rPr b="0" lang="hr-HR" sz="4300" spc="-1" strike="noStrike">
                <a:solidFill>
                  <a:srgbClr val="04617b"/>
                </a:solidFill>
                <a:latin typeface="Calibri"/>
              </a:rPr>
              <a:t>abilità esercitare</a:t>
            </a:r>
            <a:r>
              <a:rPr b="0" lang="hr-HR" sz="4900" spc="-1" strike="noStrike">
                <a:solidFill>
                  <a:srgbClr val="04617b"/>
                </a:solidFill>
                <a:latin typeface="Calibri"/>
              </a:rPr>
              <a:t>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426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ategie d’insegnamen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piegare un concetto usando le seguenti strategie: conversazione euristica, insegnamento per problemi, istruzione programma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ategie di apprendimento per scoperta: ricerca (esperimento), simulazione (gioco dei ruoli, giochi con le regole), proget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ategie dell’esperienza vissuta e dell’espressione del vissuto(raccontare una storia, animazione dei burattini, interpretazione di un ruolo, danza e mimica; discussione, discussione tra gruppi contapposti, discussione tra espert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Quali </a:t>
            </a: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abilità esercitare</a:t>
            </a: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? </a:t>
            </a: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- continuazion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ategie dell’esercitazion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pprendere  ad apprendere: usare fonti grafiche, testuali, multimediali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pprendere azioni pratiche: misurare, tagliare, costruire un oggetto, usare uno strumento – es. microscopio, buss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ategie della creazione (brainstorming, laboratorio del futuro, scenari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500" spc="-1" strike="noStrike">
                <a:solidFill>
                  <a:srgbClr val="04617b"/>
                </a:solidFill>
                <a:latin typeface="Calibri"/>
              </a:rPr>
              <a:t>Che cosa seguire? - 1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ruttura dell’insegnamen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a conoscenza dei contenu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a dominazione della strategia d’insegnamento scel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a struttura logica dei passaggi nella spiegazi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so di esempi adatti, uso di spiegazioni metaforiche, di interpretazioni mimiche, ecc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uso dei mezzi e strumenti didatti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mmedesimazione nel ruolo di maest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eazione all’insuccesso nella comunicazione didatt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04617b"/>
                </a:solidFill>
                <a:latin typeface="Calibri"/>
              </a:rPr>
              <a:t>Che cosa seguire?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-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nterazione con gli alunn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ttirare e mantenere l’attenzio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otivare  all’attivit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timolare la partecipazione, porre domande, rispondere alle doman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scolto empatico degli alun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adeguatezza della comunicazione didattica  all’età  e alle capacità di comprensione degli alun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onduzione del grup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2:03:08Z</dcterms:created>
  <dc:creator>Miro</dc:creator>
  <dc:description/>
  <dc:language>en-US</dc:language>
  <cp:lastModifiedBy>Miro</cp:lastModifiedBy>
  <dcterms:modified xsi:type="dcterms:W3CDTF">2010-03-08T21:37:08Z</dcterms:modified>
  <cp:revision>62</cp:revision>
  <dc:subject/>
  <dc:title>Mikropučavanje u nastavi prirode i društva</dc:title>
</cp:coreProperties>
</file>