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E96-8620-44EE-934F-FF5EF8B2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4C8-03B4-444F-A99A-1370EFCB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485-6682-48D4-BE48-F6BAEC55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BA7-590C-404F-99F2-FF4C70D7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5EB6-04C7-492B-A1FC-BCBFDC8C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9118-97F9-40A9-8D69-912EED22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E543-CA7C-4611-8FBF-1C8C11B1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8159-1C17-4CC1-8ECF-92B1D5E1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B935-99ED-423E-BCD0-0D04279C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0817-32FF-41B5-BAA8-A598D52E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AC10-550F-456C-8674-25F84A5B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E37-01C3-4353-9B43-6C9F9067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5472-15D0-4964-804D-DDB4395E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CFCD-62CB-4D72-89D5-F3C505F5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9B60-447B-472C-B137-30305973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0040-F0A7-4AE3-80CF-3DB909C0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53B9-3132-4EDB-8B2C-E449D37B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6E6-E851-4520-A671-7A627B0B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8F3-73DC-460C-95F8-94B27FE3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C8C4-A80A-4432-96E2-142D90A0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BE2-F7A5-4339-ABCB-A4129DEA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D3D-22A0-426F-8CF5-42CB1750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81D-7665-4D7B-9DBA-59E462B1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59A-5344-415A-885E-4C67780C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770A-B95B-431B-A0F6-154581719E4F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FCCD-B8C6-4F47-A7D3-A768097FBAC6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891411"/>
                </a:solidFill>
                <a:latin typeface="Vivaldi"/>
              </a:rPr>
              <a:t>Didattica della natura e società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f917e"/>
                </a:solidFill>
                <a:latin typeface="Arial"/>
              </a:rPr>
              <a:t>I fattori extrascolastici che influiscono sull’insegnamento de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f917e"/>
                </a:solidFill>
                <a:latin typeface="Arial"/>
              </a:rPr>
              <a:t>Natura e soci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0000"/>
                </a:solidFill>
                <a:latin typeface="Times New Roman"/>
              </a:rPr>
              <a:t>Organizzazioni spor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segnano a conoscere e dominare fenomeni naturali (es. vento, correnti, condizioni meteorologiche, maree – ve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empi di sport – calcio, tennis, alpinismo, pesca sportiva, aeromodel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avorisce lo sviluppo di caratteristiche positive del carattere: collaborazione, resistenza fisica, controllo delle emozioni, velocità, preci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0000"/>
                </a:solidFill>
                <a:latin typeface="Times New Roman"/>
              </a:rPr>
              <a:t>Organizzazioni cultural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ruppi filodrammatici, cori, balletti, gruppi folcloristici, società artistico-cultur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avoriscono l’assimilazione delle tradizioni culturali, degli usi e dei costumi, formano l’identità personale, abituano a rispettare l’al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iluppano abilità particolari: eseguire passi di danza, cantare, recitare, trasmettere elementi di saggezza popo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0000"/>
                </a:solidFill>
                <a:latin typeface="Times New Roman"/>
              </a:rPr>
              <a:t>L’Interne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fili d’uso che possano tornare utili agli educatori nella progettazione delle loro strategie di inter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veri dell’insegnante: aiutare l’alunno 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conoscere e valutare in maniera critica i siti che sta visitand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; 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utel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 dati personali,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spet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on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iol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e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ivacy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egli al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ttività da fare in classe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scutere di Internet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fare ricerche sotto la guida dell’insegnante, rispettare i diritti d’au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0000"/>
                </a:solidFill>
                <a:latin typeface="Times New Roman"/>
              </a:rPr>
              <a:t>Applicazioni per apprender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so di molte applicazioni create con la tecnica dell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grammazione dell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’apprendimento per rinforz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Ess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basa sul presupposto di potere ricevere degli stimoli dall'esterno a seconda delle scelte dell'algorit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iochi didattici e programmi di addestramento interattiv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0000"/>
                </a:solidFill>
                <a:latin typeface="Times New Roman"/>
              </a:rPr>
              <a:t>Elenco dei fattori extrascolastic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a famig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I gruppi di coetan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a televis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I gior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e organizzazioni culturali e spor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L’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0000"/>
                </a:solidFill>
                <a:latin typeface="Times New Roman"/>
              </a:rPr>
              <a:t>La famigli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60020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ile educativo dei genitori e loro capacità pedago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parazione dei genitori in campi specifici (a seconda della professione svolta o degli interessi person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iaggi realizzati con i gen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artecipazione dei genitori ad attività scolastiche e disponibilità a collabor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tributo dei parenti (fratelli, sorelle, zii, cugini, non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0000"/>
                </a:solidFill>
                <a:latin typeface="Times New Roman"/>
              </a:rPr>
              <a:t>I gruppi di coetane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002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iocando con gli amici si imparano contenuti e comporta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giochi sociali richiedono di rispettare le regole di comportamento 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giochi di ruolo richiedono spesso di imitare le attività degli adulti (medico, infermiera, maestra, commessa, cliente, poliziotto, ...) con comportamenti e frasi di circosta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i indovinelli, i quiz del sapere e altri giochi linguistici favoriscono l’apprendimento di tanti contenuti della natura e soci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0000"/>
                </a:solidFill>
                <a:latin typeface="Times New Roman"/>
              </a:rPr>
              <a:t>La television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1599840"/>
            <a:ext cx="7772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smissioni scolastiche interessanti su argomenti del programma di natura e soci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asmissioni informative, documentari, riprese di itinerari di viaggi, trasmissioni scientif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artoni animati a contenuto didat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flussi negativi: dipendenza da TV, passività, creazione di un mondo irreale, poca fantasia, esposizione dei bambini a trasmissioni non adatte, trasmissioni al di sotto della dignità 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0000"/>
                </a:solidFill>
                <a:latin typeface="Times New Roman"/>
              </a:rPr>
              <a:t>I giornali e le rivist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998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ono lo specchio della realtà attuale e delle rispettive condizioni soc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ntengono molti argomenti utili per l’app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lezionare giornali e articoli da legg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cessario abituare l’alunno a leggere il quotidiano, saper leggere le notizie in modo critico, saper usare le informazioni del giornale per risolvere problemi personali (programmi TV, farmacie aperte, previsioni del tempo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eparazione pedagogica all’uso del gior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vviare gli alunni ad orientarsi nelle rubriche di un gior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eggere inizialmente articoli semplici poi sempre più comple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cutere sui contenuti letti con un adu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tilizzare il giornale per scopi didat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stinguere i tipi di gior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0000"/>
                </a:solidFill>
                <a:latin typeface="Times New Roman"/>
              </a:rPr>
              <a:t>Possibili usi didattic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600200"/>
            <a:ext cx="77724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tagliare titoli, illustrazioni e articoli e incollarli accanto all’argomento adatto, nel proprio quaderno o su un cartellone in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tagliare grafici con dati statistici su argomenti già trattati e interpretarli in cla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ccogliere e conservare descrizioni e illustrazioni di viaggi e repor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tilizzare le previsioni del tempo per formare il  concetto di cl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tagliare e raccogliere articoli per ricerche individ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Le organizzazioni culturali e spor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400" y="1599840"/>
            <a:ext cx="7772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ssociazione giovanile degli esploratori o boy-scout (soddisfa la curiosità insaziabile, l’aspirazione ad ideali elevati, il bisogno di vita associata con i coetanei, lo spirito di collaborazione e competi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imola lo sviluppo di abilità specifiche: saper piantare una tenda, far cucina, lavare, leggere una pianta per orientarsi, apprezzare a ochhio distanze e velocità, accendere il fuoco in natura, prestare pronto soccorso e assistenza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Favorisce lo sviluppo di caratteristiche positive: fiducia, fedeltà, fierezza, sincerità, lealtà, senso dell’onore, responsabilità, amicizia, cortesia, laboriosità, ubbid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6:40:24Z</dcterms:created>
  <dc:creator>Ladislav Bognar</dc:creator>
  <dc:description/>
  <dc:language>en-US</dc:language>
  <cp:lastModifiedBy>Miro</cp:lastModifiedBy>
  <dcterms:modified xsi:type="dcterms:W3CDTF">2014-06-11T19:16:48Z</dcterms:modified>
  <cp:revision>24</cp:revision>
  <dc:subject/>
  <dc:title>Slide 1</dc:title>
</cp:coreProperties>
</file>