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laser.wav" ContentType="audio/x-wav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593-4311-461A-939C-D725613D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177F-6D6F-4D29-B1A1-B938B88D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40C-6820-4F0E-84C5-49FCBEC3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292-2728-45CF-8E19-EEB168A5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28E2-B261-4041-9C22-946B123E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DF89-C1B9-4C9C-9A3D-8CCF5521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D83-19C8-4F98-8679-F5FD50E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7606-E759-451F-A1F7-9976B3A5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5231-4FEF-42AE-A40E-0D89617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AC32-8E53-46B1-B450-43DF64A1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B285-82A2-4A33-B0BC-4A281F30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472-69CD-485D-9A56-83FAE4F5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CDFE-65FA-4DFE-BCDB-D58F898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879C-550F-4A06-861D-7BE519B4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D3B4-0744-4D56-82C0-961A142B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C4CB-774C-4048-A93B-B08B1EA3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3012-1646-4B56-A332-7B68EB1F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A9DC0-870C-4AEC-AE0F-E96C3F75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02DBF-8654-4688-960A-4899A9E9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5FA4-BD53-4609-A740-C8559FB2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04B7-D90B-4B16-A351-B503FD91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32C4-AB2C-411B-B4AF-14D8BE04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E08-903B-4335-B722-3ABA4BD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D5F7-C3E2-43D9-A8CD-FBA61E4B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60914-4F4D-41FE-863C-34FB275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EF62A-06FB-4692-9560-C784D259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B3E2-5753-499C-89D4-3E1F68B8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3B078-D223-4B96-AB51-2BA1735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8659-07A5-4D42-96A0-80D7DFD1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3BC7D-129B-4183-B0D8-111F6A88B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390-A1B4-4677-9EF4-F3181910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5CC7-FAE8-4BBB-8598-8AEF654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D96-AB33-4681-A6C5-CD4750B7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B2F-4D1C-450D-AE49-07B23C7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363-DED9-4ED5-BF72-5F2DC75F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C7B7-677B-4009-8C60-010C7F04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304F-E18B-4C83-AD09-4F66F593ABC4}" type="slidenum">
              <a:rPr b="0" lang="it-IT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prstGeom prst="pie">
                  <a:avLst/>
                </a:pr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DEE0-0B04-4263-AE48-88C05C3BD1C8}" type="slidenum">
              <a:rPr b="0" lang="it-IT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12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113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Freeform 4"/>
              <p:cNvSpPr/>
              <p:nvPr/>
            </p:nvSpPr>
            <p:spPr>
              <a:xfrm>
                <a:off x="9360" y="162396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5"/>
              <p:cNvSpPr/>
              <p:nvPr/>
            </p:nvSpPr>
            <p:spPr>
              <a:xfrm>
                <a:off x="9360" y="331308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6"/>
              <p:cNvSpPr/>
              <p:nvPr/>
            </p:nvSpPr>
            <p:spPr>
              <a:xfrm>
                <a:off x="9360" y="5016600"/>
                <a:ext cx="1413000" cy="1454040"/>
              </a:xfrm>
              <a:prstGeom prst="pie">
                <a:avLst/>
              </a:pr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119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6F7-09DC-438E-AB1B-E3C5ED9B792F}" type="slidenum">
              <a:rPr b="0" lang="hr-HR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Gli stili di apprendimento </a:t>
            </a:r>
            <a:br>
              <a:rPr sz="4400"/>
            </a:b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e di insegna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Mr.sc. Nevia Močin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8560" y="30456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Aspetti determinanti dello</a:t>
            </a:r>
            <a:br>
              <a:rPr sz="4400"/>
            </a:b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 stile d’insegna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479600" y="1999800"/>
            <a:ext cx="762624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l  concetto di stile di insegnamento si fonda su diversi aspetti, qu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e decisioni e le scelte assunte dall’inseg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 metodi didattici utilizzati dall’inseg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il grado di autonomia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e modalità di controllo sociale dei comportamenti degli alun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996633"/>
                </a:solidFill>
                <a:latin typeface="Times New Roman"/>
              </a:rPr>
              <a:t>Stile autoritario</a:t>
            </a: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 - direttiv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79600" y="1980720"/>
            <a:ext cx="762624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è centrato sull’insegnante e sul controllo che egli è in grado di effettuare sullo svolgere dell’attività e sugli alu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sce in modo direttivo l’interazione di cla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'insegnante guida tutte le fasi della l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scia scarsa autonomia decisionale ai bambi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ol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ggressività 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’alunno può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vilupp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mancanza di fiducia in se stesso e nelle proprie capacità e un basso livello di auto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ggior efficacia produ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Stile democratico - assertiv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99760" y="1928520"/>
            <a:ext cx="760572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è centrato sull’interazione e sulla comunicazione bidirezionale tra alunni ed inseg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’insegnant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stra comprensione e interesse per i suoi allievi attraverso l’incoragg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li alunni vengono guidati e sollecitati alla conosc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avorisce lo sviluppo dell’autonomia, della creatività, dell’auto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rta livelli maggiori di soddisf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onsente un elevato coinvolgimento emotivo e cog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cessita di tempi lunghi e di verifiche continue e può determinare difficoltà nel controllo sociale del gruppo cla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Stile permissivo - </a:t>
            </a:r>
            <a:r>
              <a:rPr b="0" i="1" lang="it-IT" sz="4400" spc="-1" strike="noStrike">
                <a:solidFill>
                  <a:srgbClr val="996633"/>
                </a:solidFill>
                <a:latin typeface="Times New Roman"/>
              </a:rPr>
              <a:t>laissez faire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479600" y="1980720"/>
            <a:ext cx="7626240" cy="45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’insegnante rinuncia a porre regole e vincoli forti agli alunni 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impegna poc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 impostare e far rispettare le attività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idattich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gener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promuove un dialogo costruttivo con gli alu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è coinvolto nella classe, pone poche domande agli allievi, risulta disintere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dimostra iniziativa e crea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ibisce la motivazione, il coinvolgimento e l’auto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li allievi non possono contare sul docente come punto di riferimento attento alle dinamiche interne alla cla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Definizione di apprendi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7760" y="1856880"/>
            <a:ext cx="7626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dal punto di vista psicologico, l'apprendimento è una funzione dell'adattamento di un soggetto, risultato dalle esperienze viss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dunque, l'apprendimento è un processo attivo di acquisizione di comportamenti stabili in funzione dell'adattamento, dovuto a stimoli esterni o inte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In conclusione, l'apprendimento è una modificazione del comportament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62626"/>
                </a:solidFill>
                <a:latin typeface="Times New Roman"/>
                <a:ea typeface="Arial"/>
              </a:rPr>
              <a:t>è legato all'esperienza e all'esposizione ad uno stimo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7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75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75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75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Definizione di stile di apprendi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er stile di apprendimento si intende la tendenza di una persona a preferire un certo modo di apprendere/studi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iguarda la sua modalità di percepire e reagire ai compiti legati all’apprendimento, attraverso la quale mette in atto, o sceglie, i comportamenti e le strategie per apprend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0" i="1" lang="hr-HR" sz="3200" spc="-1" strike="noStrike">
                <a:solidFill>
                  <a:srgbClr val="996633"/>
                </a:solidFill>
                <a:latin typeface="Arial"/>
              </a:rPr>
              <a:t>Stile visuale</a:t>
            </a:r>
            <a:r>
              <a:rPr b="1" i="1" lang="hr-HR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28800" y="1766520"/>
            <a:ext cx="417024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Imparo meglio osservan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Mi piace vedere i professor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Amo star seduto in primo banc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Penso tramite immagi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Mi sono utili i grafic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le illustrazion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i filma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071880" y="5715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6633"/>
                </a:solidFill>
                <a:latin typeface="Arial"/>
              </a:rPr>
              <a:t>6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5000760" y="1785960"/>
            <a:ext cx="3886200" cy="4495680"/>
          </a:xfrm>
          <a:prstGeom prst="rect">
            <a:avLst/>
          </a:pr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9" descr="PE02376_"/>
          <p:cNvPicPr/>
          <p:nvPr/>
        </p:nvPicPr>
        <p:blipFill>
          <a:blip r:embed="rId2"/>
          <a:stretch/>
        </p:blipFill>
        <p:spPr>
          <a:xfrm>
            <a:off x="5334120" y="2133720"/>
            <a:ext cx="2971800" cy="3790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7700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996633"/>
                </a:solidFill>
                <a:latin typeface="Arial"/>
              </a:rPr>
              <a:t>      </a:t>
            </a:r>
            <a:r>
              <a:rPr b="0" i="1" lang="hr-HR" sz="3200" spc="-1" strike="noStrike">
                <a:solidFill>
                  <a:srgbClr val="996633"/>
                </a:solidFill>
                <a:latin typeface="Arial"/>
              </a:rPr>
              <a:t>Stile uditivo 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404352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Apprendo meglio ascoltan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Mi piace parlare con gli altri sugli argomenti di stu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Ricordo meglio se studio a voce al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Amo registrare il testo su nastro o cd aud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000240" y="5643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6633"/>
                </a:solidFill>
                <a:latin typeface="Arial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5486400" y="1600200"/>
            <a:ext cx="3352680" cy="4495680"/>
          </a:xfrm>
          <a:prstGeom prst="rect">
            <a:avLst/>
          </a:prstGeom>
          <a:solidFill>
            <a:srgbClr val="005c1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9" descr="j0078766"/>
          <p:cNvPicPr/>
          <p:nvPr/>
        </p:nvPicPr>
        <p:blipFill>
          <a:blip r:embed="rId2"/>
          <a:stretch/>
        </p:blipFill>
        <p:spPr>
          <a:xfrm>
            <a:off x="5715000" y="1752480"/>
            <a:ext cx="2895480" cy="4249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770040"/>
            <a:ext cx="777240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996633"/>
                </a:solidFill>
                <a:latin typeface="Arial"/>
              </a:rPr>
              <a:t>          </a:t>
            </a:r>
            <a:r>
              <a:rPr b="0" i="1" lang="hr-HR" sz="2400" spc="-1" strike="noStrike">
                <a:solidFill>
                  <a:srgbClr val="996633"/>
                </a:solidFill>
                <a:latin typeface="Arial"/>
              </a:rPr>
              <a:t>Stile cinestetico 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4265640" cy="38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Apprendo con maggior efficacia tramite il movimento, il tatto e l’attiv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Non posso stare a lungo sedu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imes New Roman"/>
              </a:rPr>
              <a:t>Mi piace agire, costruire qualcosa e non leggere e scriv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928960" y="55720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996633"/>
                </a:solidFill>
                <a:latin typeface="Arial"/>
              </a:rPr>
              <a:t>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22360" y="1766880"/>
            <a:ext cx="3808440" cy="41133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5562720" y="1676520"/>
            <a:ext cx="3276360" cy="4419360"/>
          </a:xfrm>
          <a:prstGeom prst="rect">
            <a:avLst/>
          </a:prstGeom>
          <a:solidFill>
            <a:srgbClr val="005c1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j0078702"/>
          <p:cNvPicPr/>
          <p:nvPr/>
        </p:nvPicPr>
        <p:blipFill>
          <a:blip r:embed="rId2"/>
          <a:stretch/>
        </p:blipFill>
        <p:spPr>
          <a:xfrm>
            <a:off x="5715000" y="1828800"/>
            <a:ext cx="2971800" cy="403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Definizione di insegna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479600" y="1981080"/>
            <a:ext cx="7626240" cy="43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rasmissione di conoscenze e di esperienze con cui si istruisce q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cu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 una disciplina o, più in generale, si forniscono stimoli alla crescita psicologica e intellettuale della persona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’insegnante de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muovere il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ap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iutare gli allievi ad acquisi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avorire lo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viluppo dell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personalit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dell’alli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crear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un clima di fiducia e di aspettative po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400" spc="-1" strike="noStrike">
                <a:solidFill>
                  <a:srgbClr val="996633"/>
                </a:solidFill>
                <a:latin typeface="Times New Roman"/>
              </a:rPr>
              <a:t>L’insegna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479600" y="1980720"/>
            <a:ext cx="762624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si realizza nell’interazione tra l’insegnante e l’allievo, finalizzata al raggiungimento de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gl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obiettivi 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prefissat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nella programmazio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Times New Roman"/>
              </a:rPr>
              <a:t>si prefigge di coinvolgere gli alunni in un processo di costruzione delle conoscenze e di sviluppo di abilità e competenze che tengano conto delle variabili che influenzano il processo di apprendim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996633"/>
                </a:solidFill>
                <a:latin typeface="Times New Roman"/>
              </a:rPr>
              <a:t>Stile di insegnamento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odalità stabile di comportamento e di relazione con gli alunni che definisce il clima interno alla cla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ella letteratura pedagogica sono note l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e categorie individuate da Lewin, Lippit e White (1939): stile democratico, stile autoritario e stile 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laissez fair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 permiss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3:11:16Z</dcterms:created>
  <dc:creator>Luana Buić</dc:creator>
  <dc:description/>
  <dc:language>en-US</dc:language>
  <cp:lastModifiedBy>Miro</cp:lastModifiedBy>
  <dcterms:modified xsi:type="dcterms:W3CDTF">2013-11-09T16:17:20Z</dcterms:modified>
  <cp:revision>16</cp:revision>
  <dc:subject/>
  <dc:title>L’EDUCAZIONE STRADALE</dc:title>
</cp:coreProperties>
</file>