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24FF-DF10-4EB6-A229-DAED53B0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730-F8F1-47C8-9809-C32AB889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D43-EE28-4035-847C-55F05F14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67E-9B9A-4507-838E-C1D1D86D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75EA-C861-46D2-9443-019E5649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263A-C0F1-4815-9F3D-65C955E6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70D3-4E06-4E9C-ADA5-C0D6E130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205A-2D99-4E57-847C-2EBC1448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1E1C-BAFC-47F3-A8B4-100A3D4F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94DE-ACCF-456D-A64B-7A0FE35F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99A8-4F39-4B49-984A-A2E85313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E95-5552-4A6B-A0CA-0935871B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0899B-58D9-416B-AC46-4CA4D1A9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E8E0-CF3A-45C3-B872-B59B013B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F837-2F95-4A53-9742-08AEED17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425E5-66B9-4465-9AE2-71F1C8FA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6ACAC-A287-4A9E-BD71-FD948EF78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163C-A4C6-4627-A5C7-85BDE55D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3584-6FCB-407E-B06E-F582F41A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3C0-6AC8-46C6-8595-25FD0977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661A-3DEA-495D-BB49-78B9F1FD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ED2-B4F0-4251-95E3-EC5C4974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A42-7FFB-4257-A88B-E52910EF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B11-A678-4AAA-94AC-B1CAD6FF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5FD5-A749-4838-AEB6-6D318189A650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C425-A1CF-4164-BDD1-911A85278D70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609480"/>
            <a:ext cx="670572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3333cc"/>
                </a:solidFill>
                <a:latin typeface="Arial"/>
              </a:rPr>
              <a:t>Contenuti economici</a:t>
            </a:r>
            <a:br>
              <a:rPr sz="4800"/>
            </a:br>
            <a:r>
              <a:rPr b="0" lang="hr-HR" sz="4800" spc="-1" strike="noStrike">
                <a:solidFill>
                  <a:srgbClr val="3333cc"/>
                </a:solidFill>
                <a:latin typeface="Arial"/>
              </a:rPr>
              <a:t>Il turismo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Mr.sc. Nevia Močinić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Condizioni sociali per lo sviluppo del turism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880" y="1827360"/>
            <a:ext cx="789768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Verdana"/>
              </a:rPr>
              <a:t>Motivi che attirano i turisti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Verdana"/>
              </a:rPr>
              <a:t>Monumenti storico-culturali e opere artistich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Verdana"/>
              </a:rPr>
              <a:t>Manifestazioni culturali, sportive e artistich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Verdana"/>
              </a:rPr>
              <a:t>Folclore o costumi, tradizioni e usanze di un popol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Condizioni social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56800" y="1643040"/>
            <a:ext cx="8001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Motivi che rendono realizzabile il turism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Le vie di comunicazio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Le strutture per il vitto e l’allogg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ubblicità adeguat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rganizzazione del traspor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istemazione confortevole o men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rganizzazione della vita culturale e dei divertimen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Operatori turistici adeguatamente qualifica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Attività in class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2600" y="1827360"/>
            <a:ext cx="80406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Classe prima: osservazione diretta e classificazione delle strutture turistich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Classe seconda: i cambiamenti stagionali nelle attività degli operatori turistic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Classe terza: importanza delle condizioni naturali e sociali per lo sviluppo del turism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Classe quarta: formazione del concetto di turism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I traspor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Attività terziaria che assicura il trasferimento nello spazio di beni e perso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Il fine perseguito dai trasporti: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incremento di valore dei beni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la soddisfazione di un bisogno per le perso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A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spetti</a:t>
            </a: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 del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 settore dei traspor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99680" y="1428480"/>
            <a:ext cx="864396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Le </a:t>
            </a:r>
            <a:r>
              <a:rPr b="0" i="1" lang="it-IT" sz="2900" spc="-1" strike="noStrike">
                <a:solidFill>
                  <a:srgbClr val="000000"/>
                </a:solidFill>
                <a:latin typeface="Verdana"/>
              </a:rPr>
              <a:t>infrastrutture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comprendono tutta la rete di trasporto (strade, autostrade, ferrovie, canali, condotte, etc.), i nodi e i terminali (aeroporti, stazioni ferroviarie, fermate d'autobus e porti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0" i="1" lang="it-IT" sz="2900" spc="-1" strike="noStrike">
                <a:solidFill>
                  <a:srgbClr val="000000"/>
                </a:solidFill>
                <a:latin typeface="Verdana"/>
              </a:rPr>
              <a:t>veicoli</a:t>
            </a:r>
            <a:r>
              <a:rPr b="0" i="1" lang="hr-HR" sz="29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gli autoveicoli, i motoveicoli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i treni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che viaggiano sulle ferrovie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, gli aerei e le navi che seguono rotte aeree e rotte navali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gestione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finalizzata alla ricerca del miglior funzionamento dell'intero </a:t>
            </a:r>
            <a:r>
              <a:rPr b="0" i="1" lang="it-IT" sz="2900" spc="-1" strike="noStrike">
                <a:solidFill>
                  <a:srgbClr val="000000"/>
                </a:solidFill>
                <a:latin typeface="Verdana"/>
              </a:rPr>
              <a:t>sistema trasporti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Tipi di traspor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69800" y="1827000"/>
            <a:ext cx="73134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raffico terrestre: stradale e ferroviario (ferrovie e strade; veicoli, segnaletica stradale e ferroviaria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raffico aereo (aeroporti, mezzi di trasporto aereo, navigazione spaziale, rotte spaziali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raffico marittimo, lacustre e fluviale (porti, mezzi di trasporto su acqua, carte nautiche, segnaletica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Tipi di beni trasporta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69800" y="1827000"/>
            <a:ext cx="73134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rasporto di </a:t>
            </a:r>
            <a:r>
              <a:rPr b="0" lang="hr-HR" sz="2900" spc="-1" strike="noStrike">
                <a:solidFill>
                  <a:srgbClr val="ff0000"/>
                </a:solidFill>
                <a:latin typeface="Verdana"/>
              </a:rPr>
              <a:t>beni materiali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(le quantità maggiori vengono trasportate da navi, treni, aerei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rasporto </a:t>
            </a:r>
            <a:r>
              <a:rPr b="0" lang="hr-HR" sz="2900" spc="-1" strike="noStrike">
                <a:solidFill>
                  <a:srgbClr val="ff0000"/>
                </a:solidFill>
                <a:latin typeface="Verdana"/>
              </a:rPr>
              <a:t>di persone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(sviluppo di mezzi che offrono maggiore comodità, velocità, sicurezza e distanza percorsa al viaggiator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rasporto </a:t>
            </a:r>
            <a:r>
              <a:rPr b="0" lang="hr-HR" sz="2900" spc="-1" strike="noStrike">
                <a:solidFill>
                  <a:srgbClr val="ff0000"/>
                </a:solidFill>
                <a:latin typeface="Verdana"/>
              </a:rPr>
              <a:t>di comunicazioni e di informazioni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(PTT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Fattori che condizionano il traffic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43000" y="1827360"/>
            <a:ext cx="754056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Fattori naturali: l’aspetto del rilievo (es. le catene montuose), la presenza o meno del mare, il clima (es. i venti, la neve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Verdana"/>
              </a:rPr>
              <a:t>Fattori sociali: sviluppo economico del paese (agricoltura, industria, commercio e turismo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Le comunicazion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69800" y="1827000"/>
            <a:ext cx="731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rasporto delle informazioni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ramite i vari tipi di traffico (terrestre, marittimo, aereo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tramite i cavi (comunicazione telefonica e telegrafica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enza cavi (telefonini cellulari, radio e televisione, reti informatiche); su 6 miliardi di abitanti – 500 milioni di telefonini cellular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Il turism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71720" y="1827000"/>
            <a:ext cx="7611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postamento di individui o gruppi di persone fuori dalla propria residenza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er divertimento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a scopo istruttivo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er lo sport e la ricreazione,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a scopo di cura o altro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sia nell’ambito del proprio stato che all’estero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Il turismo nel passat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71320" y="1827360"/>
            <a:ext cx="811188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Un tempo il viaggio era sinonimo di avventura e incertezza, era considerato un’impresa eroica in grado di “formare” l’individuo che sfidava rischi e pericoli imprevedibili pur di raggiungere la meta prefissata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Nulla a che vedere con i tre imperativi del moderno turismo globalizzato: spostamenti veloci, relax e strutture in grado di offrire qualsiasi comodità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Prime forme di turism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85520" y="1643040"/>
            <a:ext cx="80010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Fino al XIX sec. esistevano soltanto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viaggiatori d'</a:t>
            </a:r>
            <a:r>
              <a:rPr b="0" i="1" lang="it-IT" sz="2900" spc="-1" strike="noStrike">
                <a:solidFill>
                  <a:srgbClr val="000000"/>
                </a:solidFill>
                <a:latin typeface="Verdana"/>
              </a:rPr>
              <a:t>élite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l 5 luglio 1841, Thomas Cook, sfruttando le nuove possibilità offerte dal treno, organizzò un viaggio di 11 miglia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al quale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arteciparono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570 persone al costo di uno scellino a testa. Il successo fu tale da spingere lo stesso Cook ad organizzare pacchetti turistici sempre più articolati, dando inizio all'industria turistica modernamente intesa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Lo sviluppo del turism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13880" y="1827000"/>
            <a:ext cx="796932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egli ultimi decenni il turismo è  cresciuto grazie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ll'evoluzione e alla moltiplicazione dei mezzi di trasporto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ll'incremento dei redditi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e del tempo libero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nel mondo occidentale e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ai nuovi mass media che hanno cambiato l'accesso alle informazioni (es. internet, pubblicità...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Il turist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69800" y="1827360"/>
            <a:ext cx="731340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n </a:t>
            </a:r>
            <a:r>
              <a:rPr b="1" lang="it-IT" sz="2900" spc="-1" strike="noStrike">
                <a:solidFill>
                  <a:srgbClr val="000000"/>
                </a:solidFill>
                <a:latin typeface="Verdana"/>
              </a:rPr>
              <a:t>turista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è chiunque viaggi in paesi diversi da quello in cui ha la sua residenza abituale, per un periodo di almeno una notte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ma non superiore ad un anno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In questo termine sono inclusi coloro che viaggiano per 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motivi psicologici, culturali, sanitari, informativi, di studi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 settor</a:t>
            </a: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0" lang="it-IT" sz="3600" spc="-1" strike="noStrike">
                <a:solidFill>
                  <a:srgbClr val="006666"/>
                </a:solidFill>
                <a:latin typeface="Arial"/>
              </a:rPr>
              <a:t> industriale e commerciale </a:t>
            </a:r>
            <a:br>
              <a:rPr sz="3600"/>
            </a:b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inclusi nel turism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85880" y="1643040"/>
            <a:ext cx="78976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ff0000"/>
                </a:solidFill>
                <a:latin typeface="Verdana"/>
              </a:rPr>
              <a:t>trasporti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(in aereo, treno, nave, pullman e così via),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ff0000"/>
                </a:solidFill>
                <a:latin typeface="Verdana"/>
              </a:rPr>
              <a:t>servizi di ospitalità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(presso alberghi, pensioni, villaggi turistici), strutture ricettive e altri servizi correlati (guide turistiche; ingresso in musei, fiere, parchi naturali e altre attrazioni turistiche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ff0000"/>
                </a:solidFill>
                <a:latin typeface="Verdana"/>
              </a:rPr>
              <a:t>servizi di assicurazione 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per il viaggiatore;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900" spc="-1" strike="noStrike">
                <a:solidFill>
                  <a:srgbClr val="ff0000"/>
                </a:solidFill>
                <a:latin typeface="Verdana"/>
              </a:rPr>
              <a:t>servizi di ristorazione e intratteniment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Il settore degli investimenti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69800" y="1827000"/>
            <a:ext cx="7313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0000"/>
                </a:solidFill>
                <a:latin typeface="Verdana"/>
              </a:rPr>
              <a:t>Settore delle costruzioni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: alberghi, autocampeggi, stabilimenti balneari, alloggi privati, esercizi commercial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0000"/>
                </a:solidFill>
                <a:latin typeface="Verdana"/>
              </a:rPr>
              <a:t>Settore delle infrastrutture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: vie di comunicazion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0000"/>
                </a:solidFill>
                <a:latin typeface="Verdana"/>
              </a:rPr>
              <a:t>Settore dell’industria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: attività produttive destinate al consum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ff0000"/>
                </a:solidFill>
                <a:latin typeface="Verdana"/>
              </a:rPr>
              <a:t>Settore finanziario</a:t>
            </a: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: apporto di valuta ester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6666"/>
                </a:solidFill>
                <a:latin typeface="Arial"/>
              </a:rPr>
              <a:t>Condizioni naturali per lo sviluppo del turismo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000"/>
            <a:ext cx="73134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Posizione geografica del luogo, in particolare la latitudine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il clim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il rilievo 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le acqu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900" spc="-1" strike="noStrike">
                <a:solidFill>
                  <a:srgbClr val="000000"/>
                </a:solidFill>
                <a:latin typeface="Verdana"/>
              </a:rPr>
              <a:t>Croazia: clima mediterraneo, rilievo vario, costa frastagliata, fenomeni carsici, molti fiumi, flora e fauna interessanti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7T17:37:59Z</dcterms:created>
  <dc:creator>miro</dc:creator>
  <dc:description/>
  <dc:language>en-US</dc:language>
  <cp:lastModifiedBy>Miro</cp:lastModifiedBy>
  <dcterms:modified xsi:type="dcterms:W3CDTF">2013-11-13T22:04:33Z</dcterms:modified>
  <cp:revision>40</cp:revision>
  <dc:subject/>
  <dc:title>La formazione dei concetti</dc:title>
</cp:coreProperties>
</file>