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7243-EDBF-4D4F-8A7E-BA85957D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095C-F5DA-48C2-AA10-8CBFB50E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39BE-B94F-46A9-BCA1-1BB71A33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851-8B0C-421A-8590-5936354A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BB68-DB22-4195-8292-A76451A0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9B67-5A18-4E51-85AC-3A3B0F63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6C12-9D24-46ED-8F20-7AD22FDC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13FF-23FE-4F9D-A7D3-FB746EF2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F927-5F66-410D-B7C5-0C266E3C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B953-AB96-4A5E-A046-2D496042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EFBB-46B9-4158-BCF5-63E60E32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1D38-D683-4E28-B086-1756C58C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C8FC-B52F-413B-BA22-440D77F6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0816-28E5-4BEE-9755-7B1A5FA9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921B-09E9-487B-8CF8-3C556DDB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35A8-B383-490E-B93E-EED18ADF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4687-5745-4FC1-8566-F32C2BD2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3389-C7E0-42CD-8201-58676D2C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E50-370E-492D-8ED4-97A41C87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5927-FD75-4BA1-A62C-1A9E9550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C3EB-7E96-412A-BFCB-2AFC1F16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3503-51DC-42FE-A2D0-50F2E600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29B-DFB6-4EF9-880B-B19C63AC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C341-F9A6-40E7-A26F-2B526CCA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68760" y="-4680"/>
                <a:ext cx="973080" cy="6832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64440" y="1697040"/>
                <a:ext cx="97344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72360" y="1278720"/>
                <a:ext cx="97344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72360" y="142920"/>
                <a:ext cx="973440" cy="302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64440" y="989640"/>
                <a:ext cx="973440" cy="34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66240" y="676800"/>
                <a:ext cx="973440" cy="4327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67320" y="369360"/>
                <a:ext cx="986040" cy="375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8960" y="3926880"/>
                <a:ext cx="973440" cy="4993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56880" y="3536640"/>
                <a:ext cx="97344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56880" y="2397600"/>
                <a:ext cx="973440" cy="304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56880" y="3227400"/>
                <a:ext cx="973440" cy="3470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56880" y="2931480"/>
                <a:ext cx="973440" cy="4276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56520" y="2614320"/>
                <a:ext cx="98604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0080"/>
                <a:ext cx="973440" cy="4993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6880" y="4542480"/>
                <a:ext cx="973440" cy="50292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8960" y="5649840"/>
                <a:ext cx="97344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2720"/>
                <a:ext cx="345960" cy="9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92000"/>
                <a:ext cx="97344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79160"/>
                <a:ext cx="986040" cy="375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B912-BC41-4C7F-A150-E9ABC803EFCA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8800"/>
              <a:chOff x="-3240" y="2479680"/>
              <a:chExt cx="9146880" cy="101880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856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680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748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80640"/>
                <a:ext cx="990720" cy="4046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2280" y="2650320"/>
                <a:ext cx="990720" cy="66780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9840" y="2778840"/>
                <a:ext cx="990360" cy="4042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568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09CA-BC45-49DE-AD09-18E01504E0FE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78552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La storia della natura e società </a:t>
            </a:r>
            <a:br>
              <a:rPr sz="4400"/>
            </a:b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in Croaz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r.sc. Nevia Močin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Conoscenza della natura e società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49976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sce nel 19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 insegna nelle prime tre cla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 quarta si divide in Conoscenza della natura e Conoscenza della socie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re settimanali: 3 + 3 + 4 +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 mette in primo piano la necessità di collegare, integrare, concentrare e correlare i contenuti in grandi nuclei tema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Cambiamenti del 197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bbreviazione del nome in Natura e socie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 insegna dalla prima alla qua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mnuisce il numero di concetti da insegnare e le ore settimanali: 3+3+4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contenuti vengono maggiormente adattati alle capacità degli alu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Cambiamenti del 199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73240" y="171468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nnovamento dei nuclei tema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mane identico lo spazio da conoscere (città, regione, sta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minuisce il numero di ore settimanali: 2+2+3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 tolgono i contenuti politicamente orient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Nomi della natura e società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71720" y="1428840"/>
          <a:ext cx="7772400" cy="4483080"/>
        </p:xfrm>
        <a:graphic>
          <a:graphicData uri="http://schemas.openxmlformats.org/drawingml/2006/table">
            <a:tbl>
              <a:tblPr/>
              <a:tblGrid>
                <a:gridCol w="1541160"/>
                <a:gridCol w="4429440"/>
                <a:gridCol w="428400"/>
                <a:gridCol w="428760"/>
                <a:gridCol w="500040"/>
                <a:gridCol w="4446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e della ma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e settiman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egnamento re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 Ce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i rudimenti sull’ambi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na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scenza della pat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ze naturali e tecnolo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ia e geograf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zione civ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ze natural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ia, geografia e studi soci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gh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scenza della natura e societ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Nomi della natura e società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73240" y="1214280"/>
          <a:ext cx="7772400" cy="5213520"/>
        </p:xfrm>
        <a:graphic>
          <a:graphicData uri="http://schemas.openxmlformats.org/drawingml/2006/table">
            <a:tbl>
              <a:tblPr/>
              <a:tblGrid>
                <a:gridCol w="1684440"/>
                <a:gridCol w="4286160"/>
                <a:gridCol w="500040"/>
                <a:gridCol w="428400"/>
                <a:gridCol w="428760"/>
                <a:gridCol w="444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e della ma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e settiman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egnamento re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scenza della pat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90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o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e naturale e soci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logia e igi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graf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88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scenza del mondo intorno a no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scenza della na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ia, geografia, sci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90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ven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scenza della natura e societ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scenza della na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scenza della societ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az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 e societ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Insegnamento iniziale delle scienz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73240" y="178596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ec. XVIII – a scuola si introduce l’insegnamento delle scienze naturali, della geografia e della 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'espression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rti libera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i intendeva il curriculum di studi dove era necessario un lavoro prettamente intellettuale, a fronte del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"arti meccaniche"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he richiedevano lo sforzo fis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rivium: grammatica, retorica, dialet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Quadrivium: aritmetica, geometria, astronomia, 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Idee nuov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73240" y="171468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segnamento intuitivo – Pestaloz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segnamento reale e graduale – Rouss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segnamento globale - Decr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segnamento induttivo C. G. Ju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segnamento attivo - Dew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I primi libri di testo in Croaz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73240" y="1785960"/>
            <a:ext cx="77724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1850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a Zagabria – il primo libro di testo di scienze naturali per i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ginn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1853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J. Partaš - il primo libro di testo di scienze naturali per le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scuole elementari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conoscenza globale dell’ambiente di vita come introduzione allo studio sistematico delle scienze naturali, della geografia e della sto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3366"/>
                </a:solidFill>
                <a:latin typeface="Times New Roman"/>
              </a:rPr>
              <a:t>Denominazioni della materia nel </a:t>
            </a:r>
            <a:br>
              <a:rPr sz="3600"/>
            </a:br>
            <a:r>
              <a:rPr b="0" lang="hr-HR" sz="3600" spc="-1" strike="noStrike">
                <a:solidFill>
                  <a:srgbClr val="003366"/>
                </a:solidFill>
                <a:latin typeface="Times New Roman"/>
              </a:rPr>
              <a:t>corso del temp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73240" y="171468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858 –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insegnamento reale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– F. Kla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862 – insegnamento linguistico e re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866 - insegnamento re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 mettono in primo piano le finalità informative ed istruttive riguardo all’ambiente in cui l’alunno v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Insegnamento intuitiv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73240" y="185724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1879 – M. Kobali usa la denominazione 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insegnamento intuitivo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(accentuazione dell’evidenza delle c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1868 – S. Basariček (1848-1918) – nella rivista Napredak usa il nome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nsegnamento re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1884 – nella rivista Pedagogia, Basariček usa il termine 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insegnamento intu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1899 – insegnamento reale e intuitivo inizi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Opinione di Basariče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71720" y="1285920"/>
            <a:ext cx="78739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izio età scolare – insegnamento preparatorio allo studio sistematico delle scienze naturali, della storia e della geograf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segnamento intuitivo, ins. reale iniziale, insegnamento sull’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erve a rafforzare la memoria, le qualità morali e volitive, a sviluppare la fantasia e a esercitare la percezione sensoriale e le abitudini lavo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Tra le due guer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71360" y="1285920"/>
            <a:ext cx="80722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935 - Franjo Mandić - usa insegnamento reale e linguistico iniziale – si organizza nelle prime due classi elementari; ponte tra conoscenze confuse e incomplete e il sapere sistema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lassi 3. e 4. – insegnamento delle scienze naturali, storia, geograf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ltri pedagogisti – classi 1. e 2. - insegnamento reale; 3. e 4. – scienze naturali, storia, geograf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Dopo la seconda guerra mondia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73240" y="164304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l 1945 - al 1952 – esiste come insegnamento reale iniziale (esercizi per l’osservazione, il pensiero, la lingua) nelle prime due cla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lassi 3. e 4. – scienze naturali, storia, geograf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on è autonoma, ma si realizza nell’ambito dell’insegnamento della lingua e delle attività prat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7:38:41Z</dcterms:created>
  <dc:creator>miro</dc:creator>
  <dc:description/>
  <dc:language>en-US</dc:language>
  <cp:lastModifiedBy>Miro</cp:lastModifiedBy>
  <dcterms:modified xsi:type="dcterms:W3CDTF">2011-11-30T20:57:14Z</dcterms:modified>
  <cp:revision>50</cp:revision>
  <dc:subject/>
  <dc:title>L’educazione stradale</dc:title>
</cp:coreProperties>
</file>