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F86-13E7-416A-A3D0-F7C8483F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997-E490-4CBC-8871-2E41C722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39E-FE29-44C4-B200-B87554D1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8E8-FB8C-43E7-B422-81EF6920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C5A1-2EBF-4D0F-B10F-80F47693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793D-7CD6-4D5D-A48A-FE843628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09DC-EC69-476C-AB20-715F96C1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7C02-45F8-4D79-B7BF-4458A154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4E82-9987-4025-85E7-1C822C42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7A97-C4B7-47D0-B978-7C260C0C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84FB-F434-4239-BE84-4CF0D918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8A7-3413-41AD-98CE-EF3FA2E3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4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7B04-A89D-4B1F-B82A-4EE338A8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C13A-DBFB-4AC8-A925-D4099EAC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E6A6-9345-4EBC-A18C-03202ED7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4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FBD3-C972-4911-9EC6-7BFA9190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83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928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83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928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62D1-BF29-4EA9-91AF-A14BC8DD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B84D2-55E9-44E8-808F-7D10509F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4D1B-1A43-4043-98B3-5FCDCC92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F189C-3218-4AF0-A2D2-FC480260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DD34B-75C0-4D26-A650-5CEC88F1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AE537-B78F-4352-A19F-D758E429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9A2-6466-42F8-B7B4-B949E3DD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99AE7-8FB8-499F-B661-596FF6C5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6B286-0DD1-4439-8B4A-3553B947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34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61ED8-4700-4B73-A703-CFAF517C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3F75D-B602-45D4-BF5A-97058A9E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0793-7565-49B9-B02D-209A8EFE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34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2FC3B-8C23-4291-9101-165E2215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883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928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883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928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4F1E5-8561-4C25-B524-E79B4B03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F66F7-365D-4056-8EAF-035FFFD4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83238-79DF-4BA6-8B6D-68CFC9CD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070DE-FD6A-4FDF-8836-3D0D9E63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B10-728C-4B11-AD12-09E99584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AB749-9767-4AC6-8C1F-48A621C5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7B557-40F0-4D3E-854E-C8405515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DFAB9-5123-48BC-9EED-4C967162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9CFA-1A5C-4B21-BF0B-45CEA1FA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34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B53C9-5585-4A20-A21B-4B7570C1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05172-6C8E-46EB-B15F-1E63E4A9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395D9-9746-4F94-9D1C-60A1604B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34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E54AC-A2FB-44DA-8F6D-E84C65CE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883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928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883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928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776BE-DC1B-4C5C-B6A7-9CA3AEEE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8853C-A050-4A86-A7DC-7FCD3726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CAD-2D39-43E6-8A33-991411EA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E5AA4-8C21-4659-B081-FDCE8BC8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31F1E-E10D-4E65-9879-06112127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A22BC-F06D-48F7-B7C9-333CC5B9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5C1F7-EB6D-41BC-AA48-A034CEC2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19D3A-56EA-4026-AA82-0DC34DBB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2BB63-1C46-408F-9244-A8193DDF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34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DBCAF-0E4F-4755-9CCE-E80B8F73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91EE6-24B5-4EAB-9D78-8BB9E7C9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2B7B5-5E3D-485D-ACA9-6C785BBD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34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42D64-5127-4493-A95D-557FCF7F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853C-840C-4735-B0E1-C10215C6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8832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928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8832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928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D690E-2120-4E9F-9D86-0C7D97F5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1B6-23D1-426E-8EF2-151E1CEA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E6C-3544-48C4-BA6C-EAA69035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AE9-E479-47BC-9A59-EBD61924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1895-4F2B-428C-BCD3-BA0B1DE23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C316-2AFB-4F16-A639-ECB9F8DFE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EE85-BF50-448F-B510-69790C601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120C-A603-4C2E-B468-2198B4EB8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83B1-218A-49D6-8C03-B9CB0914A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1c1c1c"/>
                </a:solidFill>
                <a:latin typeface="Arial"/>
              </a:rPr>
              <a:t>Fasi d’insegnamento moderne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16112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r.sc. Nevia Močin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idattica della natura e socie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segnamento di clas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V an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1c1c1c"/>
                </a:solidFill>
                <a:latin typeface="Arial"/>
              </a:rPr>
              <a:t>Suddivisione delle fasi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1285560"/>
            <a:ext cx="8072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tratt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 lavor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– si stabiliscono i contenuti, le attività, i metodi e le procedure da usare  (cercando di rispettare i programmi e gli interessi degli alun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ealizzazion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– organizzazione e realizzazione dell’apprendimento rispettando i principi didattici e le caratteristiche personali e il presapere degli alu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alutazion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monitoraggio dei progressi degli alunni, del comportamento, del livello di partecipazione alle attività didattiche, verifica e valutazione sommativa e form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1c1c1c"/>
                </a:solidFill>
                <a:latin typeface="Arial"/>
              </a:rPr>
              <a:t>Accordi preliminari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42600" y="1142640"/>
            <a:ext cx="792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rgomento da trattare secondo il programma: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Le attività industriali in Istri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classe III). Dopo una discussione collettiva si conclude che l’argomento è troppo vasto e sarebbe meglio dividersi in grup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no dei gruppi ha scelto l’industria alimentare, uno la cantieristica, uno l’industria tessile e dell’abbigliamento, l’industria meccanica, ec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dustria tessile: Quando è stata fondata la prima fabbrica? Quanti operai contava? Si lavorava anche a mano o facevano tutto le macchine? Quali fabbriche tessili esistono i Istr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1c1c1c"/>
                </a:solidFill>
                <a:latin typeface="Arial"/>
              </a:rPr>
              <a:t>Progetto: La vita a Fiume nel passato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37720" y="1499760"/>
            <a:ext cx="754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biettiv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strare e avvicinare la cultura, le tradizioni e le abitudini dei vecchi fiumani alle generazioni più giov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rofondire le conoscenze sui modi di vita e sulle abitudini dei nostri vecchi fiumani (cosa leggevano - poesie in dialetto, illustrazione delle stesse, sport, gastronomia, le spiagge più famose e la moda dei costumi da bagno, il trolleybu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ercepire e conoscere le differenze tra le persone mediante un approccio ap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imolare la sensibilità degli alu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fluenzare gli altri con un progetto in com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pire che la cultura, la tradizione e le abitudini sono delle caratteristiche che bisogna curare e rispet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strare agli altri come vivevano i nostri vecch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1c1c1c"/>
                </a:solidFill>
                <a:latin typeface="Arial"/>
              </a:rPr>
              <a:t>Modalità di realizzazion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37720" y="1214280"/>
            <a:ext cx="7543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cerche su internet e in bibliot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rviste e chiacchierate con le persone più anziane appartenenti alla C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sita alla Comunità degli Italiani di Fiume, ricerche e interviste a persone che hanno vissuto un periodo del XX secolo o che hanno delle conoscenze al rigu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parazione degli alunni mediante incontri con persone più anzi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scussioni, letture, ricerche con lo scopo di avvicinare agli alunni il concetto del volontariato (durante le ore del capoclass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rviste a parenti anzi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1c1c1c"/>
                </a:solidFill>
                <a:latin typeface="Arial"/>
              </a:rPr>
              <a:t>Valutazione del progetto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37720" y="1600200"/>
            <a:ext cx="7543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sentazione dei risultati (cartelloni, fotografie, relazioni, filmati, disegni, ecc.) ai genitori, alle altre classi, al personale direttivo della scuola, resoconto da inviare alla Redazione del giornalino Arcobale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ammatizzazione di scenette di vita nel pass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rifica dei saperi acquis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6:01:11Z</dcterms:created>
  <dc:creator>Poliklinika za zaštitu djece grada Zagreba</dc:creator>
  <dc:description/>
  <dc:language>en-US</dc:language>
  <cp:lastModifiedBy>Miro</cp:lastModifiedBy>
  <dcterms:modified xsi:type="dcterms:W3CDTF">2011-01-10T20:34:00Z</dcterms:modified>
  <cp:revision>35</cp:revision>
  <dc:subject/>
  <dc:title>STRES NASTAVNIKA</dc:title>
</cp:coreProperties>
</file>