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E7D3-294A-41A3-83F5-9CAB4E11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4644-3CF9-4B11-8EC8-D2910308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AA48-00CA-4F85-B151-79E973EC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224A-C875-4A9E-A3E7-4C78AA6E3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BFC1-152B-4E2A-8B4E-D0B4C27E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3B46-3D19-4486-A085-ED8F0C35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46E2-2299-44E7-B700-1203D892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569D-519F-4A11-B6E3-4FCC5487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C854-14D2-4DB1-828D-6271A569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E325-01AC-438C-AD3D-D2BD6456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FDF9-6EB4-4E3C-BEFC-0167D328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9D73-9655-4C7E-BBCA-DD95FD2E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8605-F0A8-4757-ACC6-38B65C1F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7D1E-7D92-448C-B49C-2B98074C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223B-0DEA-4614-A760-3AC192B9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48EC-7303-4860-AF22-E125A0AF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ECC1-2362-4E20-8393-855167DF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A2B2-74E7-460B-B729-322ABB23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7EC9-1E36-480D-8C63-4A697002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36B9-23DD-4094-BC96-411DA9B8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C2C7-B8AB-4CA9-905F-DD9FA330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9246-A513-4B8D-A79E-ECFBC11F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9042-D154-486F-AD95-7B6F6CCD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091D-C63F-4503-879C-94FBDDC5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E157-096B-4891-93D9-684BF962EA2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F4CD-594D-4EC3-B005-86439F83B78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3366"/>
                </a:solidFill>
                <a:latin typeface="Arial"/>
              </a:rPr>
              <a:t>Concetto e obiettivi della Didattica della natura e societ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  <a:ea typeface="Arial"/>
              </a:rPr>
              <a:t>à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66"/>
                </a:solidFill>
                <a:latin typeface="Arial"/>
              </a:rPr>
              <a:t>Mr.sc. Nevia Močini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66"/>
                </a:solidFill>
                <a:latin typeface="Arial"/>
              </a:rPr>
              <a:t>Caratteristiche specifiche della </a:t>
            </a:r>
            <a:br>
              <a:rPr sz="3200"/>
            </a:br>
            <a:r>
              <a:rPr b="1" lang="hr-HR" sz="3200" spc="-1" strike="noStrike">
                <a:solidFill>
                  <a:srgbClr val="006666"/>
                </a:solidFill>
                <a:latin typeface="Arial"/>
              </a:rPr>
              <a:t>natura e societ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Tahoma"/>
              </a:rPr>
              <a:t>à</a:t>
            </a:r>
            <a:r>
              <a:rPr b="1" lang="hr-HR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Contenuti riuniti in nuclei tematic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Principio fondamentale di raggruppamento: percezione globale della real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  <a:ea typeface="Arial"/>
              </a:rPr>
              <a:t> da parte del bambi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Dilemmi nella realizzazione pra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Quanto approfondire e ampliare i contenuti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Quale struttura logica dare ai contenuti perc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é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  <a:ea typeface="Arial"/>
              </a:rPr>
              <a:t> abbiano una certa coerenza e coesio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  <a:ea typeface="Arial"/>
              </a:rPr>
              <a:t>Approfondire di p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ù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  <a:ea typeface="Arial"/>
              </a:rPr>
              <a:t> i nuclei tematici riguardanti l’ambiente in cui il bambino risied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Correlazione con le altre mater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Correlazione orizzonta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Lingua materna – base per esercizi di parlato e scrit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Cultura artistica, cultura musicale, educazione fisico-sanitari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Correlazione vertica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Classe V – storia e geografia, ed. tecn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Classe VII – fisica, chimica, biolog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La Didattica della natura e societ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à</a:t>
            </a:r>
            <a:r>
              <a:rPr b="1" lang="hr-HR" sz="3600" spc="-1" strike="noStrike">
                <a:solidFill>
                  <a:srgbClr val="006666"/>
                </a:solidFill>
                <a:latin typeface="Arial"/>
                <a:ea typeface="Arial"/>
              </a:rPr>
              <a:t>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fa parte delle scienze della form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il suo oggetto di studio specifico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  <a:ea typeface="Arial"/>
              </a:rPr>
              <a:t>sono le leggi dell’educazione e dell’istruzione nel campo della natura e soci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66"/>
                </a:solidFill>
                <a:latin typeface="Arial"/>
              </a:rPr>
              <a:t>Finalit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Arial"/>
              </a:rPr>
              <a:t>à</a:t>
            </a:r>
            <a:r>
              <a:rPr b="1" lang="hr-HR" sz="3200" spc="-1" strike="noStrike">
                <a:solidFill>
                  <a:srgbClr val="006666"/>
                </a:solidFill>
                <a:latin typeface="Arial"/>
                <a:ea typeface="Arial"/>
              </a:rPr>
              <a:t> generali della </a:t>
            </a:r>
            <a:r>
              <a:rPr b="1" lang="hr-HR" sz="3200" spc="-1" strike="noStrike">
                <a:solidFill>
                  <a:srgbClr val="006666"/>
                </a:solidFill>
                <a:latin typeface="Arial"/>
              </a:rPr>
              <a:t>Didattica della natura e societ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Arial"/>
              </a:rPr>
              <a:t>à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Abilitare le future insegnanti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  <a:ea typeface="Arial"/>
              </a:rPr>
              <a:t>alla realizzazione pratica del programma di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Natura e soci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  <a:ea typeface="Arial"/>
              </a:rPr>
              <a:t>alla valutazione del lavoro svol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ad una riflessione critica sull’insegnamento della Natura e soci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  <a:ea typeface="Arial"/>
              </a:rPr>
              <a:t>all’applicazione di modifiche innovative nelle attivi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  <a:ea typeface="Arial"/>
              </a:rPr>
              <a:t> didattich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66"/>
                </a:solidFill>
                <a:latin typeface="Arial"/>
              </a:rPr>
              <a:t>Funzioni </a:t>
            </a:r>
            <a:r>
              <a:rPr b="1" lang="hr-HR" sz="3200" spc="-1" strike="noStrike">
                <a:solidFill>
                  <a:srgbClr val="006666"/>
                </a:solidFill>
                <a:latin typeface="Arial"/>
                <a:ea typeface="Arial"/>
              </a:rPr>
              <a:t>della </a:t>
            </a:r>
            <a:r>
              <a:rPr b="1" lang="hr-HR" sz="3200" spc="-1" strike="noStrike">
                <a:solidFill>
                  <a:srgbClr val="006666"/>
                </a:solidFill>
                <a:latin typeface="Arial"/>
              </a:rPr>
              <a:t>Didattica della natura e societ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Arial"/>
              </a:rPr>
              <a:t>à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1. funzione stor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2. funzione teor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3. funzione pra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4. funzione di ricer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Funzione stor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Studio dello sviluppo storico e della nascita di questa mate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Acquisizione di conoscenze approfondite sulle procedure e tecniche didattiche p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ù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  <a:ea typeface="Arial"/>
              </a:rPr>
              <a:t> efficaci nella storia di questo insegnam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  <a:ea typeface="Arial"/>
              </a:rPr>
              <a:t>Utile per evitare soluzioni didattiche superate e inefficac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Funzione teor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560" y="2421000"/>
            <a:ext cx="7921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Studio della base teorica di questo insegnam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Esempi di elementi teorico-didattici sempre validi: - per conoscere la real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, partire dalla percezione sensibile della real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  <a:ea typeface="Arial"/>
              </a:rPr>
              <a:t> stessa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, passare all’interpretazione verbale per giungere alla comprensione delle regole naturali e social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- tener sempre conto delle caratteristiche psicofisiche dell’alun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Funzione pra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applicazione pratica delle teorie didattiche nella real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  <a:ea typeface="Arial"/>
              </a:rPr>
              <a:t> scolas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  <a:ea typeface="Arial"/>
              </a:rPr>
              <a:t>richiede l’integrazione delle conoscenze storiche, teoriche e pratich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è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  <a:ea typeface="Arial"/>
              </a:rPr>
              <a:t> abilitato all’insegnamento chi conosce ben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  <a:ea typeface="Arial"/>
              </a:rPr>
              <a:t>i contenuti e gli obiettivi dell’insegnam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  <a:ea typeface="Arial"/>
              </a:rPr>
              <a:t>le tecnologie educative, i mezzi e gli strumenti didattic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  <a:ea typeface="Arial"/>
              </a:rPr>
              <a:t>le strategie, i metodi e le tecniche didattich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  <a:ea typeface="Arial"/>
              </a:rPr>
              <a:t>il processo della programmazio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  <a:ea typeface="Arial"/>
              </a:rPr>
              <a:t>il processo e le tecniche della valutazione (alunni e ins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  <a:ea typeface="Arial"/>
              </a:rPr>
              <a:t>le forme di lavoro extrascolastic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Funzione di ricer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Saper eseguire ricerche scientifiche sul processo di insegnamento-apprendimento per aumentarne l’efficacia, migliorarlo e perfezionarl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Argomenti di ricerca: problemi nell’insegnamento della Natura e soci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  <a:ea typeface="Arial"/>
              </a:rPr>
              <a:t> a livello individuale, della classe, della scuola, di un settore scolast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  <a:ea typeface="Arial"/>
              </a:rPr>
              <a:t>Ruolo di primo piano nelle ricerche spetta all’insegnante di classe, oltre che agli esper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66"/>
                </a:solidFill>
                <a:latin typeface="Arial"/>
              </a:rPr>
              <a:t>I problemi della Didattica della </a:t>
            </a:r>
            <a:br>
              <a:rPr sz="3200"/>
            </a:br>
            <a:r>
              <a:rPr b="1" lang="hr-HR" sz="3200" spc="-1" strike="noStrike">
                <a:solidFill>
                  <a:srgbClr val="006666"/>
                </a:solidFill>
                <a:latin typeface="Arial"/>
              </a:rPr>
              <a:t>natura e societ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Tahoma"/>
              </a:rPr>
              <a:t>à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Campo di studio difficile da defin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Problematica specifica non trattata da altre didattich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Aspetto interdisciplin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6:19:02Z</dcterms:created>
  <dc:creator>Miro</dc:creator>
  <dc:description/>
  <dc:language>en-US</dc:language>
  <cp:lastModifiedBy>Miro</cp:lastModifiedBy>
  <dcterms:modified xsi:type="dcterms:W3CDTF">2010-10-18T18:54:54Z</dcterms:modified>
  <cp:revision>5</cp:revision>
  <dc:subject/>
  <dc:title>Concetto e obiettivi della Didattica della natura e società</dc:title>
</cp:coreProperties>
</file>