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F85-B6FE-443B-98FC-E3429F58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793-DDCD-4670-AC4C-EB75D82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7F7-767F-4096-A05F-16EE33B1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63C-0D5E-4289-ADB0-747542FE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4BA0-2A2D-4CC3-8533-6B28D0A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3121-6179-4BFB-ACAB-A55AE40C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E63E-8C76-4AA8-94C2-3E233FA4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781B-9807-41F1-9794-16DE307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7E5E-9343-432B-B657-780C4DD9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8A1F-33C8-4C0D-BED1-75FB12F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1C31-D136-4E80-8F7B-ED1B3BA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BB3-4392-4B81-84FA-04E37C6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9E2-4304-4116-AFBE-B6D6947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8FBB-122B-467A-8E62-60FFA14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AB73-2BFC-4B9F-B650-542C64F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9BA2-F8FD-428D-BDDE-F86B8792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6C3-5DD1-4DCC-9DE8-93DF712A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C813-0AE4-4A33-9F40-4C30B99C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A45C-C28A-4F63-8C85-237FEF74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B1CB-AE1A-478C-A06A-66973A5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8311-17E4-43DC-BEE7-9AF199F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4C50-40F7-4B35-8B95-CBD234E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DEE-D679-4FA1-81A4-254A203F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A07A-261E-453E-9888-75CD5D9E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82A5-0EF3-4C25-8473-2D838B9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77F0-57D7-44BC-8649-A8F4363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44DF-BA5E-4DF0-8D5B-01474B2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9E12-5917-4B14-BEA7-296CF10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15F8-2CFE-4D5E-84D3-1A635E1D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56FB-3BE0-41B9-968B-F85002C4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639F-C588-48BF-A702-E46EE346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9CA4-6E20-4C03-829D-5CDEA5DC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5203-742D-4182-83F5-C671783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E14-8FCC-40D5-A29A-02DFCEA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A7A6-DB4F-4A3C-B565-A9E9B089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73B5-998D-4DB9-8CE5-41BCCE29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31B9-1A5E-4B18-9249-A3F4E86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315E-5475-4559-85EE-DCDF74D9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E58F-AD84-4233-9AB0-7789AF9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AA8E-80D1-4C00-90DC-34A956B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6C24-6762-4EAC-BF96-D9987641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FFDE-2A95-4668-8872-48C58AFA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76DB-0AD7-4107-81B8-ACF07991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0828-CBF9-413C-B87B-1865E32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AAF-D1A5-4AE6-85B9-80A26E33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DF2E-A014-45C9-8613-68049A9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028F-C49A-423A-A581-A0975CAB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5CF1-8049-429C-AFE8-4785AE1C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3F46-2B2F-4685-A9CE-91A51F9A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CEE9-F679-4A08-91CC-930C513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AC4D-D16E-4B15-B570-77C2CF7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B101-8FF4-4C4C-B9E5-BF04581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11EB-7400-443A-8E87-9D2A4F7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52FF-8D42-4A3D-9B74-5527A42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7524-6C20-4302-B679-9629E504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455-7023-49B4-9F0E-4E9E22F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B5F7-0AED-45E6-9BAB-A47CF55E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67B5-3D30-4C42-840B-9F566AE3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AD9C-6606-4C83-B9AB-7EF3731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BD50-9C9A-4ADD-BE3C-FD1C611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54BDE-D651-492A-85FD-4253DC7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CECA-EB3E-4430-A397-ACD1683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0B56-1B84-4195-9290-94AD08D6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C7D4-C1AE-4298-A9E9-C51BEC3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3B7A-F0C4-444D-9252-A91D312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EB9D-983C-4938-B6E8-1C0F989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46A-B191-42E0-B326-F497781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236D-C2E1-4A5C-A2EE-475ABBC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A4CB-D348-4F0C-BFDE-E876B4CD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5B9F-02F6-4B45-B4DA-F4CCD71A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FB54-10A4-4F97-8108-439952E7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4E87-3098-4A54-A95F-4FE5B6D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2663-CAC0-41D6-9722-11289F1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8F94-16D1-4E4A-913C-259A079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50E5-047C-411D-B544-06DA3EE9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18C5C-71BE-4E59-BF01-DC9AC077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2592-5909-48E4-87F5-2BF51A1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F48-C31E-4623-89AC-249BD1C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6E47-55E7-4D8B-BB5E-2A72A01C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6773-5623-4E5F-A907-6F8B4B9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77BB-EF43-4189-B1E5-B6FB90BE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1FB5-D570-4D77-8695-706A9133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F6B4-C666-448D-AFBD-F3E9D537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30C-EB48-46BA-868A-27AF8CD1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5004-930C-486F-9C2F-C5D78722B9CD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6BB-991F-4B26-A123-406ABB49F8AC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A81-A233-41F2-9877-27088707C43E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35CC-647B-4835-9BD4-A071C580F939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27A3-6949-4F6F-98CB-9A19B7F1551D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ED1-1B09-4097-9B3A-671D10861A1A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8CC-31CA-4D76-B179-E32F52494D68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188640"/>
            <a:ext cx="68850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030a0"/>
                </a:solidFill>
                <a:latin typeface="Comic Sans MS"/>
              </a:rPr>
              <a:t>IL PROCESSO DI CONOSCENZA NELL’INSEGNAMENTO DELLA NATURA E SOCIET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  <a:ea typeface="Arial"/>
              </a:rPr>
              <a:t>À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360" y="4941360"/>
            <a:ext cx="7786440" cy="1535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0102"/>
                </a:solidFill>
                <a:latin typeface="Comic Sans MS"/>
              </a:rPr>
              <a:t>Docente</a:t>
            </a:r>
            <a:r>
              <a:rPr b="0" lang="en-US" sz="2600" spc="-1" strike="noStrike">
                <a:solidFill>
                  <a:srgbClr val="0f0102"/>
                </a:solidFill>
                <a:latin typeface="Comic Sans MS"/>
              </a:rPr>
              <a:t>: Mr.sc. Nevia Močinić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0102"/>
                </a:solidFill>
                <a:latin typeface="Comic Sans MS"/>
              </a:rPr>
              <a:t>Corso di studio: Insegnamento di classe I</a:t>
            </a:r>
            <a:r>
              <a:rPr b="0" lang="hr-HR" sz="2600" spc="-1" strike="noStrike">
                <a:solidFill>
                  <a:srgbClr val="0f0102"/>
                </a:solidFill>
                <a:latin typeface="Gill Sans MT"/>
              </a:rPr>
              <a:t>V</a:t>
            </a:r>
            <a:r>
              <a:rPr b="0" lang="en-US" sz="2600" spc="-1" strike="noStrike">
                <a:solidFill>
                  <a:srgbClr val="0f0102"/>
                </a:solidFill>
                <a:latin typeface="Comic Sans MS"/>
              </a:rPr>
              <a:t> an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Es.</a:t>
            </a:r>
            <a:br>
              <a:rPr sz="2800"/>
            </a:b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L’orientamento con il sole e altri mezzi:impossibile organizzare in cl</a:t>
            </a:r>
            <a:r>
              <a:rPr b="0" lang="hr-HR" sz="2800" spc="-1" strike="noStrike">
                <a:solidFill>
                  <a:srgbClr val="0f0102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sse perch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é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8400" y="1904760"/>
            <a:ext cx="87152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in classe non si pu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ò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vedere il Sole che sorge e tramo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on si pu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ò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vedere il moto apparente del Sole nel ciel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on si pu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ò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vedere l’orizzonte e la linea dell’orizzo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on si puossono trovare i punti cardinali con l’aiuto del So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on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possibile l’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r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ientamento con il formicai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 o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con il muschio sugli alber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213840" y="213840"/>
            <a:ext cx="8929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Tuttavia in classe si può svolgere il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CONSOLIDAMENT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, la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SISTEMATIZZAZIONE</a:t>
            </a:r>
            <a:r>
              <a:rPr b="1" lang="en-US" sz="28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l’AMPLIAMENT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 del sapere sull’orientamento nello spazio con l’aiuto di trasmissioni televisive, di videocassette, o di altro materiale didatt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Le esperienze dirette organizzate durante le escursioni scolastiche sono molto importanti perchè permettono di conoscere la natura e l’ambiente sociale in prima persona. Prima di realizzare un’escursione bisogna prepararla dettagliatame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85840" y="428400"/>
            <a:ext cx="8858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In particolare bisogna tener con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Della stagione adat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l tempo atmosfer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Programmare in anticipo che cosa, dove, quando e come verrà osservat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zare concretamente l’escurs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omic Sans MS"/>
              </a:rPr>
              <a:t>Informarsi e prepararsi per l’escurs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0102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Preparare gli alun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Comic Sans MS"/>
              </a:rPr>
              <a:t>Trovare altri esperti che saranno d’aiuto nel corso dell’escurs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571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Le esperenze dirette e mediate vengono chiamate anche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OSSERVAZIONE DIRETTA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MEDIATA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 perchè il senso maggiormente interessato è la 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A seconda del criterio adottato le osservazioni (esperienza visuale) possono esse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f29b8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29b8"/>
                </a:solidFill>
                <a:latin typeface="Comic Sans MS"/>
              </a:rPr>
              <a:t>osservazione autonoma e gui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osservazione strutturata e osservazione scientif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osservazione collettiva, a gruppi, individu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osservazione a breve termine, a lungo ter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servazioni fenologic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Comic Sans MS"/>
              </a:rPr>
              <a:t>1. OSSERVAZIONE AUTONOMA E GUIDATA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14200" y="1428840"/>
            <a:ext cx="8631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Sia nell’uno che nell’altro tipo di osservazioni, la presenza dell’insegnante è indispensabile, ma nell’osservazione autonoma è quasi trascurabile mentre in  quella guidata è particolarmente accentu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I e II classe- 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senza l’aiuto dell’insegnante gli alunni sarebbero abbandonati a sè stessi e a inutili perdite di temp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III e IV- 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l’osservazione degli alunni diventa sempre più autonoma; è il risultato dello sviluppo psicofisico degli alunni ma anche dell’esercizio sistemat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2060"/>
                </a:solidFill>
                <a:uFillTx/>
                <a:latin typeface="Comic Sans MS"/>
              </a:rPr>
              <a:t>2. OSSERVAZIONI STRUTTURATE E OSSERVAZIONI SCIENTIFICH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00040" y="178560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Gill Sans MT"/>
              </a:rPr>
              <a:t>L’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ss.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trutturata è caratteristica per la I e II classe, e preve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a descrizione del colore, della forma, della linea di bordo di una fogli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la descrizione delle caratteristiche morfologiche di un piccolo animale o delle parti accessibili media</a:t>
            </a:r>
            <a:r>
              <a:rPr b="0" lang="hr-HR" sz="2800" spc="-1" strike="noStrike">
                <a:solidFill>
                  <a:srgbClr val="7030a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e la dissezi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la descrizione di un frutto (dall’interno e dall’estern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5480" y="214200"/>
            <a:ext cx="8559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L’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ss. scientifica è caratteristica per la III e IV classe, ed esige un progetto di osservazio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df29b8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29b8"/>
                </a:solidFill>
                <a:latin typeface="Comic Sans MS"/>
              </a:rPr>
              <a:t>Scelta del fenomeno, oggetto o processo da osserva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revisione delle fasi di osservazi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elta di strumenti e metodi di mis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6d6d00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00"/>
                </a:solidFill>
                <a:latin typeface="Comic Sans MS"/>
              </a:rPr>
              <a:t>Costruzione di tabelle e grafi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Confronti dei risultati per individuare somiglianze, differenze, interrelazioni, conne</a:t>
            </a:r>
            <a:r>
              <a:rPr b="0" lang="hr-HR" sz="28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sioni, rapporti di causa-effet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Ordinamento dei dati e sintesi conclus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2060"/>
                </a:solidFill>
                <a:uFillTx/>
                <a:latin typeface="Comic Sans MS"/>
              </a:rPr>
              <a:t>3.OSSERVAZIONI COLLETTIVE, A GRUPPI, INDIVIDUALI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8584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Oss. a gruppi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si applica nel lavoro a gruppi in classe, nel vivaio o nel giardino scolastico, durante l’escursione, ecc. Ogni gruppo deve avere un compito, all’inizio semplice ed in seguito più compless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Oss. individuale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si applica quando gli alunni sono in grado di osservare in modo autonom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f29b8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analizzare il contenuto delle illustrazioni nel libro di testo (I e II cl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f29b8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creare il calendario del tempo (II cl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f29b8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esecuzione dei compiti per casa (osservazione dei vari tipi d negozi nella via in cui si abita, oss. </a:t>
            </a:r>
            <a:r>
              <a:rPr b="1" lang="hr-HR" sz="2400" spc="-1" strike="noStrike">
                <a:solidFill>
                  <a:srgbClr val="99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ei fiori in giardin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Comic Sans MS"/>
              </a:rPr>
              <a:t>4.OSSERVAZIONI A BREVE TERMINE E A LUNGO TERMI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14200" y="114264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s. </a:t>
            </a: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breve termine-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oss. di breve durata (da alcuni minuti ad alcune or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l’effetto del calore sui liqui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la combustione e l’ossigeno, la combustione e l’anidride carbon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6122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gli esperimenti sulle caratteristiche dell’a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s. a lungo termine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durano a lungo (da a</a:t>
            </a:r>
            <a:r>
              <a:rPr b="1" lang="hr-HR" sz="2400" spc="-1" strike="noStrike">
                <a:solidFill>
                  <a:srgbClr val="0f0102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cuni giorni ad un anno scolastico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osservazione dello sviluppo di una pia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osservazione del tempo stagion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2060"/>
                </a:solidFill>
                <a:uFillTx/>
                <a:latin typeface="Comic Sans MS"/>
              </a:rPr>
              <a:t>5.OSSERVAZIONI FENOLOGICH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1384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Sono più note nella biologia ma si applicano anche nell’insegnamento della natura e società per i contenuti di carattere biolog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La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fenologia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è la parte della biologia che studia le modificazioni visibili e lo sviluppo di vegetali e animali nel corso di un anno e la </a:t>
            </a:r>
            <a:r>
              <a:rPr b="1" lang="hr-HR" sz="2400" spc="-1" strike="noStrike">
                <a:solidFill>
                  <a:srgbClr val="0f0102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ipendenza di queste modificazioni da fattori climatici e morfologici. Sono limitate alle modificazioni della natura organica nel corso dell’an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OSSERVAZIONE F</a:t>
            </a:r>
            <a:r>
              <a:rPr b="1" lang="hr-HR" sz="2400" spc="-1" strike="noStrike">
                <a:solidFill>
                  <a:srgbClr val="0f0102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NOLOGICA DEI VEGETALI: fase di crescita, fioritura, fase</a:t>
            </a:r>
            <a:r>
              <a:rPr b="1" lang="hr-HR" sz="2400" spc="-1" strike="noStrike">
                <a:solidFill>
                  <a:srgbClr val="0f0102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di maturazione dei frutti, fase della caduta delle foglie, fase del riposo inverna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28440" y="836280"/>
            <a:ext cx="7783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40c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Per </a:t>
            </a:r>
            <a:r>
              <a:rPr b="1" lang="hr-HR" sz="3200" spc="-1" strike="noStrike" u="sng">
                <a:solidFill>
                  <a:srgbClr val="002060"/>
                </a:solidFill>
                <a:uFillTx/>
                <a:latin typeface="Comic Sans MS"/>
              </a:rPr>
              <a:t>acquisizione intel</a:t>
            </a:r>
            <a:r>
              <a:rPr b="1" lang="hr-HR" sz="3200" spc="-1" strike="noStrike" u="sng">
                <a:solidFill>
                  <a:srgbClr val="002060"/>
                </a:solidFill>
                <a:uFillTx/>
                <a:latin typeface="Times New Roman"/>
              </a:rPr>
              <a:t>l</a:t>
            </a:r>
            <a:r>
              <a:rPr b="1" lang="hr-HR" sz="3200" spc="-1" strike="noStrike" u="sng">
                <a:solidFill>
                  <a:srgbClr val="002060"/>
                </a:solidFill>
                <a:uFillTx/>
                <a:latin typeface="Comic Sans MS"/>
              </a:rPr>
              <a:t>ettuale</a:t>
            </a:r>
            <a:r>
              <a:rPr b="0" lang="hr-HR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in generale si intende il processo di conquista del sapere sulla real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Tale processo serve alle persone per giungere alla comprensione dell’ambiente circostante, alla formazione di opinioni su di esso e per risolvere problemi che si presentano lo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Comic Sans MS"/>
              </a:rPr>
              <a:t>LE CARATTERISTICHE PSICOLOGICHE DELL’OSSERVAZIONE NEI BAMBIN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5712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L’osservazione dei bambini si differenzia notevolmente da quella dell’adulto. Essa dipende dallo sviluppo psico-fisico complessivo della sua personalità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In particolare dipende d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do di percepire la realtà ogget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grado di sviluppo della capacità di attenzione selet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le caratteristiche del pensiero infant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d</a:t>
            </a:r>
            <a:r>
              <a:rPr b="0" lang="hr-HR" sz="2800" spc="-1" strike="noStrike">
                <a:solidFill>
                  <a:srgbClr val="7030a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lla sua fantasia, dalla volontà e dalle emozio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. MODO DI PERCEPIRE LA REALTÀ OGGETTIV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14200" y="1071720"/>
            <a:ext cx="8631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Il bambino in età scolare percepisce il mondo intorno a sè in modo sincretico. Ciò significa che egli vive la realtà come qualcosa di globale, </a:t>
            </a:r>
            <a:r>
              <a:rPr b="1" lang="hr-HR" sz="2400" spc="-1" strike="noStrike">
                <a:solidFill>
                  <a:srgbClr val="0f0102"/>
                </a:solidFill>
                <a:latin typeface="Comic Sans MS"/>
              </a:rPr>
              <a:t>un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 insieme </a:t>
            </a:r>
            <a:r>
              <a:rPr b="1" lang="hr-HR" sz="2400" spc="-1" strike="noStrike">
                <a:solidFill>
                  <a:srgbClr val="0f0102"/>
                </a:solidFill>
                <a:latin typeface="Comic Sans MS"/>
              </a:rPr>
              <a:t>in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distinto di oggetti, fenomeni e processi. I particolari che riesce a notare non li mette in relazione con </a:t>
            </a:r>
            <a:r>
              <a:rPr b="1" lang="hr-HR" sz="2400" spc="-1" strike="noStrike">
                <a:solidFill>
                  <a:srgbClr val="0f0102"/>
                </a:solidFill>
                <a:latin typeface="Comic Sans MS"/>
              </a:rPr>
              <a:t>il 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tutto, nè in relazione con altri particola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Es.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f0102"/>
                </a:solidFill>
                <a:latin typeface="Comic Sans MS"/>
              </a:rPr>
              <a:t>Vede il bosco ma non gli alberi e vicevers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f0102"/>
                </a:solidFill>
                <a:latin typeface="Comic Sans MS"/>
              </a:rPr>
              <a:t>Il bambino osserva con difficoltà le somiglianze e le differenze. Gli esperimenti in psicologia fanno notare che il bambino incontra notevoli difficoltà nell’individuare il rapporto fra la parte ed il tut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ff"/>
                </a:solidFill>
                <a:latin typeface="Gill Sans MT"/>
              </a:rPr>
              <a:t>2.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ado di sviluppo della capacità di attenzione selettiva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a8a14"/>
                </a:solidFill>
                <a:latin typeface="Gill Sans MT"/>
              </a:rPr>
              <a:t>L’attenzione del bambino </a:t>
            </a:r>
            <a:r>
              <a:rPr b="0" lang="en-US" sz="2800" spc="-1" strike="noStrike">
                <a:solidFill>
                  <a:srgbClr val="aa8a14"/>
                </a:solidFill>
                <a:latin typeface="Gill Sans MT"/>
                <a:ea typeface="Arial"/>
              </a:rPr>
              <a:t>è</a:t>
            </a: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a8a14"/>
                </a:solidFill>
                <a:latin typeface="Gill Sans MT"/>
              </a:rPr>
              <a:t>casuale (trattenuta da ci</a:t>
            </a:r>
            <a:r>
              <a:rPr b="0" lang="en-US" sz="2800" spc="-1" strike="noStrike">
                <a:solidFill>
                  <a:srgbClr val="aa8a14"/>
                </a:solidFill>
                <a:latin typeface="Gill Sans MT"/>
                <a:ea typeface="Arial"/>
              </a:rPr>
              <a:t>ò</a:t>
            </a: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 che </a:t>
            </a:r>
            <a:r>
              <a:rPr b="0" lang="en-US" sz="2800" spc="-1" strike="noStrike">
                <a:solidFill>
                  <a:srgbClr val="aa8a14"/>
                </a:solidFill>
                <a:latin typeface="Gill Sans MT"/>
                <a:ea typeface="Arial"/>
              </a:rPr>
              <a:t>è</a:t>
            </a: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: interessante, in movimento, ha colori viva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poco selettiva (incapace di separare l’essenziale dal margina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non </a:t>
            </a:r>
            <a:r>
              <a:rPr b="0" lang="en-US" sz="2800" spc="-1" strike="noStrike">
                <a:solidFill>
                  <a:srgbClr val="aa8a14"/>
                </a:solidFill>
                <a:latin typeface="Gill Sans MT"/>
                <a:ea typeface="Arial"/>
              </a:rPr>
              <a:t>è</a:t>
            </a: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 ampia (incapace di abbracciare tanti particolari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8a14"/>
                </a:solidFill>
                <a:latin typeface="Gill Sans MT"/>
                <a:ea typeface="Arial"/>
              </a:rPr>
              <a:t>è</a:t>
            </a:r>
            <a:r>
              <a:rPr b="0" lang="hr-HR" sz="2800" spc="-1" strike="noStrike">
                <a:solidFill>
                  <a:srgbClr val="aa8a14"/>
                </a:solidFill>
                <a:latin typeface="Gill Sans MT"/>
                <a:ea typeface="Arial"/>
              </a:rPr>
              <a:t> instabile e di breve dur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b0f0"/>
                </a:solidFill>
                <a:latin typeface="Comic Sans MS"/>
              </a:rPr>
              <a:t>3</a:t>
            </a:r>
            <a:r>
              <a:rPr b="0" lang="hr-HR" sz="3200" spc="-1" strike="noStrike">
                <a:solidFill>
                  <a:srgbClr val="00b050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le caratteristiche del pensiero infantile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f0"/>
                </a:solidFill>
                <a:latin typeface="Gill Sans MT"/>
              </a:rPr>
              <a:t>Periodo dell’intelligenza senso-motoria: 0-2 anni; assenza componente simbol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f0"/>
                </a:solidFill>
                <a:latin typeface="Gill Sans MT"/>
              </a:rPr>
              <a:t>Periodo preoperatorio: 2-7 anni; pensiero intuitivo; non c’</a:t>
            </a:r>
            <a:r>
              <a:rPr b="0" lang="en-US" sz="2800" spc="-1" strike="noStrike">
                <a:solidFill>
                  <a:srgbClr val="00b0f0"/>
                </a:solidFill>
                <a:latin typeface="Gill Sans MT"/>
                <a:ea typeface="Arial"/>
              </a:rPr>
              <a:t>è</a:t>
            </a:r>
            <a:r>
              <a:rPr b="0" lang="hr-HR" sz="2800" spc="-1" strike="noStrike">
                <a:solidFill>
                  <a:srgbClr val="00b0f0"/>
                </a:solidFill>
                <a:latin typeface="Gill Sans MT"/>
                <a:ea typeface="Arial"/>
              </a:rPr>
              <a:t> separazione netta tra motivi e immagini interiori e realt</a:t>
            </a:r>
            <a:r>
              <a:rPr b="0" lang="en-US" sz="2800" spc="-1" strike="noStrike">
                <a:solidFill>
                  <a:srgbClr val="00b0f0"/>
                </a:solidFill>
                <a:latin typeface="Gill Sans MT"/>
                <a:ea typeface="Arial"/>
              </a:rPr>
              <a:t>à </a:t>
            </a:r>
            <a:r>
              <a:rPr b="0" lang="hr-HR" sz="2800" spc="-1" strike="noStrike">
                <a:solidFill>
                  <a:srgbClr val="00b0f0"/>
                </a:solidFill>
                <a:latin typeface="Gill Sans MT"/>
              </a:rPr>
              <a:t>ester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f0"/>
                </a:solidFill>
                <a:latin typeface="Gill Sans MT"/>
              </a:rPr>
              <a:t>Periodo operatorio concreto: 7-11 anni; uso sempre pi</a:t>
            </a:r>
            <a:r>
              <a:rPr b="0" lang="en-US" sz="2800" spc="-1" strike="noStrike">
                <a:solidFill>
                  <a:srgbClr val="00b0f0"/>
                </a:solidFill>
                <a:latin typeface="Gill Sans MT"/>
                <a:ea typeface="Arial"/>
              </a:rPr>
              <a:t>ù</a:t>
            </a:r>
            <a:r>
              <a:rPr b="0" lang="hr-HR" sz="2800" spc="-1" strike="noStrike">
                <a:solidFill>
                  <a:srgbClr val="00b0f0"/>
                </a:solidFill>
                <a:latin typeface="Gill Sans MT"/>
                <a:ea typeface="Arial"/>
              </a:rPr>
              <a:t> frequente di simboli; nel risolvere problemi importante l’esperienza concre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f0"/>
                </a:solidFill>
                <a:latin typeface="Gill Sans MT"/>
              </a:rPr>
              <a:t>Periodo del pensiero simbolico: 11-15 an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030a0"/>
                </a:solidFill>
                <a:latin typeface="Times New Roman"/>
              </a:rPr>
              <a:t>4. </a:t>
            </a:r>
            <a:r>
              <a:rPr b="0" lang="hr-HR" sz="3600" spc="-1" strike="noStrike">
                <a:solidFill>
                  <a:srgbClr val="7030a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a fantasia, la volontà e le emozioni</a:t>
            </a:r>
            <a:r>
              <a:rPr b="0" lang="hr-HR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7030a0"/>
                </a:solidFill>
                <a:latin typeface="Arial"/>
              </a:rPr>
              <a:t>del bambino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7720" y="1904760"/>
            <a:ext cx="80074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ill Sans MT"/>
              </a:rPr>
              <a:t>Distinzione incerta tra fantasia e realt</a:t>
            </a:r>
            <a:r>
              <a:rPr b="0" lang="en-US" sz="3200" spc="-1" strike="noStrike">
                <a:solidFill>
                  <a:srgbClr val="666699"/>
                </a:solidFill>
                <a:latin typeface="Gill Sans MT"/>
                <a:ea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ill Sans MT"/>
                <a:ea typeface="Arial"/>
              </a:rPr>
              <a:t>Grado di motivazione al succes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ill Sans MT"/>
                <a:ea typeface="Arial"/>
              </a:rPr>
              <a:t>Capacit</a:t>
            </a:r>
            <a:r>
              <a:rPr b="0" lang="en-US" sz="3200" spc="-1" strike="noStrike">
                <a:solidFill>
                  <a:srgbClr val="666699"/>
                </a:solidFill>
                <a:latin typeface="Gill Sans MT"/>
                <a:ea typeface="Arial"/>
              </a:rPr>
              <a:t>à</a:t>
            </a:r>
            <a:r>
              <a:rPr b="0" lang="hr-HR" sz="3200" spc="-1" strike="noStrike">
                <a:solidFill>
                  <a:srgbClr val="666699"/>
                </a:solidFill>
                <a:latin typeface="Gill Sans MT"/>
                <a:ea typeface="Arial"/>
              </a:rPr>
              <a:t> di controllare gli impulsi e le emozio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ill Sans MT"/>
                <a:ea typeface="Arial"/>
              </a:rPr>
              <a:t>Capacit</a:t>
            </a:r>
            <a:r>
              <a:rPr b="0" lang="en-US" sz="3200" spc="-1" strike="noStrike">
                <a:solidFill>
                  <a:srgbClr val="666699"/>
                </a:solidFill>
                <a:latin typeface="Gill Sans MT"/>
                <a:ea typeface="Arial"/>
              </a:rPr>
              <a:t>à</a:t>
            </a:r>
            <a:r>
              <a:rPr b="0" lang="hr-HR" sz="3200" spc="-1" strike="noStrike">
                <a:solidFill>
                  <a:srgbClr val="666699"/>
                </a:solidFill>
                <a:latin typeface="Gill Sans MT"/>
                <a:ea typeface="Arial"/>
              </a:rPr>
              <a:t> di differire la gratificazione (dipende dai modelli che fungono da esempi, da elogi e ricompense materiali, dalla fiducia negli adulti che mantengono o meno le promess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42600" y="188640"/>
            <a:ext cx="8250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L’insegnamento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un processo di conoscenza specifico perch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il modo di raggiungere nuove conoscenze non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uguale per gli scienziati e per gli alunn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L’alunno scopre ci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ò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che nella scienza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stato gi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scoperto ma il procedimento seguito sia dall’uno che dall’altro ha molti elementi in comun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Il processo di conoscenza inizia dall’esperienza diretta, segue la rappresentazione simbolica e il pensiero astratto e infine l’applicazione pra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Comunque anche nella scienza il punto d’appoggio per la ricerca non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sempre l’osservazio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n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e diretta della real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7" descr="einstein"/>
          <p:cNvPicPr/>
          <p:nvPr/>
        </p:nvPicPr>
        <p:blipFill>
          <a:blip r:embed="rId1"/>
          <a:stretch/>
        </p:blipFill>
        <p:spPr>
          <a:xfrm>
            <a:off x="250920" y="1700280"/>
            <a:ext cx="3687840" cy="4968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140000" y="1844280"/>
            <a:ext cx="467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s.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Albert Enstein 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è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 arrivato  ad alcune conclusioni tramite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 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calcoli matematici e solo pi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ù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 tardi le sue affermazioni sono state confermate e dimostrate in laboratorio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78920" y="259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In base ai risultati delle ricerche scientifiche in psicologia e pedagogia e alla teoria sulla conoscenza  si pu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ò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affermare che gli alunni possono apprendere i contenuti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della natura e socie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in quattro mod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Tramite l’esperienza diretta e mediata-esperienza sensib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Comic Sans MS"/>
              </a:rPr>
              <a:t>Tramite la parola dell’insegnante e di altri esperti-ragionamento e pensiero astrat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Comic Sans MS"/>
              </a:rPr>
              <a:t>Tramite i libri di testo e altre fonti scritte-ragionamento e pensiero astrat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f0102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Tramite le esercitazioni pratiche-esperienza sensib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42600" y="21420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L’esprienza diretta dell’alunno dovrebbe avere importanza fondmentale ma ci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ò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 non significa che, se l’alunno apprende in altri modi, le sue conoscenze saranno incomplete, poco chiare o erra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Nell’insegnamento della natura e socie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  <a:ea typeface="Arial"/>
              </a:rPr>
              <a:t> non si deve sopravvalutare la parola dell’insegnante o di altre persone per non correre il rischio di rendere gli alunni passivi e il loro sapere formale (nozionistico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L’ESPERIENZA DIRETTA E MEDIATA NELL’INSEGNAMENTO DELLA NATURA E SOCIET</a:t>
            </a:r>
            <a:r>
              <a:rPr b="0" lang="en-US" sz="2800" spc="-1" strike="noStrike">
                <a:solidFill>
                  <a:srgbClr val="002060"/>
                </a:solidFill>
                <a:latin typeface="Comic Sans MS"/>
              </a:rPr>
              <a:t>À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28440" y="1643040"/>
            <a:ext cx="7934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ella teoria didattica l’esperienza diretta e mediata si studiano separatam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00000"/>
                </a:solidFill>
                <a:uFillTx/>
                <a:latin typeface="Comic Sans MS"/>
              </a:rPr>
              <a:t>Esperienza diretta</a:t>
            </a:r>
            <a:r>
              <a:rPr b="0" lang="hr-HR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-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percepire con i sensi la real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es. </a:t>
            </a:r>
            <a:r>
              <a:rPr b="0" i="1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conoscere il gatto dal vi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00000"/>
                </a:solidFill>
                <a:uFillTx/>
                <a:latin typeface="Comic Sans MS"/>
                <a:ea typeface="Arial"/>
              </a:rPr>
              <a:t>Esperenza mediata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-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percepire la real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tramite i mezzi didattici ovvero percepire una real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 trasformata didatticame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es. </a:t>
            </a:r>
            <a:r>
              <a:rPr b="0" i="1" lang="hr-HR" sz="2800" spc="-1" strike="noStrike">
                <a:solidFill>
                  <a:srgbClr val="0f0102"/>
                </a:solidFill>
                <a:latin typeface="Comic Sans MS"/>
                <a:ea typeface="Arial"/>
              </a:rPr>
              <a:t>conoscere il gatto tramite illustrazioni,  la videocassetta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5056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L’esperienza diretta e mediata sono i modi di conoscere pi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ù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 importanti della natura e socie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Esse offrono all’alunno la possibili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 di conoscere la real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 tramite la percezione sensibile e di formare nella mente concetti chiari e corretti sulla realt</a:t>
            </a:r>
            <a:r>
              <a:rPr b="0" lang="en-US" sz="32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 circostan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f0102"/>
                </a:solidFill>
                <a:latin typeface="Comic Sans MS"/>
              </a:rPr>
              <a:t>L’esperienza diretta e mediata hanno alcune caratteristiche che le distinguono dall’esperienza causale, involontari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4920" y="33336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Conoscere tramite l’esperienza diretta a scuola significa conoscere con i sensi gli oggetti, i fenomeni e i processi della realt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in modo pianificato e organizza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L’esperienza mediata 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è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invece l’apprendimento pi</a:t>
            </a:r>
            <a:r>
              <a:rPr b="0" lang="hr-HR" sz="2800" spc="-1" strike="noStrike">
                <a:solidFill>
                  <a:srgbClr val="0f0102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nificato e organizzato con l’aiuto di mezzi didattici e della tecnologia moder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Entrambe le esperienze devono essere 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PIANIFICATE</a:t>
            </a: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e</a:t>
            </a: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ORAGANIZZATE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, si devono 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ALTERNARE</a:t>
            </a: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e</a:t>
            </a: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hr-HR" sz="2800" spc="-1" strike="noStrike">
                <a:solidFill>
                  <a:srgbClr val="002060"/>
                </a:solidFill>
                <a:latin typeface="Comic Sans MS"/>
              </a:rPr>
              <a:t>INTEGRARE</a:t>
            </a:r>
            <a:r>
              <a:rPr b="0" lang="hr-HR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e</a:t>
            </a:r>
            <a:r>
              <a:rPr b="0" lang="hr-HR" sz="2800" spc="-1" strike="noStrike">
                <a:solidFill>
                  <a:srgbClr val="0f0102"/>
                </a:solidFill>
                <a:latin typeface="Gill Sans MT"/>
              </a:rPr>
              <a:t>,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f0102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volte</a:t>
            </a:r>
            <a:r>
              <a:rPr b="0" lang="hr-HR" sz="2800" spc="-1" strike="noStrike">
                <a:solidFill>
                  <a:srgbClr val="0f0102"/>
                </a:solidFill>
                <a:latin typeface="Gill Sans MT"/>
              </a:rPr>
              <a:t>,</a:t>
            </a:r>
            <a:r>
              <a:rPr b="0" lang="hr-HR" sz="2800" spc="-1" strike="noStrike">
                <a:solidFill>
                  <a:srgbClr val="0f0102"/>
                </a:solidFill>
                <a:latin typeface="Comic Sans MS"/>
              </a:rPr>
              <a:t> si accavalla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7:49:20Z</dcterms:created>
  <dc:creator>korisnik</dc:creator>
  <dc:description/>
  <dc:language>en-US</dc:language>
  <cp:lastModifiedBy>Miro</cp:lastModifiedBy>
  <dcterms:modified xsi:type="dcterms:W3CDTF">2014-09-21T18:15:23Z</dcterms:modified>
  <cp:revision>49</cp:revision>
  <dc:subject/>
  <dc:title>IL PROCESSO DI CONOSCENZA NELL’INSEGNAMENTO DELLA NATURA E SOCIETÀ</dc:title>
</cp:coreProperties>
</file>