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D48-A923-4F9D-BBF3-35E16206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FF4-2FA3-4A32-9B90-C5290515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BE5-B1D5-4059-A827-E884018D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77F-85AA-42B8-8FC4-2D753645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A348-5CF4-4527-9999-624956E0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D40-F75F-45D4-B10F-BBCE1C6F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E367-0F2B-4CD2-A49E-A3FECAB0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C743-CD82-40BE-9CC1-473C0BF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53C-62AB-4D6D-AD31-811B195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902-B625-4D96-8FA0-6932E51A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7996-37CF-431A-A946-5BEEE71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931-3367-427C-8B37-CE231A4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9EFB-5FEC-4A3E-AA7B-DBD09EA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C93-CF67-403B-B520-EE6A093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7D64-74B0-408C-B877-A52DB1E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B94-7A3E-448A-BB49-9E6CE3C2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383-DB02-499F-8313-F0C46842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B015-9EFF-4DB6-9A8B-7D2BB321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332A-55A0-47C9-BA5B-750A992B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4C9C-C83C-4FFD-A0DC-C60FCF99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9C22-60A5-4EA7-A9BF-AE43180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A377-225F-41AC-AF1D-1AAADD17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EFE-1AA1-482F-9FC1-EDDF2CA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6715-171F-4D49-A543-3E47E390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E0E2-3F91-43AB-BE67-37F4F73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3C20-4FBD-4C9E-A30C-3E4375F4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DB5C-94A6-4AAD-8E66-5CFD1D4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5276-E0E0-4299-BC9C-60967316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8435-5DB5-4301-94BD-34C12806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6FC7-AF5E-4510-96F3-46B65C5A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F1B2-577C-4F2C-9089-BBBF840B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61A2-43F7-4276-8DCE-1945906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1DD51-2B86-4E83-A0E6-878EFFBF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2B6-C5A9-4A52-A095-C714EF4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646A-862A-4480-B2FE-A358CBFF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92BA-A09E-488C-860A-C950F04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514B-5978-4798-B4AD-368DF7AB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39C7-2BB6-4257-8F25-977A7CE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40213-32E0-4908-9059-65395EF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CD2D-25EF-4DAE-B130-96FD771F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68D2-B4A1-413C-BF54-3FA34EC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E966-C6E7-4AC2-B5B2-D17A9955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0CF4-D4D8-419E-853D-7E65822E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C1A0-49F0-4E79-AE11-45F722F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1BD-0903-4666-B8D8-4FEB63DF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733C-1388-4AB4-9CB1-7754FF47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A9D3-1887-4CF9-8399-D845AB4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2189-52B6-4D79-B36C-A3802C45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D8CE0-FAD0-4354-A3C4-3815A0C9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DDB7-052F-4E3A-A9F0-B63B504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7C8C-C170-47CC-B4D3-704A7E5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F7E4-995F-40B3-991A-3F0B3FA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CCEE-8895-4A3E-891C-6A5C027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9F23-0D1F-49E6-BF68-9040CFF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4CFF-9339-45DE-AABB-6AD8F28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003-092F-42C4-8AA3-9513FD2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417A8-4C24-4DD0-8C38-84AFD542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69E9-66A9-4917-A85B-5D5D3256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A368-7760-4768-B7E1-4DB950B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CAF7A-71A7-48FB-8846-0E64EA71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DC43-4682-46B5-B340-86D1B4D7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87EF-E2E7-42F5-BF9F-F4D4C168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E4A8-8DEA-4D68-AE76-9B4D23A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BD82-344B-4E49-8C90-0259530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4FA5-E917-43C1-B273-71FE0EA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CFC6-649F-4983-94DC-D946359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FCE-CC2A-4852-981A-6692901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CB5C-EDC6-4D8A-A469-810FDD4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4ECDB-5407-4A3F-A5AD-BF97C7B5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CB3DB-FDE7-4C95-87AE-76A9BD3E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78172-65A6-43FC-B7E3-29F53BAE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3576-3F30-4D35-88C2-B41A634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D235-136B-4ACC-92BD-28FBCA4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220FC-C657-43F7-BFEA-FDDC678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74049-36BF-4A2C-BFDF-A51ACA19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0EAFA-DB1F-4A6D-B50D-37F3ABD1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85D37-F478-4D16-8A10-E28417A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15D-FF5F-4635-80D7-661CA31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9B46-A4F3-44AB-8A40-0E38D9FA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DB90-4BC1-4CB9-842D-F4BB8D1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4DCB0-94B2-42B5-BBC5-2CE03B1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F66E6-070E-4631-A575-3E0C4AE8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7F182-96F0-4A36-AA6F-42DAE0BA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17B-C5BC-471C-AB91-0A599C1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1105-8544-4BD4-9479-992ABEE59DB1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B26B-3AED-4FC5-9D7E-1832F1442329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8B3C-1EEC-4911-B9A8-C49433F61918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5CAC-5C3D-442A-B683-2CB79261B1F1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285F-0B94-40DA-8DEF-F049DEE10F85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863-E21B-4376-9137-726628B551AF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1EE2-03DC-42EB-8970-09DFAFDD2C40}" type="slidenum">
              <a:rPr b="0" lang="hr-H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1214280"/>
            <a:ext cx="7407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572314"/>
                </a:solidFill>
                <a:latin typeface="Gill Sans MT"/>
              </a:rPr>
              <a:t>I CONTENUTI GEOGRAFICI NELLA NATURA E SOCIETÀ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499920"/>
            <a:ext cx="7407000" cy="16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20e04"/>
                </a:solidFill>
                <a:latin typeface="Gill Sans MT"/>
              </a:rPr>
              <a:t>mr.sc. Nevia Močinić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20e04"/>
                </a:solidFill>
                <a:latin typeface="Gill Sans MT"/>
              </a:rPr>
              <a:t>Didattica della natura e societ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20e04"/>
                </a:solidFill>
                <a:latin typeface="Gill Sans MT"/>
              </a:rPr>
              <a:t>Insegnamento di clas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20e04"/>
                </a:solidFill>
                <a:latin typeface="Gill Sans MT"/>
              </a:rPr>
              <a:t>IV ann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ipi di orien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istinguiamo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e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ipi di orientament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rientamento </a:t>
            </a:r>
            <a:r>
              <a:rPr b="0" lang="en-AU" sz="3200" spc="-1" strike="noStrike">
                <a:solidFill>
                  <a:srgbClr val="ff0000"/>
                </a:solidFill>
                <a:latin typeface="Gill Sans MT"/>
              </a:rPr>
              <a:t>egocentrico</a:t>
            </a:r>
            <a:r>
              <a:rPr b="0" lang="hr-HR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li alunni si orientano in base alla propria posizio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rientamento </a:t>
            </a:r>
            <a:r>
              <a:rPr b="0" lang="en-AU" sz="3200" spc="-1" strike="noStrike">
                <a:solidFill>
                  <a:srgbClr val="ff0000"/>
                </a:solidFill>
                <a:latin typeface="Gill Sans MT"/>
              </a:rPr>
              <a:t>allocentric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eterminare la posizione degli oggetti rispetto ad altri punti di riferiment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, al di fuori di se stess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rientament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Gill Sans MT"/>
              </a:rPr>
              <a:t>geocentric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(in base ai punti cardinal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’orientamento geocentr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Content Placeholder 3" descr="orientamento-sole.jpg"/>
          <p:cNvPicPr/>
          <p:nvPr/>
        </p:nvPicPr>
        <p:blipFill>
          <a:blip r:embed="rId1"/>
          <a:stretch/>
        </p:blipFill>
        <p:spPr>
          <a:xfrm>
            <a:off x="1428840" y="1428840"/>
            <a:ext cx="7191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ipi di orientamento geocentr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ell’attività di orientamento con i punti cardinali bisogna distinguere tre fas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rientamento con un punto d’osservazione fis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mbi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nto del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punto d’osservaz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rientamento in una situazione immagina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a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terza fase è il traguardo finale che bisogna raggiunger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’orientamento con il so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13920" y="999720"/>
            <a:ext cx="7720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assi da realizzar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li alunni escono nel cortile della scuola a mezzogiorno in punto, di un giorno sere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 disegna una circonferenz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 mezzo alla circonferenza si pone un alunno che gira la schiena verso il s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avanti a lui c’è la sua ombr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-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 questa direzione si trova il nord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che si segna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lla circonferenz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 segnano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gl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ltri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punti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 direzione sud, est, ove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ontinuazion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71360" y="1428480"/>
            <a:ext cx="80722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2357280" y="2143080"/>
            <a:ext cx="2160720" cy="216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cuola G. Martinu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6000840" y="2643120"/>
            <a:ext cx="2160360" cy="216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ast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000240" y="1357200"/>
            <a:ext cx="857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23080" y="4214880"/>
            <a:ext cx="1104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pe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4429080" y="2643120"/>
            <a:ext cx="1214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cuola n.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1000080" y="2643120"/>
            <a:ext cx="1392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c.inferm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8105400" y="3214800"/>
            <a:ext cx="1035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c. infe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6715080" y="1928880"/>
            <a:ext cx="714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r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6500880" y="4714920"/>
            <a:ext cx="1214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ia S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4"/>
          <p:cNvSpPr/>
          <p:nvPr/>
        </p:nvSpPr>
        <p:spPr>
          <a:xfrm>
            <a:off x="5218560" y="3214800"/>
            <a:ext cx="813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Chi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rientamento i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n III clas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57200" y="1357200"/>
            <a:ext cx="7577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 studia t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tta la regione economico-geografica (da noi l’ Istri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o spazio da studiare supera la nostra possibilità di osservarlo direttam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bisogna introdurre l’uso della carta geografic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sserv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ion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indirett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del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o spazi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cessario spiegare il concetto di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rappresentazione dello spazio in scala ridot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rocedimento per introdurre l’uso della 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arta geografic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troduzione del concetto di scala ridot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ggetti disegnati in grandezza rea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3" descr="pianta-1-1010.jpg"/>
          <p:cNvPicPr/>
          <p:nvPr/>
        </p:nvPicPr>
        <p:blipFill>
          <a:blip r:embed="rId1"/>
          <a:stretch/>
        </p:blipFill>
        <p:spPr>
          <a:xfrm>
            <a:off x="3000240" y="2571840"/>
            <a:ext cx="3969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a scala ridotta e la pianta degli oggett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a pianta del banco (scala 1:10) – 1 cm sulla carta rappresenta 10 cm in realt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 pianta dell’aul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(scala 1:100) 1 cm sulla carta rappresenta 100 cm in realt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esercizi di orientamento sulla pianta: trovare il proprio banco, il banco di qualche amico, indicare gli oggetti presenti nella classe, segnare il percorso da seguire per uscire dalla clas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La pianta del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campo sportiv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85920" y="1285920"/>
            <a:ext cx="76485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 pianta del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campo sportivo (scala 1:1000) -1 cm sulla carta rappresenta 1000 cm in realt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ondurre gli alunni sul campo sportivo per individuare i punti cardina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sservare gli elementi che vi sono presenti e la forma dello stes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misur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unghezza e larghezza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el campo sportiv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disegn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la pianta del campo sportiv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 pianta 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el percorso 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dalla scuola ad un luogo 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ot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fare una passeggiata dalla scuola fino al luogo scel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osservare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con attenzione 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lo spazio che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 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percorr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 e segnare su un notes 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la posizione delle case e degli altri oggett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itornati a scuola, riordinare i risultati dell’osservazi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preparare un plastico con la sabbia,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modellini di 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case in cartoncino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, negozi, alberi, strade, ec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ricopr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re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 con il vetro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 disegna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e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 le piante degli oggetti rappresentati nel plast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atura e società e geograf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ontenuti geografici validi dal punto di vista scientif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emplificati in accordo con le capacità di comprensione degli alun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ssicurare la continuità nell’apprendere i contenuti geografici nelle classi superior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ontenuti da trattare: lo spazio e l’orientamento in esso, il rilievo, il clima, le piante, gli animali, le ricchezze del sottosuolo, l’uomo e la sua vita socia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La pianta della citt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920"/>
            <a:ext cx="7499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vviare alla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onosc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za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 segni topografic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rient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si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su piante semplificate sia di paesi immaginari che della propria citt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gli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lunni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si orientano facilmente su carte topografiche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emplificate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perché non c’è il pericolo di perdersi fra troppi dettag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bilitare gli alunni all’orientamento sulla pianta topografica completa della citt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ianta di una localit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0" name="Content Placeholder 3" descr="pianta.jpg"/>
          <p:cNvPicPr/>
          <p:nvPr/>
        </p:nvPicPr>
        <p:blipFill>
          <a:blip r:embed="rId1"/>
          <a:stretch/>
        </p:blipFill>
        <p:spPr>
          <a:xfrm>
            <a:off x="2071800" y="1143000"/>
            <a:ext cx="6026040" cy="387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gni-convenzionali013.jpg"/>
          <p:cNvPicPr/>
          <p:nvPr/>
        </p:nvPicPr>
        <p:blipFill>
          <a:blip r:embed="rId2"/>
          <a:stretch/>
        </p:blipFill>
        <p:spPr>
          <a:xfrm>
            <a:off x="3214800" y="5214960"/>
            <a:ext cx="39463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ianta della citt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Content Placeholder 3" descr="pianta-citta.jpg"/>
          <p:cNvPicPr/>
          <p:nvPr/>
        </p:nvPicPr>
        <p:blipFill>
          <a:blip r:embed="rId1"/>
          <a:srcRect l="2383" t="3028" r="1063" b="4575"/>
          <a:stretch/>
        </p:blipFill>
        <p:spPr>
          <a:xfrm>
            <a:off x="2143080" y="1500120"/>
            <a:ext cx="6118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l reticolo ortogona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357200" y="1143000"/>
          <a:ext cx="7499520" cy="2967120"/>
        </p:xfrm>
        <a:graphic>
          <a:graphicData uri="http://schemas.openxmlformats.org/drawingml/2006/table">
            <a:tbl>
              <a:tblPr/>
              <a:tblGrid>
                <a:gridCol w="749520"/>
                <a:gridCol w="750960"/>
                <a:gridCol w="749160"/>
                <a:gridCol w="750960"/>
                <a:gridCol w="642960"/>
                <a:gridCol w="855360"/>
                <a:gridCol w="750960"/>
                <a:gridCol w="749520"/>
                <a:gridCol w="750600"/>
                <a:gridCol w="74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5-Point Star 6"/>
          <p:cNvSpPr/>
          <p:nvPr/>
        </p:nvSpPr>
        <p:spPr>
          <a:xfrm>
            <a:off x="3857760" y="2286000"/>
            <a:ext cx="287280" cy="287280"/>
          </a:xfrm>
          <a:prstGeom prst="pie">
            <a:avLst/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Isosceles Triangle 7"/>
          <p:cNvGrpSpPr/>
          <p:nvPr/>
        </p:nvGrpSpPr>
        <p:grpSpPr>
          <a:xfrm>
            <a:off x="6778800" y="2590920"/>
            <a:ext cx="517320" cy="444240"/>
            <a:chOff x="6778800" y="2590920"/>
            <a:chExt cx="517320" cy="444240"/>
          </a:xfrm>
        </p:grpSpPr>
        <p:pic>
          <p:nvPicPr>
            <p:cNvPr id="378" name="Isosceles Triangle 7" descr=""/>
            <p:cNvPicPr/>
            <p:nvPr/>
          </p:nvPicPr>
          <p:blipFill>
            <a:blip r:embed="rId1"/>
            <a:stretch/>
          </p:blipFill>
          <p:spPr>
            <a:xfrm>
              <a:off x="6778800" y="2590920"/>
              <a:ext cx="51732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6948360" y="2787480"/>
              <a:ext cx="179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Rectangle 8"/>
          <p:cNvGrpSpPr/>
          <p:nvPr/>
        </p:nvGrpSpPr>
        <p:grpSpPr>
          <a:xfrm>
            <a:off x="4492800" y="3017880"/>
            <a:ext cx="444240" cy="444600"/>
            <a:chOff x="4492800" y="3017880"/>
            <a:chExt cx="444240" cy="444600"/>
          </a:xfrm>
        </p:grpSpPr>
        <p:pic>
          <p:nvPicPr>
            <p:cNvPr id="381" name="Rectangle 8" descr=""/>
            <p:cNvPicPr/>
            <p:nvPr/>
          </p:nvPicPr>
          <p:blipFill>
            <a:blip r:embed="rId2"/>
            <a:stretch/>
          </p:blipFill>
          <p:spPr>
            <a:xfrm>
              <a:off x="4492800" y="3017880"/>
              <a:ext cx="4442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572000" y="3071880"/>
              <a:ext cx="287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9" descr="reticolo-ortogonale011.jpg"/>
          <p:cNvPicPr/>
          <p:nvPr/>
        </p:nvPicPr>
        <p:blipFill>
          <a:blip r:embed="rId3"/>
          <a:stretch/>
        </p:blipFill>
        <p:spPr>
          <a:xfrm>
            <a:off x="2643120" y="4265640"/>
            <a:ext cx="4992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La carta geograf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ppresentiamo 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la regione economico-geograf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niziamo </a:t>
            </a: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con una cartina muta semplific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ulla prima carta geografica devono esserci i confini, i fiumi, le isole, alcune città importanti, il monte più alto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es. Istria: i fiumi Arsa, Quieto e Dragogna; il Monte Maggiore, le isole Brioni, il canale di Leme, il canale dell’ Arsa, il Mare Adriatico, il confine con la Slovenia, la città di Pisino (capoluog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segni cartografic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14264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Ferrov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Autostra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Semiautostra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Strada principa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Strada secondar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Divieto di circolazi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Zona pedona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Sentie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Numero dell’autostrada / Numero della v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Uscita autostrada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Edific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Chie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Serra, bacin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Marciapie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Ci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5" descr="legenda.png"/>
          <p:cNvPicPr/>
          <p:nvPr/>
        </p:nvPicPr>
        <p:blipFill>
          <a:blip r:embed="rId1"/>
          <a:stretch/>
        </p:blipFill>
        <p:spPr>
          <a:xfrm>
            <a:off x="1214280" y="1098720"/>
            <a:ext cx="22654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572314"/>
                </a:solidFill>
                <a:latin typeface="Gill Sans MT"/>
              </a:rPr>
              <a:t>La classificazione delle carte geografiche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85920" y="1500120"/>
            <a:ext cx="7648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Carte topografiche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: sono carte molto dettagliate, utilizzate per gli scopi più vari e comprendono carte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a piccola scala (da 1:100.000 a 1:50.000)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carte a media scala (da 1:25.000 a 1:10.000)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carte a grande scala (1:5.000) 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a grandissima scala (1:2.000 e 1:1.000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Le carte a media, grande e grandissima scala sono dette piante, quando rappresentano centri urbani, mappe quando rappresentano zone extraurban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Carte corografiche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142640" y="1214280"/>
            <a:ext cx="7791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te corografiche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sono carte con scale comprese fra 1:100.000 e 1:1.000.000. 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Esse sono meno dettagliate delle precedenti, ma sono utilizzate per rappresentare intere regioni o stati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Carte geografiche: sono a scala 1:1.000.000 o inferiore e rappresentano zone molto vaste, come interi continenti. 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Fanno parte di questo gruppo i planisferi, che raffigurano tutta la Terra su un unico piano, e i mappamondi che la raffigurano divisa in due emisferi: entrambi sono a scala piccolissima</a:t>
            </a: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artina dell’Ist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Content Placeholder 3" descr="Istria-cartina1061.jpg"/>
          <p:cNvPicPr/>
          <p:nvPr/>
        </p:nvPicPr>
        <p:blipFill>
          <a:blip r:embed="rId1"/>
          <a:stretch/>
        </p:blipFill>
        <p:spPr>
          <a:xfrm>
            <a:off x="3071880" y="1214280"/>
            <a:ext cx="41400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e tinte altimetrich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 colori usati sono: il verde per le pianure, il giallo per le colline, il marrone per le montagne; il nero per i nomi di città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sando le tinte altimetriche si rappresenta il rilievo della region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o spaz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285560"/>
            <a:ext cx="7499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E’ un concetto estremamente importante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a livello psicologi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a livello pedagogi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a livello culturale (scienze: geografia, geometria, astronomia, ecologia; arti: architettura, pittura, scultura…)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Definizione dello spazio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estensione illimitata in cui sono contenuti tutti gli oggetti material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qualit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relativa alla posizione nel mondo degli oggetti material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900" spc="-1" strike="noStrike">
                <a:solidFill>
                  <a:srgbClr val="572314"/>
                </a:solidFill>
                <a:latin typeface="Gill Sans MT"/>
              </a:rPr>
              <a:t>La bussola nell’orientament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on l’ aiuto della bussola si facilita l’orientamento agli alunni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 bussola è uno strumento formato da un ago magnetico di cui una parte indica il nord (colore azzurro) e l’altra il sud (colore rosso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bussola rudimentale – mettere su un piattino dell’acqua, un pezzo di sughero e un ago calamitato appoggiato su di ess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Altri mezzi per l’orien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l s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l formicaio a sud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l muschio sugli alberi a nord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 stella polar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nord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gli anelli sui ceppi degli alber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più stretti verso n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ssi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ono assai insicuri e poco affidabi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l più moderno è il sistema G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l riliev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214280"/>
            <a:ext cx="74995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l rilievo è un concetto geografico molto complesso e ampio e comprende tutte le forme della superficie terrest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sse sono: colline, pianure, montagne, zona litoranea, valli, insenature, penisole, isole, ec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lla prima classe si svolgono gli elementi del rilievo che gli alunni possono osservare direttam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lla seconda classe lo spazio da studiare è più ampio (la città e i suoi dintorni) perciò anche gli elementi del rilievo sono più numeros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l rilievo - continuazio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lla terza classe lo spazio da studiare è ancora più grand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on si può studiare direttamente ogni singolo elemento del rilievo. Per es. gli alunni delle scuole di Fiume impareranno singolarmente solo i nomi delle isole più grandi del Quarnero (Cherso, Veglia, Lussino, Arbe, Pago), le montagne più conosciute (Velebit, Monte Maggiore, Risnjak). Sapranno distinguere gli elementi del rilievo nella zona litoranea e quella monta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l rilievo - continuazio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lla quarta classe queste differenze vengono eliminate perché in tutte le scuole si studia la Croazi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e scuole delle regioni vicino il mare avranno da svolgere più contenuti nuovi sulle zone di montagna e pianura, mentre le scuole montane e di pianura più contenuti nuovi sulle zone marin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e isoipse </a:t>
            </a:r>
            <a:r>
              <a:rPr b="0" lang="en-AU" sz="2400" spc="-1" strike="noStrike">
                <a:solidFill>
                  <a:srgbClr val="572314"/>
                </a:solidFill>
                <a:latin typeface="Gill Sans MT"/>
              </a:rPr>
              <a:t>(linee immaginarie che congiungono le medesime altezze del rilievo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8" name="Content Placeholder 3" descr="ISOIPSE.jpg"/>
          <p:cNvPicPr/>
          <p:nvPr/>
        </p:nvPicPr>
        <p:blipFill>
          <a:blip r:embed="rId1"/>
          <a:stretch/>
        </p:blipFill>
        <p:spPr>
          <a:xfrm>
            <a:off x="3044880" y="1447920"/>
            <a:ext cx="427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e acque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920"/>
            <a:ext cx="7499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i soffermeremo soprattutto sui tipi di acqua presenti sulla superficie terrestre e sulla loro disposizione nello spazio, cioè gli elementi delľ idrografi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Gli elementi idrografici si svolgono gradualmente in tutte le classi in connessione funzionale con lo spazio che si tratta in quella classe: es. mare, lago, stagno, sorgente, ruscello, fiume, fiume sotterraneo, torrent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mportanza delle acq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960" y="1213920"/>
            <a:ext cx="749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li alunni devono esseri capaci di comprendere il legame funzionale fra le acque e gli altri fenomeni naturali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a differenza tra fiumi della pianura e fiumi monta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a loro importanza per la vita delľ uo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’influenza dell’acqua sulľeconomia (es. le idrocentrali sui fiumi, le peschiere e gli allevamenti dei pesci d'acqua dolce, ľirrigazione dei campi, le bellezze naturali sfruttate per il turismo, la navigazione, la pesca, ec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o spazio nell’ambito della geografi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85920" y="1447920"/>
            <a:ext cx="76485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o spazio è uno dei concetti di base della geograf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tti i fenomeni naturali e sociali avvengono nello spazi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o spazio è la realtà esterna mediata attraverso gli oggetti con cui entriamo in contatt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(lo spazio del corpo, gli spazi ambientali concreti, gli spazi rappresentativi e lo spazio astratto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’orientamento nello spaz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 capacità dell’uomo di comprendere la propria posizione e la posizione di tutti gli altri fenomeni naturali e sociali nello spazio e i loro rapporti interpersona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er orientarsi si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utilizzano punti fissi di riferimento, rappresentati da oggetti particolari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on un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privilegiato carattere emotivo-affettivo (es. la propria casa)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oppure hanno carattere universa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unti d’appoggio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- concetto spazi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grandezza (ampiezza-estensione) o vastità dello spazio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ontinuità dello spazio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La grandezza dello spazio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lo spazio a una dimensione (distanza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lo spazio a due dimensioni (superficie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lo spazio a tre dimensioni (volume - gli oggetti tridimensionali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Misure specifiche per ciascuna caratteristic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’alunno e il concetto di spazi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 continuità si riferisce al fatto che lo spazio è una categoria infinita, non si interrompe mai, non ha mai fin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ossiamo affermare che l’ alunno possiede il concetto dello spazi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e comprende la continuità dello spazi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e gli è chiara la propria posizione e la posizione degli altri oggetti nello spazio, ovvero se è capace di orientarsi in ess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Conoscenza progressiva 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ello spazi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920"/>
            <a:ext cx="7499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l primo spazio con cui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l bambino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viene a contatto è la cul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’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ambito della propria c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l cortile e 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la via dove abi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cuola dell’infanzia e r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cuola elementare e paese o città di residenz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egione e stat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ontinente europeo e mondo inter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pazio studiato nelle 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classi inferior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920"/>
            <a:ext cx="7499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Gill Sans MT"/>
              </a:rPr>
              <a:t>In I class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: si studia il luogo di residenza del bambino (paese, città, rione della città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Gill Sans MT"/>
              </a:rPr>
              <a:t>Nella II class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i studia il paese e i suoi dintorni ovvero tutta la città e i suoi dintor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Gill Sans MT"/>
              </a:rPr>
              <a:t>In III class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: lo spazio da studiare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comprende</a:t>
            </a: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 tutta la regione economico-geografica (da noi l’ Istri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lla IV classe si studia la Croazia e l’Ital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6:28:15Z</dcterms:created>
  <dc:creator> </dc:creator>
  <dc:description/>
  <dc:language>en-US</dc:language>
  <cp:lastModifiedBy>Miro</cp:lastModifiedBy>
  <dcterms:modified xsi:type="dcterms:W3CDTF">2013-10-09T19:36:37Z</dcterms:modified>
  <cp:revision>80</cp:revision>
  <dc:subject/>
  <dc:title>Diapositiva 1</dc:title>
</cp:coreProperties>
</file>