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3F9-549A-4029-8D5D-6AB77829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CA4-7473-4CAE-985D-CA1CB34E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A05-8452-438F-828A-D1221DC7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D2F-2E48-4A08-9B70-212F75CB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D144-E3FC-4BC6-AF2E-10AFD50A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45D5-7AA8-40B4-9D1A-B5DD2EB9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DB75-1907-408D-932A-BC15C085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7A2D-3876-4776-BC9F-125B9BEE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B6EA-AE50-48DF-959F-FA8B63D4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EDA1-0F87-4502-A7FE-1F9B9C6E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8C79-B384-4FD4-BA8F-131D8E70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9C9-5EA0-4153-9227-FB4D3FED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EF19-9730-4893-B2E5-76EF58F6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5B04-5F07-4680-B1AE-5EAC7B89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ED7F-DC9A-41CC-A751-6C08FE76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D525-2103-4117-9F20-E4B0784A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7F78-79AC-422A-B5F2-90D93086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56C6-6505-44F0-AD5F-90C1AFAA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D79A-DB4D-4DDD-AD1C-227F8F33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4DD-FF11-44E5-84F6-F7B58E98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734-55A2-4F7C-BF4D-E5144163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D3EE-E850-44CA-BA33-5B4E877B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B77-B758-4490-81F9-54B6066E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7421-8D9E-4A94-9E67-4B92CAA6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BECC-7EE5-4135-BB3E-54C09ED4D2FB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99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prstGeom prst="pie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7a7c9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prstGeom prst="pi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prstGeom prst="pie">
                  <a:avLst/>
                </a:prstGeom>
                <a:solidFill>
                  <a:srgbClr val="9933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prstGeom prst="pie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8AD0-B939-4222-AC13-23FE4D95D347}" type="slidenum">
              <a:rPr b="0" lang="hr-HR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752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66cc"/>
                </a:solidFill>
                <a:latin typeface="Arial Black"/>
              </a:rPr>
              <a:t>IL METODO DEL LAVORO SUL TESTO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724280" y="272556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Mr.sc. Nevia Močinić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Didattica della natura e società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Insegnamento di class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IV anno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66cc"/>
                </a:solidFill>
                <a:latin typeface="Arial Black"/>
              </a:rPr>
              <a:t>I VANTAGGI DI QUESTO METODO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viluppare l’abilità ad esprimersi bene per iscritt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Consolidare e precisare il saper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timolare l’indipendenza nello studi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Arricchire il vocabolario dell’alunn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Imparare ad essere chiari e coerenti nell’esposizione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66cc"/>
                </a:solidFill>
                <a:latin typeface="Arial Black"/>
              </a:rPr>
              <a:t>LE FORME PIU’ FREQUENTI DEI LAVORI SCRITTI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Il copiat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La scrittura di relazioni brevi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Risposte alle domand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La scrittura di brevi sagg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13920" y="1714680"/>
            <a:ext cx="7929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Nella I e nella II classe sarà sufficiente scrivere alla lavagna due o tre frasi contenenti la sintesi della lezione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Nella III e nella IV il testo dovrà essere un po’ più lungo, ma sempre limitato ad alcune frasi che gli alunni possano copiare in due o tre minuti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Insegnare all’ alunno a scrivere alla lavagn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285920" y="285840"/>
            <a:ext cx="700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Tahoma"/>
                <a:ea typeface="Tahoma"/>
              </a:rPr>
              <a:t>APPUNTI SUL QUADERNO E ALLA LAVAGNA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87280" y="17146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Oggi, oltre alla lavagna, usiamo i lucidi per la lavagna luminosa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Vantaggi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notevole aiuto per l’insegnante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permette di proiettare dietro le spalle, mentre nello scrivere alla lavagna, l’insegnante deve girare la schiena agli alunn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1357200" y="642960"/>
            <a:ext cx="72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Tahoma"/>
                <a:ea typeface="Tahoma"/>
              </a:rPr>
              <a:t>L’USO DELLA LAVAGNA LUMINOSA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87280" y="185724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Non si deve riempire con troppi contenut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Usare illustrazioni e schem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Lasciar tempo sufficiente agli alunni per leggere il testo e rifletter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Fissare in anticipo quando e come verrà usato il lucid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714680" y="571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80"/>
                </a:solidFill>
                <a:latin typeface="Tahoma"/>
                <a:ea typeface="Tahoma"/>
              </a:rPr>
              <a:t>USO DEL LUCIDO</a:t>
            </a: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16000" y="1714320"/>
            <a:ext cx="7772400" cy="45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nella scelta delle immagini far attenzione a individuare quelle veramente indispensabili per far capire un fenomeno naturale, un concetto, un event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usare espressioni verbali brevi e chiar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le immagini devono essere chiare, di alta qualità estetica, presentare l'argomento nel suo complesso e nei dettagli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la quantità di immagini deve essere stabilita a seconda degli obiettivi prefissati e del gruppo di bambini cui sono rivolt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se necessario, inserire uno o più filmati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428840" y="57168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80"/>
                </a:solidFill>
                <a:latin typeface="Tahoma"/>
                <a:ea typeface="Tahoma"/>
              </a:rPr>
              <a:t>La presentazione in PowePoint</a:t>
            </a: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71640" y="164304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Il bambino inizia a conoscere certi fenomeni della natura e società da libri e albi illustrati prima di imparare a leggere e a scrivere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Il libro è una delle più importanti fonti del sapere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Esso è importante per sviluppare l’abitudine alla lettura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1714680" y="57168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80"/>
                </a:solidFill>
                <a:latin typeface="Tahoma"/>
                <a:ea typeface="Tahoma"/>
              </a:rPr>
              <a:t>IMPORTANZA DEL LIBRO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cc"/>
                </a:solidFill>
                <a:latin typeface="Arial Black"/>
              </a:rPr>
              <a:t>I VANTAGGI DEL LAVORO SUL TESTO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Abituare l’alunno allo studio autonom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Ampliare e arricchire il suo saper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Consolidare i fatti studiat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Risparmiare temp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Essere sempre informat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Perfezionare la lettur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00080" y="1499760"/>
            <a:ext cx="795960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Non tutti i libri possono essere usati nell’insegnamento (alcuni sono difficili)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Il testo scritto è più adatto per le fasi della ripetizione, del consolidamento e dell’esercitazione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Oltre al libro di testo si usa anche altri testi: libri di lettura, vocabolari, saggi, enciclopedie per ragazzi, riviste, ecc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500120" y="50004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80"/>
                </a:solidFill>
                <a:latin typeface="Tahoma"/>
                <a:ea typeface="Tahoma"/>
              </a:rPr>
              <a:t>USO DEL LIBRO</a:t>
            </a: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42920" y="178560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libri attivi - concepiti in modo da stimolare l’alunno ad essere attiv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interessante e chiaro, ma senza dettagli inutili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così didatticamente formato da essere usato in tutte le fasi dell’ora di lezion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presenta i contenuti in modo problematico per far riflettere l’alunn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071720" y="57168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Tahoma"/>
                <a:ea typeface="Tahoma"/>
              </a:rPr>
              <a:t>CARATTERISTICHE DEL LIBRO MODERNO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 Black"/>
              </a:rPr>
              <a:t>Libro interattivo 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42640" y="1500120"/>
            <a:ext cx="792468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Sempre più frequenti sono i libri articolati, formati dal libro attivo per gli alunni, la guida per l’insegnante, le schede o il quaderno attivo, le prove di verifica, il cd o la videocassetta con dei filmati, ecc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Il libro non contiene tanti testi informativi, ma è funzionalmente collegato con cd o videocassette e tutti gli altri mezzi didattici correlati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Le attività proposte sono indicate da personaggi inventati appositamente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 Black"/>
              </a:rPr>
              <a:t>ES. DI LIBRO ATTIVO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57140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“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Alla scoperta del luogo natio”: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Numerose illustrazion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Stimoli per l’osservazion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Testo formato da 3 part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80"/>
                </a:solidFill>
                <a:uFillTx/>
                <a:latin typeface="Arial"/>
              </a:rPr>
              <a:t>Chi, come, perché?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presenta il problema da analizzar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80"/>
                </a:solidFill>
                <a:uFillTx/>
                <a:latin typeface="Arial"/>
              </a:rPr>
              <a:t>Chi farà meglio?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serie di domande legate al contenut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80"/>
                </a:solidFill>
                <a:uFillTx/>
                <a:latin typeface="Arial"/>
              </a:rPr>
              <a:t>Abbiamo appreso che…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ciò che gli alunni devono ricordare della lezion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66cc"/>
                </a:solidFill>
                <a:latin typeface="Arial Black"/>
              </a:rPr>
              <a:t>I VANTAGGI DI LIBRI SIMILI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6426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Influiscono sulla qualità del saper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Facilitano il processo di formazion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Richiedono maggiore attività cognitiv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i inseriscono facilmente in tutte le fasi del processo formativ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Non sono difficili da comprender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ono interessanti per gli alunn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Facilitano il lavoro all’insegnant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66cc"/>
                </a:solidFill>
                <a:latin typeface="Arial Black"/>
              </a:rPr>
              <a:t>IL METODO DEI LAVORI SCRITTI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E’ usato prevalentemente nella fase della ripetizione e della verifica, ma anche nell’introduzione e nella lezione nuova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8:16:54Z</dcterms:created>
  <dc:creator>korisnik</dc:creator>
  <dc:description/>
  <dc:language>en-US</dc:language>
  <cp:lastModifiedBy>Miro</cp:lastModifiedBy>
  <dcterms:modified xsi:type="dcterms:W3CDTF">2011-01-10T20:29:29Z</dcterms:modified>
  <cp:revision>18</cp:revision>
  <dc:subject/>
  <dc:title>IL METODO DEL LAVORO SUL TESTO</dc:title>
</cp:coreProperties>
</file>