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EABB-24F2-4EE9-8037-27CF763D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2518-CFD8-4C01-B5DB-4C01B50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4A81-BCD5-4C0F-8E0C-D297E2D1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E133-5B3C-4FE4-9798-DC9142B3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A49-343C-4A0B-83F0-BF01F57C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152C-9970-4FC3-99C5-35F86C95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B4E3-4DD0-4E99-A811-2345035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AC72-5A82-464B-B3DF-8AE0354A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F76F-D3D6-4054-ACC5-4742C77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BA18-D236-410E-A078-1D0AC680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3C5A-26A2-47E3-BF45-C21A9C9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1C88-86CB-4A5A-AD16-C9C4CA6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6001-E0C2-40C9-B7E0-03ECD2CB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0141-6C05-4BC6-9703-EEC5E49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5BB0-2DDC-420D-B86D-2B8B12AE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0F94-DF17-4FEB-81EF-57784DBB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BDFC-B963-447A-8F8B-80E7E8EC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954A-6B8E-49C9-BC5B-85137C72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9DC9-A03D-4DB2-8245-BE5051FA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80C1-7226-4698-BFF0-BAF33692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ED33-8087-4227-955E-20A6F80A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1C96-22C0-4B56-A5BE-F5A65D2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FD67-6AA0-4BD8-A3D0-1683AB4A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E9A0-7ED6-41DD-B22F-F906881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EDB-D068-4162-9E83-A3D65027672D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7EC0-B1B4-4D33-9296-056DA4C5DD65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ff"/>
                </a:solidFill>
                <a:latin typeface="Verdana"/>
              </a:rPr>
              <a:t>Le forme sociali di lavoro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Didattica della natura e societ</a:t>
            </a:r>
            <a:r>
              <a:rPr b="1" lang="hr-HR" sz="3200" spc="-1" strike="noStrike">
                <a:solidFill>
                  <a:srgbClr val="ffffff"/>
                </a:solidFill>
                <a:latin typeface="Tahoma"/>
                <a:ea typeface="Arial"/>
              </a:rPr>
              <a:t>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Mr.sc. Nevia Močin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Il funzionamento del grupp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pende dalla struttura formale del grupp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uoli dei memb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mpiti da svolgere nell’ambito del gr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dici di comunicazione stabiliti all’interno del gr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pende dalla struttura informale del grupp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opravvento dei bisogni emotivi individuali (simpatie e antipatie tra i membri, silenzio, prevaricazione verba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Cause possibili del cattivo funzionamento del grupp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l modo in cui si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costituito il gruppo (criteri per la formazione usat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l mancato coinvolgimento dei partecipanti (non si sentono come rilevanti gli obiettivi scelt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e difficol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i relazione tra i membri (conflitti aperti o sottintes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Criteri per la formazione </a:t>
            </a:r>
            <a:br>
              <a:rPr sz="4200"/>
            </a:b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dei grupp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ruppi spontanei – aggregazioni per motivi personali come l’amicizia, gli interessi comuni, l’essere vicini di casa, ecc.; rischio - cristalizzazione dei rapporti, insorgenza di situazioni conflittu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ruppi casuali – l’insegnante forma gruppi senza un criterio preciso: es. seguendo l’ordine alfabetico, suddividendo in gruppi di maschi o femmine, o con un ugual numero di alunni in difficol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ruppi di interesse – si aggregano alunni che manifestano la medesima attenzione e curios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per un problema; alta motivazione degli alu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ruppi di livello – l’insegnante divide gli alunni in base al grado diverso di maturazione e di conoscenze possedute; rischio: cristallizzazione dei rappor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are precedenza ai gruppi a formazione temporanea, per non compromettere la coesione della clas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Strumenti utili nella </a:t>
            </a:r>
            <a:br>
              <a:rPr sz="4200"/>
            </a:b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composizione dei grupp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st sociomet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a rilevazione degli interessi e delle attitudini degli alu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a verifica del profitto con prove ogget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’analisi del comportamento per mezzo di griglie per l’osservazione. Elementi da osservare: aiuta ed elogia gli altri, allenta la tensione, crea la discussione, accetta le idee degli altri, d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suggerimenti, esprime idee e opinioni, valuta, mette in dubbio, rifiuta l’aiuto, mostra antagonismo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Organizzazione del lavoro </a:t>
            </a:r>
            <a:br>
              <a:rPr sz="4200"/>
            </a:b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nel grupp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videre con precisione i ruoli per tu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uoli possibili: capogruppo, segretario, verbalista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are attenzione nella scelta del capogruppo a non affidare il ruolo sempre allo stesso alunno o scegliere un leader nominale, senza capac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pe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parare materiale didattico sufficien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Il ruolo dell’insegnan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rganizzatore dello studi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vedere il criterio secondo cui formare i grup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ianificare il numero e la disposizione dei gruppi nell’a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parare con cura il materiale didat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parare le istruzioni per ogni singolo gruppo (stampate o registra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ordinare il lavoro, fornire informazioni e aiutare i gruppi se ne fanno richi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La disciplina nel lavoro di grupp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sciplina p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ela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li alunni parlano tra loro, chiedono consigli all’insegnante, discuto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li alunni hanno accesso alla biblioteca scolastica e al computer se esiste in clas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avoro accompagnato da un continuo brusio, ma non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il rumore del disintere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Il lavoro a gruppi nella </a:t>
            </a:r>
            <a:br>
              <a:rPr sz="4200"/>
            </a:b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Natura e societ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  <a:ea typeface="Tahoma"/>
              </a:rPr>
              <a:t>à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ma di applicarlo bisogna abilitare gli alunni a osservare, a prendere appunti, a trovare l’essenziale nel testo scritto, a collaborare con gli alt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l gruppo diventa importante per il bambino verso i 9 a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el gruppo viene soddisfatto il bisogno di appartenenza e di sicurezza e vi si attua la socializzazi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Lavoro di gruppo inizia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istemare le esperienze legate ad un’escursione, alla visita ad una fabbrica, ad un’istituzione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istemare e classificare materiali raccolti su un tema: es. fotografie, articoli di giornale, depliants, cartoline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ipetizione di contenuti svolti usando libri, guide didattiche, enciclopedie per bambini, testi preparati dall’insegnante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ff"/>
                </a:solidFill>
                <a:latin typeface="Verdana"/>
              </a:rPr>
              <a:t>Introduzione</a:t>
            </a:r>
            <a:r>
              <a:rPr b="0" lang="hr-HR" sz="4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gni forma di lavoro ha il suo valore e la sua funzione importante nell’insegna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’insegnante deve organizzarle e alternarle in accordo con l’e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e le capac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egli alunni, con il contenuto da svolgere e con gli obiettivi didattici da raggiung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ariare le forme di lavoro rende l’insegnamento p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inamico e interess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Fasi del lavoro a grupp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sentazione dell’argomento di studio e degli obiettivi da raggiung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ganizzazione dell'attività dei grup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alisi del materiale didattico, ricerca dei dati utili, discussione sulle risposte trovate, stesura della relazione final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esentazione della relazione a tutta la class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(capogrupp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torno al lavoro frontal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er la sintesi fi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Esempi di unit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  <a:ea typeface="Tahoma"/>
              </a:rPr>
              <a:t>à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 didattich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l turismo nella nostra regione (città e luoghi noti pe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 turismo, chi si occupa dei turisti, chi sono i turisti, perché vengono nella nostra regione, problemi creati dal turismo; materiale pubblicitario sul turismo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a vita nella regione litoranea (aspetti dell'ambiente naturale, occupazioni della gente, cultura e tradizioni, scuole e possibilità di studiare, ecc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ivello culturale degli abitanti nel luogo di residenza (numero di abitanti del comune, le istituzioni culturali, gli artisti e le loro atività nel luogo natio,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e tradizioni popolari, il folclore e i gruppi folcloristici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Esempi di unit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  <a:ea typeface="Tahoma"/>
              </a:rPr>
              <a:t>à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 didattich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'inquinamento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ell'ambiente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nquinamento dell'aria, dell'acqua, del terreno; cause dell'inquinamento, conseguenze per le piante, per gli animali e gli uomini; rimedi possibil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 tipi di terreno: le qualità dei vari tipi di terreno, la composizione del terreno, la fertilità del terreno e i fertilizzanti, i tipi di terre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Difficolt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  <a:ea typeface="Tahoma"/>
              </a:rPr>
              <a:t>à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 nella realizzazione del lavoro a grupp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a preparazione del materiale didattico (ancora realizzato in forma artigiana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’orario delle insegnanti (riconosce poco tempo per la preparazione delle lezion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Il lavoro individua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ttiv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autonome degli alunni (esercizi identici o differenziat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Principio base: l’apprendimento avviene secondo ritmi e stili person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Individualizzazione: esercizi secondo le capac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di ciascuno, il tempo richiesto e un algoritmo personale; obiettivi da raggiungere uguali per tu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Differenziazione – raggiungere obiettivi diversi, secondo le inclinazioni person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Il ruolo dell’insegnan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rganizza l’attiv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degli alu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Prepara i materiali didatt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Fornisce ulteriori spiegazioni se richie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Segue con attenzione lo svolgimento degli eserc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Offre l’informazione di ritorno immediatamente, quando c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ò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possib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Stimola gli alunni ad essere attivi al mass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Lati negativi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dividualizzare al massimo le attiv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didattiche sarebbe controproduc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Essere in grado di lavorare in grupp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importante per la socializzazione dell’alun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Nel gruppo bisogna saper difendere le proprie idee e affermare la propria personal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, ma senza prevaricazio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Massima individualizzazione - impossib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Raccomandazioni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sare il lavoro individuale in abbinamento con le altre for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ormulare in modo chiaro gli obiettivi e l’util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l lav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imolare gli alunni con capac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superiori alla media, assegnando loro esercizi ada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Abituare gli alunni al lavoro individuale gradualmente: da un’attiv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di breve durata passare a compiti 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comple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Difficol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  <a:ea typeface="Tahoma"/>
              </a:rPr>
              <a:t>à</a:t>
            </a:r>
            <a:r>
              <a:rPr b="0" lang="hr-HR" sz="4200" spc="-1" strike="noStrike">
                <a:solidFill>
                  <a:srgbClr val="ffffcc"/>
                </a:solidFill>
                <a:latin typeface="Tahoma"/>
                <a:ea typeface="Tahoma"/>
              </a:rPr>
              <a:t> di realizzazio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sibil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effettive di controllare subito il lav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Studiare nuove modal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di autocontro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Mancanza di materiale didattico in italiano (disponibili in genere solo il libro di testo e il quaderno attiv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Mental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antiquata degli insegna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ffcc"/>
                </a:solidFill>
                <a:latin typeface="Tahoma"/>
              </a:rPr>
              <a:t>Insegnamento nelle classi abbinat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lassi abbinate – male inevitab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bbinamenti – 2, 3 o 4 cla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li abbinamenti dipendono dal numero degli alunni per classe o dal numero di aule disponibi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umeri limite – 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di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0 alunni per dividere 2 classi; 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di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6 alunni per dividere 3 classi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Il lavoro fronta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uttora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la forma di lavoro p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usata, nonostante siano cambiate le condizioni storiche che l’hanno gener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’insegnante lavora contemporaneamente con tutti gli alunni della cla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una forma di lavoro econom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’ nata quando un piccolo numero di insegnanti doveva insegnare ad un grande numero di alu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Abbinamenti possibil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lassi vicine: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;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Vantaggi: svolgere temi in comu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Classi alternate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;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  Vantaggi: assegnare compiti autonomi agli alunni 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grandi mentre si lavora con i 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picc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Classi 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lontane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; e classi 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vicin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ª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ffcc"/>
                </a:solidFill>
                <a:latin typeface="Tahoma"/>
              </a:rPr>
              <a:t>Errori possibili nell’insegnamento </a:t>
            </a:r>
            <a:br>
              <a:rPr sz="3800"/>
            </a:br>
            <a:r>
              <a:rPr b="0" lang="hr-HR" sz="3800" spc="-1" strike="noStrike">
                <a:solidFill>
                  <a:srgbClr val="ffffcc"/>
                </a:solidFill>
                <a:latin typeface="Tahoma"/>
              </a:rPr>
              <a:t>in classi abbinat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na classe – lavoro diretto, l’altra un compito qualsias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llegare ad ogni costo il lavoro delle due class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ercare di mantenere un orario rigido come nelle sezioni singol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sistere sul lavoro frontale con tutte le se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ffcc"/>
                </a:solidFill>
                <a:latin typeface="Tahoma"/>
              </a:rPr>
              <a:t>Proposte per migliorare il lavoro </a:t>
            </a:r>
            <a:br>
              <a:rPr sz="3800"/>
            </a:br>
            <a:r>
              <a:rPr b="0" lang="hr-HR" sz="3800" spc="-1" strike="noStrike">
                <a:solidFill>
                  <a:srgbClr val="ffffcc"/>
                </a:solidFill>
                <a:latin typeface="Tahoma"/>
              </a:rPr>
              <a:t>in classi abbinat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Convincersi che il lavoro frontale n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ahoma"/>
              </a:rPr>
              <a:t> necessariamente il migli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ahoma"/>
              </a:rPr>
              <a:t>Intendere le classi abbinate come due o tre gruppi con obiettivi diversi da raggiung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ahoma"/>
              </a:rPr>
              <a:t>Assumere un ruolo organizzativo e preparare tanti materiali didatt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ahoma"/>
              </a:rPr>
              <a:t>Non dimenticare la sintesi da fare dopo il lavoro autono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ahoma"/>
              </a:rPr>
              <a:t>Abituare gradualmente gli alunni al lavoro di grup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Attrezzare l’aul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isporre i banchi in modo che gli alunni non si disturbino e abbiano la lavagna, il flanellografo e altri mezzi didattici a portata di m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Fornire l’aula di numerosi mezzi e strumenti didattici (registratori, lavagna luminosa, proiettore, videoregistratore, televisore, computer, illustrazioni, carte geografiche, schede, giochi didattici, ec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Biblioteca fornita di riviste per bambini, libri e enciclopedie, vocabolari, sussidiari, film didattici e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Consigli per la programmazio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dividuare gli argomenti in comune, precisando le differenze negli obiett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serire gli argomenti in comune nello stesso periodo di t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volgere gli argomenti in comune come ripetizione per la classe che li conosce e come lezione nuova per l’altra cla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ar attenzione a non dimenticare le differenze di obiettivi da raggiung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Aspetti problematici del lavoro fronta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Questione della comunicazione tra insegnante e alunno (assicurare la possibil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i dare e ricevere informazion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municazione insegnante           alunni: possibile solo dall’insegnante agli alu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e informazioni di ritorno (feed back) impossibili da tutti gli alunni contemporaneam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5867280" y="3186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Adeguatezza della comunicazio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municazione per l’alunno medio – lezione noiosa per gli alunni con capac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superiori alla media, incomprensibile per quelli inferiori alla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municazione adatta agli alunni con capac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 superiori alla media – lezione incomprensibile per tutti gli alt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omunicazione adatta agli alunni con capac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 inferiori alla media – lezione noiosa per tutti gli alt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Applicazione del lavoro fronta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onostante i difetti, il lavoro frontale si applica nei seguenti cas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ezioni di introduzione ad un nuovo argo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ipetizione e consolidamento dei contenu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 mancanza di fonti del sapere adat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rante gite ed escurs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el seguire una trasmissione televisiva o guardare una videocass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Compensazione dei lati debol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stribuire l’attenzione in modo efficace  tra gli alu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erificare se hanno compreso soprattutto gli alunni che spesso incontrano difficol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nel seguire le spiega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ispiegare a chi non ha capito in forma p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sempl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Il lavoro a grupp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fondato sull’esecuzione collettiva di consegne in gruppi formati da 3 a 6 memb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e consegna possono essere di natura teorica o pra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’attiv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in gruppo pu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ò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urare una o p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ù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’ una forma di lavoro da usare molto spes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ffffcc"/>
                </a:solidFill>
                <a:latin typeface="Tahoma"/>
              </a:rPr>
              <a:t>Aspetti pedagogici positivi del lavoro di gruppo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inforza le capaci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i studiare in modo autono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bilita ad usare metodi pratici di inda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llenta la tensione emotiva, ovvero diminuisce l’ansia della prestazi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bilita alla collaborazione con i compagni del grup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avorisce la socializzazi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2:58:29Z</dcterms:created>
  <dc:creator>Petra</dc:creator>
  <dc:description/>
  <dc:language>en-US</dc:language>
  <cp:lastModifiedBy>Miro</cp:lastModifiedBy>
  <dcterms:modified xsi:type="dcterms:W3CDTF">2011-11-30T21:04:03Z</dcterms:modified>
  <cp:revision>31</cp:revision>
  <dc:subject/>
  <dc:title>Slide 1</dc:title>
</cp:coreProperties>
</file>