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485-EBFF-452B-9BDB-680DC5D2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CA70-AAC0-422B-BA36-C0033F0B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16E-90AD-45D1-A155-764A3711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47B-9AC2-4AD0-A3CF-2E82B17D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186E-D4ED-4FF7-8D78-6BBDFE4B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3CB8-6909-424F-B27C-671FC3AC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8B6B-63E0-48D4-84D8-086FB2FA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0DE0-40F0-4BFF-A895-9859EABC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AF88-9C8D-41D5-8D68-A8D2D3FA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583D-F4C1-4B63-AD39-FCDFE021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A3E6-4691-4583-AAA4-874C70FC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B0C-A410-41DD-B3C1-DD0784DA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E18D-4308-4868-A2C8-CCCE02E8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575F-1522-4B44-B760-F5DF6DED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802A-7D5D-47FD-8165-F3272823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6CB5-3024-49BB-954C-6BFB4E43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F9D5-65A1-409D-B08C-193268EB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2EB-35B7-4D61-B008-4046F20E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862-C0E0-4A93-8A05-196A56D3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BFE5-29F8-4729-94E4-BEA62D10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628-1340-48A4-9F2D-1DB56AA0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F8E0-492A-4AEC-9B09-52F926A8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0101-0992-483F-BA10-D0528E47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891-0BB2-441C-800C-8774415E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AE1C-697E-41A9-A91D-A56028B8A4B1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99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7a7c9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prstGeom prst="pi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9933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7AED-C08D-48B4-94CE-70028ED506FD}" type="slidenum">
              <a:rPr b="0" lang="hr-HR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66cc"/>
                </a:solidFill>
                <a:latin typeface="Comic Sans MS"/>
              </a:rPr>
              <a:t>Le fasi del processo di insegnamento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724280" y="272556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Mr.sc. Nevia Močinić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anno acc. 2011/12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66cc"/>
                </a:solidFill>
                <a:latin typeface="Arial Black"/>
              </a:rPr>
              <a:t>Area cognitiva 1 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28800" y="1785960"/>
            <a:ext cx="8138880" cy="45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80"/>
                </a:solidFill>
                <a:latin typeface="Arial"/>
              </a:rPr>
              <a:t>Ricordare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: si 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verifica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no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 doti e capacità sostanzialmente mnemonich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80"/>
                </a:solidFill>
                <a:latin typeface="Arial"/>
              </a:rPr>
              <a:t>Compren</a:t>
            </a:r>
            <a:r>
              <a:rPr b="0" i="1" lang="hr-HR" sz="2800" spc="-1" strike="noStrike">
                <a:solidFill>
                  <a:srgbClr val="000080"/>
                </a:solidFill>
                <a:latin typeface="Arial"/>
              </a:rPr>
              <a:t>dere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: viene verificata la capacità dell’allievo di comprendere quanto gli viene comunicato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, di spiegare teorie, principi ..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80"/>
                </a:solidFill>
                <a:latin typeface="Arial"/>
              </a:rPr>
              <a:t>Applica</a:t>
            </a:r>
            <a:r>
              <a:rPr b="0" i="1" lang="hr-HR" sz="2800" spc="-1" strike="noStrike">
                <a:solidFill>
                  <a:srgbClr val="000080"/>
                </a:solidFill>
                <a:latin typeface="Arial"/>
              </a:rPr>
              <a:t>re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: è valutata la capacità di affrontare e risolvere problemi concreti sulla scorta delle norme, dei principi e dei metodi già acquisiti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66cc"/>
                </a:solidFill>
                <a:latin typeface="Arial Black"/>
              </a:rPr>
              <a:t>Area cognitiva 2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42640" y="17146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80"/>
                </a:solidFill>
                <a:latin typeface="Arial"/>
              </a:rPr>
              <a:t>Anali</a:t>
            </a:r>
            <a:r>
              <a:rPr b="0" i="1" lang="hr-HR" sz="2800" spc="-1" strike="noStrike">
                <a:solidFill>
                  <a:srgbClr val="000080"/>
                </a:solidFill>
                <a:latin typeface="Arial"/>
              </a:rPr>
              <a:t>zzare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: 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si verifica la 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apacità di cogliere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gli elementi costitutivi e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d 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esplicitare le relazione e i nessi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di una struttura complessa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80"/>
                </a:solidFill>
                <a:latin typeface="Arial"/>
              </a:rPr>
              <a:t>Valuta</a:t>
            </a:r>
            <a:r>
              <a:rPr b="0" i="1" lang="hr-HR" sz="2800" spc="-1" strike="noStrike">
                <a:solidFill>
                  <a:srgbClr val="000080"/>
                </a:solidFill>
                <a:latin typeface="Arial"/>
              </a:rPr>
              <a:t>r</a:t>
            </a:r>
            <a:r>
              <a:rPr b="0" i="1" lang="it-IT" sz="2800" spc="-1" strike="noStrike">
                <a:solidFill>
                  <a:srgbClr val="000080"/>
                </a:solidFill>
                <a:latin typeface="Arial"/>
              </a:rPr>
              <a:t>e: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 viene verificata la capacità di esprimere giudizi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sul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la validità e l’adeguatezza di procedimenti ed operazioni relativi ai precedenti livell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80"/>
                </a:solidFill>
                <a:latin typeface="Arial"/>
              </a:rPr>
              <a:t>Creare: 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si verifica la 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apacità 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di creare nuove idee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, 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trovare nuove soluzioni, sintetizzare l’essenziale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, 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individuare nuovi algoritm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cc"/>
                </a:solidFill>
                <a:latin typeface="Arial Black"/>
              </a:rPr>
              <a:t>Categorie di processo cognitivo e tipi di conoscenza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71720" y="1785960"/>
          <a:ext cx="7995960" cy="4538520"/>
        </p:xfrm>
        <a:graphic>
          <a:graphicData uri="http://schemas.openxmlformats.org/drawingml/2006/table">
            <a:tbl>
              <a:tblPr/>
              <a:tblGrid>
                <a:gridCol w="1166760"/>
                <a:gridCol w="1117440"/>
                <a:gridCol w="1143000"/>
                <a:gridCol w="1141560"/>
                <a:gridCol w="1226880"/>
                <a:gridCol w="1057320"/>
                <a:gridCol w="114300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ie di processo cognitivo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ipo di conoscenza</a:t>
                      </a:r>
                      <a:endParaRPr b="0" lang="en-US" sz="1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icordare 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apire 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pplicare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nalizzare</a:t>
                      </a:r>
                      <a:endParaRPr b="0" lang="en-US" sz="16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lutare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reare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.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attuale 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B.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oncet-tuale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.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rocedu-rale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D.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etaco-gnitiva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 Black"/>
              </a:rPr>
              <a:t>Area affettiva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95280" y="1500120"/>
            <a:ext cx="7772400" cy="478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Categorie tassonomiche: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1.Interesse - </a:t>
            </a: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ricettività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(capacità di percepire e prestare attenzione a stimoli senza reagire)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2. Impegno - </a:t>
            </a: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risposta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(capacità di reagire ad uno stimolo esterno) e </a:t>
            </a: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valutazione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(capacità di scegliere e rifiutare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3. Partecipazione – </a:t>
            </a: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organizzazione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(capacità di creare un sistema di scelte e valori) e </a:t>
            </a: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caratterizzazione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(capacità di creare una propria visione del mondo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 Black"/>
              </a:rPr>
              <a:t>Area psicomotoria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95280" y="171468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Categorie tassonomiche: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1. </a:t>
            </a:r>
            <a:r>
              <a:rPr b="1" lang="hr-HR" sz="2400" spc="-1" strike="noStrike">
                <a:solidFill>
                  <a:srgbClr val="000080"/>
                </a:solidFill>
                <a:latin typeface="Arial"/>
              </a:rPr>
              <a:t>movimenti riflessi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(risposte ad uno stimolo senza esserne coscienti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2. </a:t>
            </a:r>
            <a:r>
              <a:rPr b="1" lang="hr-HR" sz="2400" spc="-1" strike="noStrike">
                <a:solidFill>
                  <a:srgbClr val="000080"/>
                </a:solidFill>
                <a:latin typeface="Arial"/>
              </a:rPr>
              <a:t>movimenti fondamentali di base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(movimenti innati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3. </a:t>
            </a:r>
            <a:r>
              <a:rPr b="1" lang="hr-HR" sz="2400" spc="-1" strike="noStrike">
                <a:solidFill>
                  <a:srgbClr val="000080"/>
                </a:solidFill>
                <a:latin typeface="Arial"/>
              </a:rPr>
              <a:t>abilità percettive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(discriminazione cinestetica, visiva, uditiva, tattile, capacità coordinate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4. </a:t>
            </a:r>
            <a:r>
              <a:rPr b="1" lang="hr-HR" sz="2400" spc="-1" strike="noStrike">
                <a:solidFill>
                  <a:srgbClr val="000080"/>
                </a:solidFill>
                <a:latin typeface="Arial"/>
              </a:rPr>
              <a:t>qualità fisiche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(resistenza, forza, flessibilità, agilità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5. </a:t>
            </a:r>
            <a:r>
              <a:rPr b="1" lang="hr-HR" sz="2400" spc="-1" strike="noStrike">
                <a:solidFill>
                  <a:srgbClr val="000080"/>
                </a:solidFill>
                <a:latin typeface="Arial"/>
              </a:rPr>
              <a:t>movimenti di destrezza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(movimenti di base, uso di strumenti, applicazione di leggi e principi fisici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6. </a:t>
            </a:r>
            <a:r>
              <a:rPr b="1" lang="hr-HR" sz="2400" spc="-1" strike="noStrike">
                <a:solidFill>
                  <a:srgbClr val="000080"/>
                </a:solidFill>
                <a:latin typeface="Arial"/>
              </a:rPr>
              <a:t>comunicazione non verbale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(movimenti espressivi, interpretazione di movimenti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66cc"/>
                </a:solidFill>
                <a:latin typeface="Arial Black"/>
              </a:rPr>
              <a:t>Organizzare un’esercitazione efficace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371600" y="1571400"/>
            <a:ext cx="7772400" cy="485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L’insegnante deve conoscere bene la struttura dell’attività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Scegliere il luogo adatto per l’esercitazion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Preparare il materiale necessario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Prendersi cura delle misure di sicurezza tecniche e igienich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Far vedere tutte le azion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Ripetere un’azione alla volta accompagnata da spiegazioni dettagliat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Ripetere ad ogni richiesta dell’alunno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66cc"/>
                </a:solidFill>
                <a:latin typeface="Arial Black"/>
              </a:rPr>
              <a:t>La verifica e la valutazione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95280" y="1714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Costituiscono la fase finale del processo di insegnamento-apprendimento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Verifica: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raccolta sistematica dei dati sul grado di assimilazione di contenuti e abilità da parte degli alunn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accertamento per vedere se gli strumenti utilizzati e l’organizzazione prescelta hanno permesso il raggiungimento delle finalità propost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 Black"/>
              </a:rPr>
              <a:t>Continuazione 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42640" y="1571400"/>
            <a:ext cx="7924680" cy="47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La valutazion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è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la classificazione sistematica del livello di apprendimento degli alunni, ovvero del grado di raggiungimento delle abilità in determinate categorie accompagnate o meno dai voti (descrittivi o numerici)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La verifica non viene necessariamente fatta in funzione della valutazione. Essa può servire come diagnosi nei confronti di un alunno, come prognosi per ulteriori sviluppi del programma di studio, o come strumento di classificazione e selezion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 Black"/>
              </a:rPr>
              <a:t>Le forme di verifica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95280" y="1905120"/>
            <a:ext cx="7772400" cy="43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L’interrogazione oral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Le verificche scritte (domande formulate dall’insegnante, domande sul libro o sul quaderno attivo, schede, compiti di controllo o prove oggettive, test, relazioni su un tema, saggi brevi, riassunti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Le prove pratiche (simulazioni, giochi di ruolo, esperimenti, progetti...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Le verifiche semistrutturat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66cc"/>
                </a:solidFill>
                <a:latin typeface="Arial Black"/>
              </a:rPr>
              <a:t>L’interrogazione orale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71360" y="1642680"/>
            <a:ext cx="79959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Si svolge per mezzo di una conversazione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Si deve prevedere quali e quale tipo di domande si farà, chi sarà interrogato, con quale obiettivo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Bisogna rendere attivi anche gli alunni non interrogat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Porre domande che richiedono una riflessione o un’applicazione e non solo riproduzione di fatti e concett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Seguire il processo di pensiero dell’alunno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8350200" cy="456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80"/>
                </a:solidFill>
                <a:uFillTx/>
                <a:latin typeface="Arial"/>
              </a:rPr>
              <a:t>L’introduzion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80"/>
                </a:solidFill>
                <a:uFillTx/>
                <a:latin typeface="Arial"/>
              </a:rPr>
              <a:t>La lezione nuov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80"/>
                </a:solidFill>
                <a:uFillTx/>
                <a:latin typeface="Arial"/>
              </a:rPr>
              <a:t>La ripetizione e il consolidament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80"/>
                </a:solidFill>
                <a:uFillTx/>
                <a:latin typeface="Arial"/>
              </a:rPr>
              <a:t>L’esercitazion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80"/>
                </a:solidFill>
                <a:uFillTx/>
                <a:latin typeface="Arial"/>
              </a:rPr>
              <a:t>La verifica e la valutazion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L’ordine non è sempre questo e non tutte le fasi sono sempre presenti, o non lo sono nella stessa misura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80"/>
                </a:solidFill>
                <a:latin typeface="Arial"/>
              </a:rPr>
              <a:t>Componenti della lezion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13" name="Picture 5" descr="j0089038[1]"/>
          <p:cNvPicPr/>
          <p:nvPr/>
        </p:nvPicPr>
        <p:blipFill>
          <a:blip r:embed="rId1"/>
          <a:stretch/>
        </p:blipFill>
        <p:spPr>
          <a:xfrm>
            <a:off x="7286760" y="1714680"/>
            <a:ext cx="14652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66cc"/>
                </a:solidFill>
                <a:latin typeface="Arial Black"/>
              </a:rPr>
              <a:t>Aspetti positivi e negativi delle prove orali 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28800" y="1714680"/>
            <a:ext cx="8138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Aspetti positivi: sollecita 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le capacità di esposizione orale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e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 l’abilità di ragionamento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Aspetti negativi: - 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non lascia alcun documento permanente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, - 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valutazione basata su criteri intuitivi;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- 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necessita di un tempo troppo lungo;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- 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enalizza gli alunni emotivi, mentre facilita quelli espansivi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;- 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risente dell’umore dell’insegnante e dei suoi preconcetti sugli alunni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;- l’insegnante può influire sulla risposta </a:t>
            </a:r>
            <a:r>
              <a:rPr b="0" i="1" lang="hr-HR" sz="2800" spc="-1" strike="noStrike">
                <a:solidFill>
                  <a:srgbClr val="000080"/>
                </a:solidFill>
                <a:latin typeface="Arial"/>
              </a:rPr>
              <a:t>dell’alunno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66cc"/>
                </a:solidFill>
                <a:latin typeface="Arial Black"/>
              </a:rPr>
              <a:t>Effetti negativi prove orali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95280" y="171468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G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li </a:t>
            </a: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effetti negativi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 che 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le 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ve 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orali 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ducono 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secondo 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G. Domenici: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80"/>
                </a:solidFill>
                <a:latin typeface="Arial"/>
              </a:rPr>
              <a:t>effetto alone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 (condizionamento a valutazioni negative o positive precedenti)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80"/>
                </a:solidFill>
                <a:latin typeface="Arial"/>
              </a:rPr>
              <a:t>effetto contrasto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 (condizionamento a standard ideali di prestazione)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80"/>
                </a:solidFill>
                <a:latin typeface="Arial"/>
              </a:rPr>
              <a:t>effetto stereotipia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 (condizionamento ad opinione generalizzata originaria)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80"/>
                </a:solidFill>
                <a:latin typeface="Arial"/>
              </a:rPr>
              <a:t>effetto </a:t>
            </a:r>
            <a:r>
              <a:rPr b="1" i="1" lang="hr-HR" sz="2800" spc="-1" strike="noStrike">
                <a:solidFill>
                  <a:srgbClr val="000080"/>
                </a:solidFill>
                <a:latin typeface="Arial"/>
              </a:rPr>
              <a:t>P</a:t>
            </a:r>
            <a:r>
              <a:rPr b="1" i="1" lang="it-IT" sz="2800" spc="-1" strike="noStrike">
                <a:solidFill>
                  <a:srgbClr val="000080"/>
                </a:solidFill>
                <a:latin typeface="Arial"/>
              </a:rPr>
              <a:t>igmalione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 (condizionamento a predizioni)</a:t>
            </a: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 Black"/>
              </a:rPr>
              <a:t>Le prove oggettive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85520" y="1356840"/>
            <a:ext cx="8358120" cy="528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Aspetti positivi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'ambiguità interpretativa risulta controllat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la registrazione delle risposte è miglior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i criteri per la correzione sono uguali per tutti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l’alunno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è facilitato nell'autovalutazion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endono molto più rapida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la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misurazione e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la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 correzion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Aspetti negativi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on sono adatte a verificare livelli alti e complessi di apprendimento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l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e risposte giuste potrebbero essere dovute al fattore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caso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richiedono un notevole impegno, sia di tempo che di competenze, in fase di preparazion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cc"/>
                </a:solidFill>
                <a:latin typeface="Arial Black"/>
              </a:rPr>
              <a:t>Difetto maggiore delle prove oggettiv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28800" y="1571400"/>
            <a:ext cx="8138880" cy="47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80"/>
                </a:solidFill>
                <a:latin typeface="Arial"/>
              </a:rPr>
              <a:t>In realtà le prove oggettive non consentono 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di verificare: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80"/>
                </a:solidFill>
                <a:latin typeface="Arial"/>
              </a:rPr>
              <a:t>nè il processo di apprendimento nella sua globalità,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80"/>
                </a:solidFill>
                <a:latin typeface="Arial"/>
              </a:rPr>
              <a:t>nè gli specifici processi di apprendimento (come l’alunno come memorizza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e </a:t>
            </a:r>
            <a:r>
              <a:rPr b="0" lang="it-IT" sz="3200" spc="-1" strike="noStrike">
                <a:solidFill>
                  <a:srgbClr val="000080"/>
                </a:solidFill>
                <a:latin typeface="Arial"/>
              </a:rPr>
              <a:t>impara, come elabora, come argomenta, come applica, come effettua transfer, come produce nuove idee, ecc.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66cc"/>
                </a:solidFill>
                <a:latin typeface="Arial Black"/>
              </a:rPr>
              <a:t>Tipi di domande nelle prove oggettive 1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04400" y="1428840"/>
            <a:ext cx="813924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Esistono vari tipi di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domande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80"/>
                </a:solidFill>
                <a:latin typeface="Arial"/>
              </a:rPr>
              <a:t>l</a:t>
            </a:r>
            <a:r>
              <a:rPr b="0" i="1" lang="it-IT" sz="2400" spc="-1" strike="noStrike">
                <a:solidFill>
                  <a:srgbClr val="000080"/>
                </a:solidFill>
                <a:latin typeface="Arial"/>
              </a:rPr>
              <a:t>e prove</a:t>
            </a:r>
            <a:r>
              <a:rPr b="1" i="1" lang="it-IT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80"/>
                </a:solidFill>
                <a:latin typeface="Arial"/>
              </a:rPr>
              <a:t>a risposta breve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 sono del tipo a risposta da formulare, la risposta cioè deve essere scritta dall’alunn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Es. In quale stagione dell’anno fiorisce il melo?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80"/>
                </a:solidFill>
                <a:latin typeface="Arial"/>
              </a:rPr>
              <a:t>a scelta alternativa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 si preparano formulando un’asserzione e scrivendo al suo fianco due possibilità del tipo vero/falso, sì/no,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 ..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Es.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1.La pelle è la sede del senso del tatto.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V</a:t>
            </a: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ero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F</a:t>
            </a: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also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2.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La pelle è la sede del senso del tatto ?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SI </a:t>
            </a: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3.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La pelle è la sede di tatto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 /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dito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49968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hr-HR" sz="3600" spc="-1" strike="noStrike">
                <a:solidFill>
                  <a:srgbClr val="000080"/>
                </a:solidFill>
                <a:latin typeface="Arial"/>
              </a:rPr>
              <a:t>DOMANDE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 VERO/FALSO</a:t>
            </a:r>
            <a:br>
              <a:rPr sz="4000"/>
            </a:b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295280" y="164268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LIMITI: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si possono rilevare solo CONOSCENZE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MOLTO SEMPLICI, quasi sempre riproduttiv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la probabilità di rispondere bene a caso è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lta (50%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RIMEDIO</a:t>
            </a: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aumentare il numero di item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introdurre l’alternativa V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hiedere di giustificare la scelta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 Black"/>
              </a:rPr>
              <a:t>Tipi di domande nelle prove oggettive 2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71360" y="1714680"/>
            <a:ext cx="7995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80"/>
                </a:solidFill>
                <a:latin typeface="Arial"/>
              </a:rPr>
              <a:t>a scelta multipla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 prevedono la formulazione di un’asserzione completata da più alternative, che di solito sono in numero di quattro o cinque. L’alunno deve individuare quella corretta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Es.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Nel passato la parte pianeggiante della Croazia era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completamente ricoperta dai boschi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parzialmente ricoperta dai boschi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non era affatto ricoperta dai boschi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80"/>
                </a:solidFill>
                <a:latin typeface="Arial"/>
              </a:rPr>
              <a:t>La </a:t>
            </a:r>
            <a:r>
              <a:rPr b="1" lang="hr-HR" sz="2400" spc="-1" strike="noStrike">
                <a:solidFill>
                  <a:srgbClr val="000080"/>
                </a:solidFill>
                <a:latin typeface="Arial"/>
              </a:rPr>
              <a:t>Croazia</a:t>
            </a:r>
            <a:r>
              <a:rPr b="1" lang="it-IT" sz="2400" spc="-1" strike="noStrike">
                <a:solidFill>
                  <a:srgbClr val="000080"/>
                </a:solidFill>
                <a:latin typeface="Arial"/>
              </a:rPr>
              <a:t> confina con:</a:t>
            </a:r>
            <a:r>
              <a:rPr b="1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a)</a:t>
            </a:r>
            <a:r>
              <a:rPr b="1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Slovenia b) Serbia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c) Italia d) Macedoni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66cc"/>
                </a:solidFill>
                <a:latin typeface="Arial Black"/>
              </a:rPr>
              <a:t>Domande a scelta multipla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28800" y="1571400"/>
            <a:ext cx="8138880" cy="47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Per le prove </a:t>
            </a:r>
            <a:r>
              <a:rPr b="0" i="1" lang="it-IT" sz="2400" spc="-1" strike="noStrike">
                <a:solidFill>
                  <a:srgbClr val="000080"/>
                </a:solidFill>
                <a:latin typeface="Arial"/>
              </a:rPr>
              <a:t>a scelta multipla</a:t>
            </a:r>
            <a:r>
              <a:rPr b="0" i="1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le</a:t>
            </a:r>
            <a:r>
              <a:rPr b="0" i="1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regole da osservare sono: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le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alternative alla risposta esatta devono risultare attraenti, ma sicuramente errate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devono essere verosimili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scritte nello stesso stile della risposta esatta e della stessa lunghezza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disposte in un ordine logico se indicano una classificazione (date, numeri, posizioni, grandezze, qualità ecc.)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poste in maniera tale che la risposta esatta non sia sempre collocata nella stessa posizione (la prima, la seconda o le altre)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66cc"/>
                </a:solidFill>
                <a:latin typeface="Arial Black"/>
              </a:rPr>
              <a:t>Tipi di domande nelle prove oggettive 3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56800" y="1499760"/>
            <a:ext cx="82868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80"/>
                </a:solidFill>
                <a:latin typeface="Arial"/>
              </a:rPr>
              <a:t>a corrispondenza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 sono costituite di due elenchi affiancati i cui elementi sono legati fra loro da un’unica relazione. L’alunno deve indicare gli elementi, uno di una lista e uno dell’altra, che sono correlati. Se ben costruite, richiedono notevole riflessione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80"/>
                </a:solidFill>
                <a:latin typeface="Arial"/>
              </a:rPr>
              <a:t>di riordinamento</a:t>
            </a:r>
            <a:r>
              <a:rPr b="0" i="1" lang="hr-HR" sz="2400" spc="-1" strike="noStrike">
                <a:solidFill>
                  <a:srgbClr val="000080"/>
                </a:solidFill>
                <a:latin typeface="Arial"/>
              </a:rPr>
              <a:t>:</a:t>
            </a:r>
            <a:r>
              <a:rPr b="0" i="1" lang="it-IT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consiste nel fornire all’alunno un certo numero di elementi che egli deve collocare secondo un ordine indicato. Riordinare è un’operazione intellettuale molto importante che richiede una certa abilità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80"/>
                </a:solidFill>
                <a:latin typeface="Arial"/>
              </a:rPr>
              <a:t>di completamento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 consistono di una frase in cui si lasciano spazi bianchi, o puntini sospensivi, che l’alunno deve riempire con i concetti o i termini mancanti, necessari a definire il senso logico della fras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66cc"/>
                </a:solidFill>
                <a:latin typeface="Arial Black"/>
              </a:rPr>
              <a:t>Prove </a:t>
            </a:r>
            <a:r>
              <a:rPr b="0" lang="it-IT" sz="4000" spc="-1" strike="noStrike">
                <a:solidFill>
                  <a:srgbClr val="3366cc"/>
                </a:solidFill>
                <a:latin typeface="Arial Black"/>
              </a:rPr>
              <a:t>a corrispondenza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00080" y="1714320"/>
            <a:ext cx="8067600" cy="45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Regole per le prove </a:t>
            </a:r>
            <a:r>
              <a:rPr b="0" i="1" lang="it-IT" sz="3200" spc="-1" strike="noStrike">
                <a:solidFill>
                  <a:srgbClr val="000080"/>
                </a:solidFill>
                <a:latin typeface="Arial"/>
              </a:rPr>
              <a:t>a corrispondenza</a:t>
            </a:r>
            <a:r>
              <a:rPr b="0" i="1" lang="hr-HR" sz="32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80"/>
                </a:solidFill>
                <a:latin typeface="Arial"/>
              </a:rPr>
              <a:t>Gli elenchi devono contenere un numero ridotto di elementi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Bisogna </a:t>
            </a:r>
            <a:r>
              <a:rPr b="0" lang="it-IT" sz="3200" spc="-1" strike="noStrike">
                <a:solidFill>
                  <a:srgbClr val="000080"/>
                </a:solidFill>
                <a:latin typeface="Arial"/>
              </a:rPr>
              <a:t>inserire un elemento in più in uno dei due, per evitare che l’ultima corrispondenza risulti automatic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80"/>
                </a:solidFill>
                <a:latin typeface="Arial"/>
              </a:rPr>
              <a:t>Le liste vanno proposte su due colonne affiancate e su una sola facciata del fogli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 Black"/>
              </a:rPr>
              <a:t>L’introduzione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Deve motivare l’alunno, prepararlo all’apprendimento, creare l’atmosfera giust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Dipende dal contenuto della lezion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Errore frequente – iniziare la lezione sempre allo stesso modo: es. Ripetendo la lezione precedent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hr-HR" sz="3600" spc="-1" strike="noStrike">
                <a:solidFill>
                  <a:srgbClr val="000080"/>
                </a:solidFill>
                <a:latin typeface="Arial"/>
              </a:rPr>
              <a:t>Prove di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 corrispondenz</a:t>
            </a:r>
            <a:r>
              <a:rPr b="1" lang="hr-HR" sz="3600" spc="-1" strike="noStrike">
                <a:solidFill>
                  <a:srgbClr val="000080"/>
                </a:solidFill>
                <a:latin typeface="Arial"/>
              </a:rPr>
              <a:t>a</a:t>
            </a:r>
            <a:br>
              <a:rPr sz="3600"/>
            </a:br>
            <a:r>
              <a:rPr b="1" lang="it-IT" sz="3600" spc="-1" strike="noStrike">
                <a:solidFill>
                  <a:srgbClr val="000080"/>
                </a:solidFill>
                <a:latin typeface="Arial"/>
              </a:rPr>
              <a:t>(o di confronto o di abbinamento)</a:t>
            </a:r>
            <a:br>
              <a:rPr sz="3600"/>
            </a:b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95280" y="17143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TRUTTURA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80"/>
                </a:solidFill>
                <a:latin typeface="Arial"/>
              </a:rPr>
              <a:t>lista di PREMESSE da abbinare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80"/>
                </a:solidFill>
                <a:latin typeface="Arial"/>
              </a:rPr>
              <a:t>correttamente ad una lista di rispost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OTENZIALITÁ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80"/>
                </a:solidFill>
                <a:latin typeface="Arial"/>
              </a:rPr>
              <a:t>permettono di rilevare una vasta gamma di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80"/>
                </a:solidFill>
                <a:latin typeface="Arial"/>
              </a:rPr>
              <a:t>conoscenze e abilità assai divers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80"/>
                </a:solidFill>
                <a:latin typeface="Arial"/>
              </a:rPr>
              <a:t>permettono di verificare abilità logich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hr-HR" sz="3600" spc="-1" strike="noStrike">
                <a:solidFill>
                  <a:srgbClr val="000080"/>
                </a:solidFill>
                <a:latin typeface="Arial Black"/>
              </a:rPr>
              <a:t>Prove di </a:t>
            </a:r>
            <a:r>
              <a:rPr b="0" lang="en-US" sz="3600" spc="-1" strike="noStrike">
                <a:solidFill>
                  <a:srgbClr val="000080"/>
                </a:solidFill>
                <a:latin typeface="Arial Black"/>
              </a:rPr>
              <a:t>corrispondenz</a:t>
            </a:r>
            <a:r>
              <a:rPr b="0" lang="hr-HR" sz="3600" spc="-1" strike="noStrike">
                <a:solidFill>
                  <a:srgbClr val="000080"/>
                </a:solidFill>
                <a:latin typeface="Arial Black"/>
              </a:rPr>
              <a:t>a</a:t>
            </a:r>
            <a:br>
              <a:rPr sz="3600"/>
            </a:b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71360" y="1642680"/>
            <a:ext cx="7995960" cy="47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Es. Scrivi la lettera del fenomeno naturale nella colonna di sinistra davanti al significato corrispondente della colonna di destra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a) rugiada          ___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il</a:t>
            </a: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vapore acqueo </a:t>
            </a: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condensa in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                                      </a:t>
            </a: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minuscoli cristalli di ghiaccio</a:t>
            </a: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 sull’erba</a:t>
            </a: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b) nuvola           ___</a:t>
            </a: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il</a:t>
            </a: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vapore acqueo contenuto nell'aria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                        </a:t>
            </a: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             </a:t>
            </a: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condensa in gocce d'acqua</a:t>
            </a: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 sull’erba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c) neve              ___ </a:t>
            </a: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il</a:t>
            </a: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vapore acqueo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ondensa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                                       </a:t>
            </a: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in minuscole gocce di acqua nell’alta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                                       </a:t>
            </a: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atmosfera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d) brina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hr-HR" sz="3600" spc="-1" strike="noStrike">
                <a:solidFill>
                  <a:srgbClr val="000080"/>
                </a:solidFill>
                <a:latin typeface="Arial"/>
              </a:rPr>
              <a:t>Prove di 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completamento</a:t>
            </a:r>
            <a:br>
              <a:rPr sz="3600"/>
            </a:b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(o integrazione)</a:t>
            </a:r>
            <a:br>
              <a:rPr sz="3600"/>
            </a:b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00080" y="1571400"/>
            <a:ext cx="8067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RUTTURA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frasi o brani che devono essere completati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elle parti mancanti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OSSIBILITÁ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1. proporre le risposte da dare insieme ad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ltre alternative errate (DISTRATTORI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2. non predisporre alcuna rispost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OTENZIALITÁ:</a:t>
            </a:r>
            <a:r>
              <a:rPr b="1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ermettono di verificare la comprensione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di un argomento o di un test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IMITI:</a:t>
            </a:r>
            <a:r>
              <a:rPr b="1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spesso sono usati per controllare conoscenze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ozionistich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66cc"/>
                </a:solidFill>
                <a:latin typeface="Arial Black"/>
              </a:rPr>
              <a:t>Prove di completamento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Evitare quesiti ambigui o che ammettono come risposta più parole o fras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Lasciare sempre lo stesso spazio per il completamento per non influenzare l’allievo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Evitare di richiedere più completamenti per ciascun quesito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Se le risposte non sono riportate, devono essere inequivocabilmente individuabili in relazione al contesto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66cc"/>
                </a:solidFill>
                <a:latin typeface="Arial Black"/>
              </a:rPr>
              <a:t>COMPLETARE FRASI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95280" y="157140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La scala ci dice di quanto il territorio, per essere rappresentato sulla carta, è stato __________________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e la scala di una carta è 1:30 000, quando la leggerai dirai ____________________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e la scala della carta è 1:10 000, 3 cm sulla carta corrispondono a _______ nella realtà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66cc"/>
                </a:solidFill>
                <a:latin typeface="Arial Black"/>
              </a:rPr>
              <a:t>Le prove grafiche e pratiche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95280" y="16426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</a:t>
            </a:r>
            <a:r>
              <a:rPr b="0" lang="it-IT" sz="3200" spc="-1" strike="noStrike">
                <a:solidFill>
                  <a:srgbClr val="000080"/>
                </a:solidFill>
                <a:latin typeface="Arial"/>
              </a:rPr>
              <a:t>ono rappresentate da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ll’esecuzione di:</a:t>
            </a:r>
            <a:r>
              <a:rPr b="0" lang="it-IT" sz="3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80"/>
                </a:solidFill>
                <a:latin typeface="Arial"/>
              </a:rPr>
              <a:t>disegni,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tabelle e grafic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80"/>
                </a:solidFill>
                <a:latin typeface="Arial"/>
              </a:rPr>
              <a:t>esercizi fisici,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80"/>
                </a:solidFill>
                <a:latin typeface="Arial"/>
              </a:rPr>
              <a:t>esperimenti di laboratorio,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imulazioni,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giochi di ruolo,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costruzioni, ecc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66cc"/>
                </a:solidFill>
                <a:latin typeface="Arial Black"/>
              </a:rPr>
              <a:t>Le </a:t>
            </a:r>
            <a:r>
              <a:rPr b="0" lang="it-IT" sz="3600" spc="-1" strike="noStrike">
                <a:solidFill>
                  <a:srgbClr val="3366cc"/>
                </a:solidFill>
                <a:latin typeface="Arial Black"/>
              </a:rPr>
              <a:t>prove di verifica</a:t>
            </a:r>
            <a:r>
              <a:rPr b="0" lang="hr-HR" sz="3600" spc="-1" strike="noStrike">
                <a:solidFill>
                  <a:srgbClr val="3366cc"/>
                </a:solidFill>
                <a:latin typeface="Arial Black"/>
              </a:rPr>
              <a:t> </a:t>
            </a:r>
            <a:r>
              <a:rPr b="0" lang="it-IT" sz="3600" spc="-1" strike="noStrike">
                <a:solidFill>
                  <a:srgbClr val="3366cc"/>
                </a:solidFill>
                <a:latin typeface="Arial Black"/>
              </a:rPr>
              <a:t>semistrutturate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76400" y="1571760"/>
            <a:ext cx="8067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Si tratta di una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rie articolata di quesiti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che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presentano stimoli chiusi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stabiliscono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lcuni vincoli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escrittivi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 sulla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ormulazione delle rispost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sono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confrontabili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in base a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 criteri di correzione predeterminati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consentono di predeterminare i livelli di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accettabilità delle prestazioni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definiscono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la scala dei punteggi relativi al livello di adeguatezza di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ciascuna risposta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rend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ono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 agevole la procedura di correzione della prova e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quella di attribuzione dei punteggi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66cc"/>
                </a:solidFill>
                <a:latin typeface="Arial Black"/>
              </a:rPr>
              <a:t>Aspetti positivi e negativi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28800" y="1500120"/>
            <a:ext cx="813888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Aspetti positivi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offerta di stimoli chiusi e circoscritti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edefinizione di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criteri univoci di misurazione e valutazione delle prestazioni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relativa facilità di correzione delle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risposte e di trattazione dei dati valutativi raccolti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non richiedono agli allievi l'utilizzo prevalente della </a:t>
            </a:r>
            <a:r>
              <a:rPr b="0" i="1" lang="it-IT" sz="2400" spc="-1" strike="noStrike">
                <a:solidFill>
                  <a:srgbClr val="000080"/>
                </a:solidFill>
                <a:latin typeface="Arial"/>
              </a:rPr>
              <a:t>memoria</a:t>
            </a:r>
            <a:r>
              <a:rPr b="0" i="1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riconoscitiva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Aspetti negativi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non possono consentire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una lettura totalmente automatica delle rispost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richiedono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 un notevole impegno in fase di preparazion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66cc"/>
                </a:solidFill>
                <a:latin typeface="Arial Black"/>
              </a:rPr>
              <a:t>Tipologia delle </a:t>
            </a:r>
            <a:r>
              <a:rPr b="0" lang="it-IT" sz="3600" spc="-1" strike="noStrike">
                <a:solidFill>
                  <a:srgbClr val="3366cc"/>
                </a:solidFill>
                <a:latin typeface="Arial Black"/>
              </a:rPr>
              <a:t>prove semistrutturate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295280" y="17143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80"/>
                </a:solidFill>
                <a:latin typeface="Arial"/>
              </a:rPr>
              <a:t>le d</a:t>
            </a:r>
            <a:r>
              <a:rPr b="0" i="1" lang="it-IT" sz="2800" spc="-1" strike="noStrike">
                <a:solidFill>
                  <a:srgbClr val="000080"/>
                </a:solidFill>
                <a:latin typeface="Arial"/>
              </a:rPr>
              <a:t>omande</a:t>
            </a:r>
            <a:r>
              <a:rPr b="0" i="1" lang="hr-HR" sz="2800" spc="-1" strike="noStrike">
                <a:solidFill>
                  <a:srgbClr val="000080"/>
                </a:solidFill>
                <a:latin typeface="Arial"/>
              </a:rPr>
              <a:t> semistrutturat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80"/>
                </a:solidFill>
                <a:latin typeface="Arial"/>
              </a:rPr>
              <a:t>i </a:t>
            </a:r>
            <a:r>
              <a:rPr b="0" i="1" lang="it-IT" sz="2800" spc="-1" strike="noStrike">
                <a:solidFill>
                  <a:srgbClr val="000080"/>
                </a:solidFill>
                <a:latin typeface="Arial"/>
              </a:rPr>
              <a:t>saggi brevi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80"/>
                </a:solidFill>
                <a:latin typeface="Arial"/>
              </a:rPr>
              <a:t>i riassunti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80"/>
                </a:solidFill>
                <a:latin typeface="Arial"/>
              </a:rPr>
              <a:t>le mappe concettual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80"/>
                </a:solidFill>
                <a:latin typeface="Arial"/>
              </a:rPr>
              <a:t>la preparazione e la realizzazione di un  progetto</a:t>
            </a:r>
            <a:r>
              <a:rPr b="0" i="1" lang="it-IT" sz="2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80"/>
                </a:solidFill>
                <a:latin typeface="Arial"/>
              </a:rPr>
              <a:t>le prove</a:t>
            </a:r>
            <a:r>
              <a:rPr b="0" i="1" lang="hr-H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000080"/>
                </a:solidFill>
                <a:latin typeface="Arial"/>
              </a:rPr>
              <a:t>di comprensione di test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80"/>
                </a:solidFill>
                <a:latin typeface="Arial"/>
              </a:rPr>
              <a:t>le relazioni di ricerca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 Black"/>
              </a:rPr>
              <a:t>Le domande semistrutturate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Devono essere chiare, semplici, univocamente interpretabili, non concatenat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Devono stimolare risposte brevi, collocabili all’interno di un ventaglio limitato di possibilità, con criteri di formulazione ben esplicitat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Richiedono la formulazione delle risposte criterio e il punteggio da assegnarv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 Black"/>
              </a:rPr>
              <a:t>Tipi di introduzione 1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95280" y="1714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La conversazion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Osservare un’illustrazion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Cantare una canzone o ascoltare musiche adatt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Raccontare una storiell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Usare i pupazzi o i burattin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Fingere una visit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 Black"/>
              </a:rPr>
              <a:t>Esempio di domanda strutturata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00080" y="1571400"/>
            <a:ext cx="8067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Osserva la comunicazione pubblicitaria che segue e poi rispondi alle domande. Scrivi tu la risposta che ritieni più completa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I biglietti d’auguri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con i Re Magi aiutano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i bambini ch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nascono nelle capanne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I biglietti dell’Unicef si possono acquistare in tutti gli uffici postali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90" name="Picture 3" descr="re_Magi.bmp"/>
          <p:cNvPicPr/>
          <p:nvPr/>
        </p:nvPicPr>
        <p:blipFill>
          <a:blip r:embed="rId1"/>
          <a:stretch/>
        </p:blipFill>
        <p:spPr>
          <a:xfrm>
            <a:off x="4429080" y="2643120"/>
            <a:ext cx="12193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 Black"/>
              </a:rPr>
              <a:t>Esempio di risposte criterio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95280" y="190476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1. Indica in quale periodo dell’anno è stato scritto i messaggio pubblicitario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__________________________________________________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2. Indica a chi fa riferimento l’espressione “bambini che nascono nelle capanne” utilizzata dal messaggio pubblicitario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80"/>
                </a:solidFill>
                <a:latin typeface="Arial"/>
              </a:rPr>
              <a:t>_____________________________________________________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428840" y="4214880"/>
          <a:ext cx="6929280" cy="1925640"/>
        </p:xfrm>
        <a:graphic>
          <a:graphicData uri="http://schemas.openxmlformats.org/drawingml/2006/table">
            <a:tbl>
              <a:tblPr/>
              <a:tblGrid>
                <a:gridCol w="5715000"/>
                <a:gridCol w="1214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isposta criterio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unteggio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. Durante il periodo delle festività natalizie.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   </a:t>
                      </a: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ssenza di risposta o risposta non pertinente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. Bambini poveri e senza genitori; bambini abbandonati; bambini che non hanno soldi, ecc.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n risponde o risposta non pertinente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80"/>
                </a:solidFill>
                <a:latin typeface="Arial"/>
              </a:rPr>
              <a:t>Il  </a:t>
            </a:r>
            <a:r>
              <a:rPr b="1" lang="hr-HR" sz="4400" spc="-1" strike="noStrike">
                <a:solidFill>
                  <a:srgbClr val="000080"/>
                </a:solidFill>
                <a:latin typeface="Arial"/>
              </a:rPr>
              <a:t>s</a:t>
            </a:r>
            <a:r>
              <a:rPr b="1" lang="it-IT" sz="4400" spc="-1" strike="noStrike">
                <a:solidFill>
                  <a:srgbClr val="000080"/>
                </a:solidFill>
                <a:latin typeface="Arial"/>
              </a:rPr>
              <a:t>aggio breve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95280" y="157140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la traccia è articolata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, non ambigua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 e offre uno stimolo sufficientemente chiuso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invita a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d elaborare un breve elaborato compiuto e scritto in forma corretta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invita alla scelta di un ipotetico destinatario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fornisce document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stabilisce la lunghezza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Es. Spiega in 15 righe, facendo due esempi concreti e almeno cinque argomentazioni per spiegare l’importanza del turismo per l’Istria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80"/>
                </a:solidFill>
                <a:latin typeface="Arial"/>
              </a:rPr>
              <a:t>Il riassunto 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71360" y="1642680"/>
            <a:ext cx="7995960" cy="46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Valorizza le capacità di lettura e le capacità di scrittura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. 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Se opportunamente orientato mette in gioco complesse operazioni: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di focalizzazione dei concetti più significativi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di analisi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di ricostruzione sintetica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Es. Riassumi il seguente brano sulla zona pianeggiante in un breve testo di 40 parole. Tieni presente che il destinatario è un alunno che vive vicino al mare e vorrebbe trascorrere le vacanze in pianura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66cc"/>
                </a:solidFill>
                <a:latin typeface="Arial Black"/>
              </a:rPr>
              <a:t>Griglia di valutazione del riassunto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95280" y="1905120"/>
          <a:ext cx="7772400" cy="3759120"/>
        </p:xfrm>
        <a:graphic>
          <a:graphicData uri="http://schemas.openxmlformats.org/drawingml/2006/table">
            <a:tbl>
              <a:tblPr/>
              <a:tblGrid>
                <a:gridCol w="6348600"/>
                <a:gridCol w="1423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riteri di valutazione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unteggio 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unghezza del testo: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 contenimento dell’esposizione entro i limiti imposti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’esposizione non rispetta i limiti imposti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ompletezza della riscrittura: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 Contiene tutte le idee ed i concetti più importanti del testo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ontiene alcune delle idee principali del testo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ontiene idee ed elementi secondari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fficacia espositiva: 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 lo stile complessivo è personale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 lo stile complessivo del riassunto è di tipo riformulativo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unteggio totale</a:t>
                      </a:r>
                      <a:endParaRPr b="0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 Black"/>
              </a:rPr>
              <a:t>Le mappe concettuali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Si tratta della ricostruzione di un argomento di studio a partire dai concetti generali per arrivare a quelli più specific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L’alunno cerca di individuare: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L’elenco dei concetti e sottoconcetti fondamental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Le relazioni (parole legame) tra concetti e sottoconcett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 Black"/>
              </a:rPr>
              <a:t>Esempio di mappa concettuale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186000" y="1643040"/>
            <a:ext cx="44704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r-HR" sz="4400" spc="-1" strike="noStrike">
                <a:solidFill>
                  <a:srgbClr val="00008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er la stesura finale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95280" y="157140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O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gni 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domanda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 deve avere un codice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numerico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M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ai spezzare 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le domande 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su due pagin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M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ai separare grafici o tabelle 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dalle domand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orrispondent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are caratteri tipografici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ufficientemente grand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I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nserire un foglio iniziale con lo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spazio per i dati personali e le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indicazioni generali per la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ompilazione della prova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 Black"/>
              </a:rPr>
              <a:t>Tipi di introduzione 2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5280" y="1714320"/>
            <a:ext cx="7772400" cy="45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Collegare l’introduzione col compito per cas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Leggere il passo di un bran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Proporre un problema da risolver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Eseguire, osservare o descrivere un esperiment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La durata dell’introduzione è variabile, ma non deve essere troppo lunga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 Black"/>
              </a:rPr>
              <a:t>La lezione nuova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42640" y="1571400"/>
            <a:ext cx="7924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Passi necessari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1. stabilire l’ampiezza e la profondità dei contenuti da svolger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2. stabilire il numero e l’ordine dei concetti da svolger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3. stabilire gli obiettivi da raggiunger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4. elaborare la strategia didattica da applicare con i metodi, i mezzi e le tecnologie didattiche da usare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 Black"/>
              </a:rPr>
              <a:t>Lezioni con l’alunno al centro dell’attenzione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71360" y="1642680"/>
            <a:ext cx="79959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Obiettivo dell’insegnamento: aiutare gli alunni ad acquisire conoscenze, abilità e abitudini da applicare nella soluzione di problem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Concordare con gli alunni gli argomenti da affrontare, le modalità di procedere, i mezzi e le tecniche d’indagine da usar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Ruolo dell’insegnante – organizzare e monitorare l’apprendiment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 Black"/>
              </a:rPr>
              <a:t>La ripetizione e il consolidamento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42640" y="1642680"/>
            <a:ext cx="7924680" cy="46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erve a far propri i saperi, le conoscenz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Tipi di ripetizion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Ripetizione reiterativa – ripetere allo stesso modo come è stato appres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Ripetizione creativa o produttiva – ricreare in modo originale, usare gli apprendimenti in situazioni nuove, scoprire nuovi legami, trarre nuove conclusion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 Black"/>
              </a:rPr>
              <a:t>L’esercitazione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42640" y="17146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Serve a sviluppare le abilità di tipo cognitivo, affettivo e psicomotorio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Area cognitiva: categorie tassonomiche – conoscenza, comprensione, applicazione, analisi, sintesi, valutazion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Verbi attivi: saper definire, identificare, creare, spiegare, dimostrare, trasformare, interpretare, organizzare, collegare, classificare, dedurre, localizzare, confrontare, analizzare, giudicare, modificare, sviluppare, argomentare, valutar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8:16:54Z</dcterms:created>
  <dc:creator>korisnik</dc:creator>
  <dc:description/>
  <dc:language>en-US</dc:language>
  <cp:lastModifiedBy>Miro</cp:lastModifiedBy>
  <dcterms:modified xsi:type="dcterms:W3CDTF">2013-05-27T15:55:33Z</dcterms:modified>
  <cp:revision>83</cp:revision>
  <dc:subject/>
  <dc:title>IL METODO DEL LAVORO SUL TESTO</dc:title>
</cp:coreProperties>
</file>