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7E22-A92C-4206-98B0-B46B983E9611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2137-E7B6-43B8-A89C-02F07D242820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0EDF-34B2-4D04-A641-66A211ACDED8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302C-553C-4F3A-8424-228C1590909D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DFF4-E0F5-490B-8951-61D799280AAA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2992-257B-4ED3-B5D4-E6795AC3125D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069D-DA43-4DD6-A1CF-857B5DB48C15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29AF-4F12-47CE-BE6A-6CE89000A0D9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FE4-8A0B-4D7E-A12C-E1952825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833-5D3C-44FE-8362-AB9D33B4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F8B-545B-4906-BFFF-C4A0ED50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D8C3-2763-428B-A7EB-5FD67D8F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3161-5BA3-4BE6-987F-CC7C0416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7B79-BCF0-47B6-A1A9-7F27DF6B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79BF-A3FD-4C0B-8C69-78FB3F57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B435-CFE2-4794-BB94-B1FBB2C9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7C3C-204A-48FC-9E12-54958C58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B967-1B3A-4E80-88D9-466F5E96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4E27-904B-41E4-9815-56602695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0F8-3B71-449F-8C91-55CCC1B3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8501-724D-40F3-8AEA-F1E2BEA6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2E6F-D2D9-4E07-B805-627DF78F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591A-8B6E-4937-907F-8CFD0C1F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A07E-36C4-4D1C-84EA-09E20514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AC25-CE1F-46AC-83C9-4F1219F6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FD4-509D-4126-87AE-32DC8F4A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9E7-4ED8-43C9-9890-877D24ED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7DF-9095-497B-8FAC-9C36D72B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96A-A6CA-4DFE-9D57-FE62EFA0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07F-3B13-4693-90CB-CBBEB703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B59-42C0-4C21-B1A6-2AA69638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D3C-7409-4F7F-82B8-37DAEC9C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1D66-A757-4A53-96F2-953FC6B7260F}" type="slidenum"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FFB2-0943-4A47-8777-7472AC36FA43}" type="slidenum"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5840" y="1356840"/>
            <a:ext cx="8424720" cy="3225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248e2e"/>
                </a:solidFill>
                <a:latin typeface="Comic Sans MS"/>
              </a:rPr>
              <a:t>IL RAPPORTO FRA LA DIDATTICA DELLA NATURA E SOCIET</a:t>
            </a:r>
            <a:r>
              <a:rPr b="1" lang="en-US" sz="4400" spc="-1" strike="noStrike">
                <a:solidFill>
                  <a:srgbClr val="248e2e"/>
                </a:solidFill>
                <a:latin typeface="Comic Sans MS"/>
              </a:rPr>
              <a:t>À</a:t>
            </a:r>
            <a:r>
              <a:rPr b="1" lang="hr-HR" sz="4400" spc="-1" strike="noStrike">
                <a:solidFill>
                  <a:srgbClr val="248e2e"/>
                </a:solidFill>
                <a:latin typeface="Comic Sans MS"/>
              </a:rPr>
              <a:t> E LE ALTRE SCIEN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71680" y="4857480"/>
            <a:ext cx="85723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cente: Mr.sc. Nevia Močini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so di studio: Insegnamento di classe 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Rami della filosof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56760" y="121428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etafisic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studia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e proprietà di tutto ciò che è o esis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Logica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si occupa di argomenti espressi linguisticamente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– lor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ruttura, forma e correzione per raggiungere la certezza della validità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Epistemologia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analizz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validità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rigini e limiti della conoscenz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Antropologia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guarda gli esseri umani dal punto di vista biologico, sociale, culturale e umanistic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Etica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esamina i codici morali e le norme, le loro motivazioni, la validità e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iversalità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is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estetic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della natura della bellezza e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delle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reazioni artistich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Politica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si occupa di aspetti della comunità umana, quali l'origine sociale,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orme di governo,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tere, ecc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b050"/>
                </a:solidFill>
                <a:latin typeface="Comic Sans MS"/>
              </a:rPr>
              <a:t>Logica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56760" y="1357200"/>
            <a:ext cx="82868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logic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è lo studio del ragionamento e dell'argomentazione e, in particolare, dei procedimenti inferenziali, rivolto a chiarire quali procedimenti di pensiero siano validi e quali non validi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logic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lassica è la scienza che tratta tutta la validità e le articolazioni di un discorso in termini di nessi inferenziali - in particolare deduttivi - relativamente alle proposizioni che lo compongon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281448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050"/>
                </a:solidFill>
                <a:uFillTx/>
                <a:latin typeface="Comic Sans MS"/>
              </a:rPr>
              <a:t>Log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4200" y="1143000"/>
            <a:ext cx="85010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È una delle condizioni essenziali dell’insegnamento ben organizzato,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n quan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ia i metodi e i principi che consentono di distinguere i ragionamenti  c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tti da quelli sc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tt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l corso dell’insegnamento, gli alunni eseguono attività int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tuali che devono essere eseguite secondo principi logi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00b050"/>
                </a:solidFill>
                <a:uFillTx/>
                <a:latin typeface="Comic Sans MS"/>
              </a:rPr>
              <a:t>Sociologia</a:t>
            </a:r>
            <a:r>
              <a:rPr b="0" lang="hr-HR" sz="4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9680" y="142884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sociologi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è la scienza che studia le strutture sociali, le loro organizzazioni, le norme ed i processi che uniscono le persone non solo come individui ma come componenti di associazioni, gruppi ed istituzioni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campo di interesse della sociologia spazia dall'analisi dei brevi contatti fra individui anonimi sulla strada, allo studio dei processi sociali globali, ai rapporti storici tra società differenti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417204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48e2e"/>
                </a:solidFill>
                <a:uFillTx/>
                <a:latin typeface="Comic Sans MS"/>
              </a:rPr>
              <a:t>SOCIOLOG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85840" y="1356840"/>
            <a:ext cx="82152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sociologia è una scienza che studia la società umana, i suoi processi e fenomen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scuola stessa è un’istituzione sociale, ma anche la classe è un piccolo gruppo sociale che stabilisce all’interno determinati rapporti sociali sia fra gli alunni che tra insegnante e alunn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48e2e"/>
                </a:solidFill>
                <a:uFillTx/>
                <a:latin typeface="Comic Sans MS"/>
              </a:rPr>
              <a:t>PSICOLOGIA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14200" y="1357200"/>
            <a:ext cx="850104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psicologi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è la scienza che studia il comportamento degli individui e i loro processi mentali.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ale studio riguarda le dinamiche interne dell'individuo, i rapporti che intercorrono tra quest'ultimo e l'ambiente, il comportamento umano ed i processi mentali che intercorrono tra gli stimoli sensoriali e le relative rispos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48e2e"/>
                </a:solidFill>
                <a:uFillTx/>
                <a:latin typeface="Comic Sans MS"/>
              </a:rPr>
              <a:t>PSICOLOGIA DELL’ETÀ EVOLUTIV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57120" y="1571400"/>
            <a:ext cx="84297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escrizione del comportamento umano nelle varie fasi dell'età dello svilupp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nal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e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a natura del comportamento e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cambiamenti che si verificano nel tempo, descr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zione d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queste modificazioni e scop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ert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e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ca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ra i cambiamenti del comportamento che interessano gli psicologi sono: le tappe fondamentali dello sviluppo fisico e motorio, le modificazioni delle funzioni cognitive e lo sviluppo della personalità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48e2e"/>
                </a:solidFill>
                <a:uFillTx/>
                <a:latin typeface="Comic Sans MS"/>
              </a:rPr>
              <a:t>PSICOLOGIA DELL’ETÀ EVOLU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07136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psicologia ci dà delle indicazioni sullo sviluppo delle funzioni psichiche dell’alunno, sulla sua vita emozionale, sui suoi interessi e su altre caratteristiche della personalità importanti nel processo istruttiv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base anche allo sviluppo psicologico del bambino, l’insegnante sceglie le tecniche e le procedure didattiche più adatte all’apprendimento del bambin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48e2e"/>
                </a:solidFill>
                <a:uFillTx/>
                <a:latin typeface="Comic Sans MS"/>
              </a:rPr>
              <a:t>PSICOLOGIA PEDAGOGIC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14200" y="928440"/>
            <a:ext cx="84297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tudia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'apprendimento come processo multi-componenziale e multi-procedural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e p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rincipali teorie dell'apprendimento e loro applicazioni all'insegnamento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li s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adi di elaborazione e acquisizione delle conoscenz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ruolo dell'attenzione nel processo di apprendimento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48e2e"/>
                </a:solidFill>
                <a:uFillTx/>
                <a:latin typeface="Comic Sans MS"/>
              </a:rPr>
              <a:t>PSICOLOGIA PEDAGOGIC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214280"/>
            <a:ext cx="78868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rappresentazione mentale delle conoscenze: organizzazione e struttura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istemi di memoria e apprendimento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ensiero,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gionamento, e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ntelligenza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Motivazione, valore del compito e aspettativ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utoefficacia e apprendiment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ifficoltà ad apprender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428480"/>
            <a:ext cx="77738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a didattica della natura e soci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una scienza INTERDISCIPLIN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ettamente collegata sia con le altre scienze de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‘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ducazione che con le rimanenti scienze umanistiche e le scienze da cui trae i contenuti della natura e soci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10"/>
          <p:cNvSpPr/>
          <p:nvPr/>
        </p:nvSpPr>
        <p:spPr>
          <a:xfrm flipH="1" flipV="1">
            <a:off x="2626920" y="1699920"/>
            <a:ext cx="792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3143160" y="22860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DIDATTICA DELLA NATURA E SOCIE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50920" y="76500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Scienze dalle quali si traggono i con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nuti 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insegnamento della natura e socie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18"/>
          <p:cNvSpPr/>
          <p:nvPr/>
        </p:nvSpPr>
        <p:spPr>
          <a:xfrm flipH="1">
            <a:off x="2268000" y="2781360"/>
            <a:ext cx="100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324000" y="263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Sociolog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46836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Filosof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21"/>
          <p:cNvSpPr/>
          <p:nvPr/>
        </p:nvSpPr>
        <p:spPr>
          <a:xfrm flipH="1">
            <a:off x="2195280" y="299736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1042920" y="4581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Logi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23"/>
          <p:cNvSpPr/>
          <p:nvPr/>
        </p:nvSpPr>
        <p:spPr>
          <a:xfrm flipH="1">
            <a:off x="2916360" y="3213000"/>
            <a:ext cx="79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6732720" y="47628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5786280" y="3571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egagog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5929200" y="107172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Storia della pedagog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6143760" y="17859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edagogia compar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28"/>
          <p:cNvSpPr/>
          <p:nvPr/>
        </p:nvSpPr>
        <p:spPr>
          <a:xfrm>
            <a:off x="6572160" y="2357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Didattica gnera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29"/>
          <p:cNvSpPr/>
          <p:nvPr/>
        </p:nvSpPr>
        <p:spPr>
          <a:xfrm>
            <a:off x="6372360" y="33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sicolog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5508720" y="43657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sicologia del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à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voluti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5003640" y="5229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sicologia pedagogi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32"/>
          <p:cNvSpPr/>
          <p:nvPr/>
        </p:nvSpPr>
        <p:spPr>
          <a:xfrm flipV="1">
            <a:off x="5357880" y="85716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33"/>
          <p:cNvSpPr/>
          <p:nvPr/>
        </p:nvSpPr>
        <p:spPr>
          <a:xfrm flipV="1">
            <a:off x="5572080" y="1428480"/>
            <a:ext cx="56196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34"/>
          <p:cNvSpPr/>
          <p:nvPr/>
        </p:nvSpPr>
        <p:spPr>
          <a:xfrm flipV="1">
            <a:off x="5857920" y="2133360"/>
            <a:ext cx="58572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35"/>
          <p:cNvSpPr/>
          <p:nvPr/>
        </p:nvSpPr>
        <p:spPr>
          <a:xfrm flipV="1">
            <a:off x="5867280" y="2636640"/>
            <a:ext cx="720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36"/>
          <p:cNvSpPr/>
          <p:nvPr/>
        </p:nvSpPr>
        <p:spPr>
          <a:xfrm>
            <a:off x="5796000" y="299736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37"/>
          <p:cNvSpPr/>
          <p:nvPr/>
        </p:nvSpPr>
        <p:spPr>
          <a:xfrm>
            <a:off x="5148360" y="3141720"/>
            <a:ext cx="431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38"/>
          <p:cNvSpPr/>
          <p:nvPr/>
        </p:nvSpPr>
        <p:spPr>
          <a:xfrm>
            <a:off x="4932360" y="3141720"/>
            <a:ext cx="144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474984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248e2e"/>
                </a:solidFill>
                <a:uFillTx/>
                <a:latin typeface="Comic Sans MS"/>
              </a:rPr>
              <a:t>PEDAGOG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pedagogi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è una scienza dell'educazione che si occupa della riflessione critica e della progettazione della pratica educativa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57120" y="2571840"/>
            <a:ext cx="8501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sa si inserisce in un ambito costituito da un insieme di discipline che hanno come oggetto di studio il processo educativo ivi compresa l'istruzione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00b050"/>
                </a:solidFill>
                <a:uFillTx/>
                <a:latin typeface="Comic Sans MS"/>
              </a:rPr>
              <a:t>Storia della pedagog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28400" y="128592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Esistono due piani: quello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ella “pratica educativa” e quello della riflessione su di essa.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 pratica educativa è mutata nel tempo, si è affinata, adattandosi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lle mutate situazioni storiche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nflusso della storia della pedagogia sulla didattica della natura e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ci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siste nella necess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conoscere 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‘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egnamento nel passato per evitare perdite di tempo nell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pri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luzioni didattiche g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ote nel passato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3128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248e2e"/>
                </a:solidFill>
                <a:uFillTx/>
                <a:latin typeface="Comic Sans MS"/>
              </a:rPr>
              <a:t>PEDAGOGIA COMPAR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E’ una scienza che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i occupa dell'analisi delle pratiche educative in rapporto ai sistemi educativi e formativi di altre nazioni e culture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razie ai moderni mezzi di comunicazione, i risultati delle ricerche scientifiche in pedagogia, si trasmettono molto velocemente da un paese 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l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6553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248e2e"/>
                </a:solidFill>
                <a:uFillTx/>
                <a:latin typeface="Comic Sans MS"/>
              </a:rPr>
              <a:t>DIDATTICA GENERA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8858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didattica è la scienza della comunicazione e della relazione educativa. L'oggetto specifico della didattica è lo studio della pratica d'insegnamento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e dei problemi di apprendimento. La didattica della natura e soci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tudia tali problemi ne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‘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bito di una sola materi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unque, la didattica della natura e soci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ve contenere tutti gli elementi della didattica generale ma con le dovu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difiche 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attamenti all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ticolar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lla natura e soci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00b050"/>
                </a:solidFill>
                <a:uFillTx/>
                <a:latin typeface="Comic Sans MS"/>
              </a:rPr>
              <a:t>Filosofia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1571400"/>
            <a:ext cx="82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a filosofia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è un campo di studi che indaga sul senso del mondo e dell'esistenza uman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tentativo di studiare e definire le possibilità e i limiti della conoscenza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rima che un campo di studi, la filosofia fu una disciplina che assunse i caratteri della conduzione d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 un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"modo di vita", ad esempio nell'applicazione concreta dei principi desunti attraverso la riflession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2600" y="0"/>
            <a:ext cx="70009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00b050"/>
                </a:solidFill>
                <a:uFillTx/>
                <a:latin typeface="Comic Sans MS"/>
              </a:rPr>
              <a:t>Filosofia dell’educazio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-360" y="1071360"/>
            <a:ext cx="9001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 sempre tutti i pedagogisti hanno costruito la propria teoria pedagogica sulla base di una particolare interpretazione del mondo e della vit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vera filosofia (secondo Dewey), anzichè favorire l’evasione dell’uomo dai problemi e dalle difficoltà della vita, lo aiuta a riconoscere ed accettare la vita per ciò che è e lo guida nell’azione che ha lo scopo di modificarla e m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liorarl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6:35:01Z</dcterms:created>
  <dc:creator>Korisnik</dc:creator>
  <dc:description/>
  <dc:language>en-US</dc:language>
  <cp:lastModifiedBy>Miro</cp:lastModifiedBy>
  <dcterms:modified xsi:type="dcterms:W3CDTF">2013-03-11T21:50:47Z</dcterms:modified>
  <cp:revision>43</cp:revision>
  <dc:subject/>
  <dc:title>IL RAPPORTO FRA LA DIDATTICA DELLA NATURA E SOCIETÀ E LE ALTRE SCIENZE</dc:title>
</cp:coreProperties>
</file>