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8DA6-40F0-414A-AF56-FCA771067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B15D-54E1-436E-A83B-98275A258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3D51-2C2C-43D8-B6E5-42AB9D10A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089F-5151-4341-A173-4389D2EFC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EF8A0-4F89-4EF0-B774-49847B4D0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28662-633E-4826-B2D9-2C56CC3AC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13050-41BB-4DFE-9694-67BF618C8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4F8D4-3707-4BFD-8080-363FD173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AAB2A-6610-4EAE-92BB-28865EE03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47C9F-65B3-485D-A15C-BF75D911C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87E5A-031B-40C8-91AB-68B4B676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4E8A-D876-488C-971D-58300E449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C532D-5465-448A-848E-E5722C19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4E240-B0C3-4F0A-87FB-4331FEB8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D0ACD-2479-49F4-B584-243C1F5AB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D9F98-C0E4-4452-8976-33725B004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59709-D026-4A3B-BB3E-7838EE0F0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B891-68C6-44A9-BFB5-1B1DF3C2A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A3A6-6C54-453C-A953-41AFB9F00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3713-46E0-454A-BB22-39BF91B54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31B0-8951-4DA3-A220-3ECE28A9A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DF80-1655-4682-9C1E-7FBBE21E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CF41-3386-44CC-A5BC-393C6EB5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04E0-EEFB-415C-90F0-0D39CDA5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EC189-92F4-478E-A6D2-3A0D525B8770}" type="slidenum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77A5D-63D9-4CDA-BC25-00AC83FB0A13}" type="slidenum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7772400" cy="146988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600" spc="-1" strike="noStrike">
                <a:solidFill>
                  <a:srgbClr val="000000"/>
                </a:solidFill>
                <a:latin typeface="Arial"/>
              </a:rPr>
              <a:t>Il gioco</a:t>
            </a:r>
            <a:endParaRPr b="0" lang="en-US" sz="6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050560" y="4436640"/>
            <a:ext cx="4537080" cy="175284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Mr.sc. Nevia Močini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84360" y="228240"/>
            <a:ext cx="63547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600" spc="-1" strike="noStrike" u="sng">
                <a:solidFill>
                  <a:srgbClr val="8c0039"/>
                </a:solidFill>
                <a:uFillTx/>
                <a:latin typeface="Arial"/>
              </a:rPr>
              <a:t>Sviluppo psicologico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8280" y="1428840"/>
            <a:ext cx="64008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e risulta un progresso nell´acquisto delle cognizioni (conoscenze, abilità, capacità psico-fisiche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n progresso nelle facoltà concrete (osservazione, associazione, immaginazione, riflessione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n progresso nelle attività spirituali in genere (coordinamento delle attività, adattamento-inventiva, senso estetic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600" spc="-1" strike="noStrike" u="sng">
                <a:solidFill>
                  <a:srgbClr val="8c0039"/>
                </a:solidFill>
                <a:uFillTx/>
                <a:latin typeface="Arial"/>
              </a:rPr>
              <a:t>Sviluppo morale e social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356920" y="1428840"/>
            <a:ext cx="6481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l lavoro educa alla sincerità, alľemulazion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onferisce sicurezza (coscienza di sè e delle proprie possibilità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educa alla stima per il lavoratore, alľaltruismo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forma il carattere, sviluppa il senso di solidarietà e della responsabilità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3640" y="-4778280"/>
            <a:ext cx="304920" cy="886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340000" y="691920"/>
            <a:ext cx="6400800" cy="49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el piano e programma i lavori pratici sono una parte logica del contenuto dei vari nuclei temati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Es. cl. III La mia reg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Lavori pratici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La rappresentazione di un paesaggio col plast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Costruzione di cartine topografic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Costruzione del modellino di un mulino ad acqua, della turbina idraulica, del circuito elettrico,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Altri lavori pratici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438280" y="1357200"/>
            <a:ext cx="6400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la costruzione di modellini di veico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la preparazione del calendario del te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la costruzione di oggetti con la carta: bicchiere, berretto, portafoglio, bar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la costruzione di modellini di mobili, di segnali stradali, di mulini a vento, ec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Utilità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 lavori pratici servono come avviamento all’educazione tecn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Gli elementi del gioco e del lavor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endono dinamico l´insegn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timolano l´attenzione e l´interesse dell´ alun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umentano la motivazione all´apprendimento di nozioni e abilità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CONCLUSION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E´ importante che l´alunno viva lo studio come gioco e come lavoro, in questo modo impara molte nozioni significative, apprende molte abilità e abitudini ancor prima di andare a scuo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La didattica attuale richiede che il gioco, il lavoro e lo studio si integrino a vic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Le attività di gioco e di lavoro devono essere ben organizza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68360" y="259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IL GIOCO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E’ la forma spontanea dell´attività dell´infanz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E’ l´espressione naturale della sua attività e non è necessario motivarlo per ess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8c0039"/>
                </a:solidFill>
                <a:latin typeface="Arial"/>
              </a:rPr>
              <a:t>IMPORTANZA DEL GIOCO A SCUOLA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84360" y="1557000"/>
            <a:ext cx="64008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E´ un´attività importante nella formazione della sua personalità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Tramite il gioco socializz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Assimila nozion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Vive esperienze stimolan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Migliora le proprie abilità cogni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Migliora le proprie abilità psicomotori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8c0039"/>
                </a:solidFill>
                <a:latin typeface="Arial"/>
              </a:rPr>
              <a:t>IL GIOCO NELL´ INSEGNAMENTO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iposo dopo attività fatic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Metodo di lavoro utile per apprendere, ripetere e consolidare nozioni e abili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tile all´ inizio della prima classe, quando il bambino vive ancora nel mondo del gioco (importante non imporgli un insegnamento rigido, che potrebbe provocargli dei disturbi psichici e traumi nel comportamento e nel pensier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GIOCHI POSSIBILI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 u="sng">
                <a:solidFill>
                  <a:srgbClr val="000000"/>
                </a:solidFill>
                <a:uFillTx/>
                <a:latin typeface="Arial"/>
              </a:rPr>
              <a:t>Simbolici o di ruolo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(imitazione di movimenti e versi di animali, mestieri e professioni di perso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 u="sng">
                <a:solidFill>
                  <a:srgbClr val="000000"/>
                </a:solidFill>
                <a:uFillTx/>
                <a:latin typeface="Arial"/>
              </a:rPr>
              <a:t>Di movimento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(gioco del semaforo, caccia al tesoro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 u="sng">
                <a:solidFill>
                  <a:srgbClr val="000000"/>
                </a:solidFill>
                <a:uFillTx/>
                <a:latin typeface="Arial"/>
              </a:rPr>
              <a:t>Di costruzione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(modellini dei veicoli, dei mobili, plastico di un ambiente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 u="sng">
                <a:solidFill>
                  <a:srgbClr val="000000"/>
                </a:solidFill>
                <a:uFillTx/>
                <a:latin typeface="Arial"/>
              </a:rPr>
              <a:t>Linguistici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(elimina l´ intruso, cruciverba, quiz del sapere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 u="sng">
                <a:solidFill>
                  <a:srgbClr val="000000"/>
                </a:solidFill>
                <a:uFillTx/>
                <a:latin typeface="Arial"/>
              </a:rPr>
              <a:t>Di società o da tavolino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(gioco dell´oca, domino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11280" y="18900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8c0039"/>
                </a:solidFill>
                <a:latin typeface="Arial"/>
              </a:rPr>
              <a:t>IL LAVORO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68000" y="1341000"/>
            <a:ext cx="6875640" cy="494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E´ un’attività simile al gio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E´ un’estrinsecazione espressiva della vita perso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i traduce in forma di dominazione della natura (scienza e industria) o in realtà assolutamente nuove fondate su leggi costitutive pienamenta umane (pensiero e arte: filosofia, cultura, ar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manifestazione ed espansione del potere creativo delľuo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FUNZIONI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Far acquisire determinate abilità e abitudini lavorat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ssicurara una più profonda ed estesa conoscenza della real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iutare gli alunni ad applicare nella realtà le nozioni teoriche appre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viluppare le abilità manuali degli alunn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bituare all’ordine sul posto di lavo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UTILITA’ DEL LAVORO NELL’INSEGNAMENTO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l lavoro come opera cosciente diviene strumento di educazione. Ne risulta così per il fanciullo un più vivo sapere e un più abile saper fare, il che gli conferisce un più alto grado di maturazione genera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VANTAGGI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Sviluppo del corpo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: i lavori manuali soddisfano il bisogno del fanciullo di muovere i suoi muscoli; ne accrescono la forza fisica; ne impiegano le energie fisiche per adattare l´individuo all´ambiente e questo all´individu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8T08:30:04Z</dcterms:created>
  <dc:creator>User</dc:creator>
  <dc:description/>
  <dc:language>en-US</dc:language>
  <cp:lastModifiedBy>Miro</cp:lastModifiedBy>
  <dcterms:modified xsi:type="dcterms:W3CDTF">2013-06-03T20:35:03Z</dcterms:modified>
  <cp:revision>7</cp:revision>
  <dc:subject/>
  <dc:title>Il gioco</dc:title>
</cp:coreProperties>
</file>