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EC0-99C8-4A09-BACF-51A0FBA9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66F-5E1F-4B14-872E-8D72DC5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A1B-DB09-4EE2-B246-8703062E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D69-93B8-4000-B1CE-DD02926B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1E38-A226-4D59-8427-D4DBB17D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175D-A1D9-4EEF-8449-087066B2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280-395B-4ED0-AFC6-01C4D740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06FF-E044-452D-A811-286DC0B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BF5-AD4B-40DE-A79D-3DB72DD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E025-C1D4-49AA-834A-C3A0A8CE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A52A-24AC-46E5-86C3-3D46BE8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DDB-5A61-4635-A926-1071A57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ED08-C5C8-4C50-A19D-3FCD59FE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3E4A-BC69-4E67-87D0-383009D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F93-062D-4298-B9A6-1519C5D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E02A-73BF-4912-8255-420D8253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DFCD-20E8-4083-89E3-3DC2E977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F72-B35A-43ED-83AD-56C5716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9F9-13BA-4587-B321-7037B76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E94-FE77-40FF-9CA6-E0C560D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1BE-0541-41FC-95B4-0453C9E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B26-D055-4D8B-8C4D-65CC61AE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86F-ED32-4334-9295-4D0B40D0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788-B7B9-44AD-98B3-E357206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1E9-7236-4C71-A588-9D3CE649EE5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9B8-79A5-4060-9F1B-0B12FF7DC148}" type="slidenum">
              <a:rPr b="0" lang="hr-H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81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ff"/>
                </a:solidFill>
                <a:latin typeface="Times New Roman"/>
              </a:rPr>
              <a:t>I CRITERI DI ORGANIZZAZIONE DEI CONTENUTI NELLA NATURA E SOCIET</a:t>
            </a:r>
            <a:r>
              <a:rPr b="1" lang="hr-HR" sz="4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Mr.sc. Nevia Močinić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Es: il concetto di spazio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920" y="167652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I classe : la citt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o il paese dove l’alunno viv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II classe : il luogo natio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III classe : la region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IV classe : la Croaz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IL LIVELLO DI APPROFONDIMENTO DEI CONTENUT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Times New Roman"/>
              </a:rPr>
              <a:t>Gli alunni della prima classe sono in grado di descrivere l’ aspetto esteriore dei fenomeni e degli oggetti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Times New Roman"/>
              </a:rPr>
              <a:t>Nella seconda classe gli alunni osservano i vari avvenimenti e i cambiamenti che succedono durante il giorno, nel corso della settimana e dell’ann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Times New Roman"/>
              </a:rPr>
              <a:t>Nella terza classe, gli alunni sono in grado di collegare due fenomeni, individuandone la relazione causa-effett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Times New Roman"/>
              </a:rPr>
              <a:t>Quelli della quarta classe possono distinguere i fenomeni naturali da quelli sociali e tecnologici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IL CARATTERE RELATIVO DEI CONTENUTI DELLA NATURA E SOCIET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I contenuti cambiano a seconda della regione geografica ma anche a causa del progresso nella scienza, nella tecnologia e nella vita sociale ed economica del paes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I contenuti da svolgere in classe devono essere aggiornati continuamente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Ad ogni insegnante devono essere ben chiare le finalit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, gli obiettivi e i criteri per la strutturazione e l’insegnamento della N e 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GLI INTERESSI DEGLI ALUNNI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Il programma d’insegnamento deve tener conto di tutti i bisogni del bambin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Nel programma di N e S oltre ai contenuti obbligatori per tutti gli alunni esiste la possibilit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 di soddisfare gli interessi personali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Prendendo parte alle forme extradidattiche di attivit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, ogni alunno pu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ò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 soddisfare il proprio interess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Ogni scuola dovrebbe organizzare diverse attivit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 liber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76640"/>
            <a:ext cx="777240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Funzione della natura e societ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: </a:t>
            </a:r>
            <a:br>
              <a:rPr sz="3600"/>
            </a:b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introdurre il bambino nel mondo della realt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concreta che lo circonda ma in modo adeguato alla sua et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e alle sue capacit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psicofisiche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840" y="2786040"/>
            <a:ext cx="714384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643040" y="13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Funzione della natura e società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ff"/>
                </a:solidFill>
                <a:latin typeface="Times New Roman"/>
              </a:rPr>
              <a:t>I CRITERI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per riunire i contenuti </a:t>
            </a:r>
            <a:br>
              <a:rPr sz="3600"/>
            </a:b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della natura e societ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sono 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La vicinanza spaziale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La globalit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à</a:t>
            </a:r>
            <a:r>
              <a:rPr b="1" lang="hr-HR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dei contenut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La distribuzione concentrica a e spirale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Il livello di approfondimento dei contenuti- secondo l’et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à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Il carattere relativo dei contenut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ff"/>
                </a:solidFill>
                <a:latin typeface="Times New Roman"/>
              </a:rPr>
              <a:t>Gli interessi degli alunni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1. LA VICINANZA SPAZIALE E TEMPORALE ALL’ALUNN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Con questo criterio si realizzano i principi didattici della gradualit</a:t>
            </a:r>
            <a:r>
              <a:rPr b="0" lang="hr-HR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à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: dal noto all’ ignoto, dal vicino al lontano, dal semplice al complesso.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L’ insegnamento della natura e societ</a:t>
            </a:r>
            <a:r>
              <a:rPr b="1" lang="hr-HR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à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 parte dall’ ambiente dell’ alunno che egli pu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ò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 osservare da vicin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L’alunno deve conoscere l’ambiente dove viv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Con un’osservazione diretta del luogo natio i bambini non solo imparano a conoscere l’aspetto dei fenomeni sociali ma anche a comprendere altri aspetti del suo ambiente ad es. monte-pianura-mare-fiume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600" y="54936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Nelle classi inferiori l’insegnamento della natura e societ</a:t>
            </a:r>
            <a:r>
              <a:rPr b="0" lang="hr-HR" sz="2400" spc="-1" strike="noStrike">
                <a:solidFill>
                  <a:srgbClr val="0066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 si fonda sulla vicinanza spaziale e temporale all’alunn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Il concetto di luogo natio si amplia e si arricchisce di contenuti a seconda dell’et</a:t>
            </a:r>
            <a:r>
              <a:rPr b="0" lang="hr-HR" sz="2400" spc="-1" strike="noStrike">
                <a:solidFill>
                  <a:srgbClr val="0066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  e della classe che frequenta l’ alunn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Conoscere il mondo deve aiutare il bambino a comprendere meglio la vita degli uomini, la natura e la societ</a:t>
            </a:r>
            <a:r>
              <a:rPr b="0" lang="hr-HR" sz="2400" spc="-1" strike="noStrike">
                <a:solidFill>
                  <a:srgbClr val="0066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Non si devono fare differenze tra varie regioni e si deve insegnare al bambino ad amare la propria region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2. LA GLOBALIT</a:t>
            </a:r>
            <a:r>
              <a:rPr b="0" lang="hr-HR" sz="4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À</a:t>
            </a: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 DEI CONTENUTI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Prima idea sull’apprendimento globale del bambino risale a DECROLY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Egli afferma che la conoscenza primordiale del fanciullo non 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è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 analitica e astratta ma global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Bisogna adeguare l’insegnamento alle istanze psicologiche del bambin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È</a:t>
            </a: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 nata l’idea di CONCENTRAZIONE di alcune materie nella natura e società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Si tratta di superare la divisione per materie scolastiche collegando i contenuti sulla base di un CENTRO D’INTERESSE costituito dall’ambiente in cui l’alunno viv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016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La globalit</a:t>
            </a:r>
            <a:r>
              <a:rPr b="0" lang="hr-HR" sz="3200" spc="-1" strike="noStrike">
                <a:solidFill>
                  <a:srgbClr val="0066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 nell’insegnamento della N e S entra in azione nella presentazione degli aspetti naturali, sociali e tecnologici riguardanti la scuola, la casa, l’ambiente..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In questo modo la N e S assicura al bambino una conoscenza globale  del suo ambiente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ff"/>
                </a:solidFill>
                <a:latin typeface="Times New Roman"/>
              </a:rPr>
              <a:t>3. LA DISTRIBUZIONE CONCENTRICA E A SPIRALE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Nel programma i contenuti possono essere distribuiti in mod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LINEARE : 1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tema- 2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tema- 3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 tema .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ff"/>
                </a:solidFill>
                <a:latin typeface="Times New Roman"/>
              </a:rPr>
              <a:t>DISTRIBUZIONE CONCENTRICA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484360" y="4292640"/>
            <a:ext cx="2016360" cy="1873080"/>
          </a:xfrm>
          <a:prstGeom prst="ellipse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2700360" y="4508640"/>
            <a:ext cx="1584360" cy="1441440"/>
          </a:xfrm>
          <a:prstGeom prst="ellipse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2916360" y="4724280"/>
            <a:ext cx="1150920" cy="1059120"/>
          </a:xfrm>
          <a:prstGeom prst="ellipse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3132000" y="4941720"/>
            <a:ext cx="649440" cy="648000"/>
          </a:xfrm>
          <a:prstGeom prst="ellipse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3851280" y="5445000"/>
            <a:ext cx="1657440" cy="28908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V="1">
            <a:off x="3924360" y="4869000"/>
            <a:ext cx="1439640" cy="28872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487840" y="4529160"/>
            <a:ext cx="18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703840" y="546588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AMPLIAMENTO E APPROFONDI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487840" y="46735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Times New Roman"/>
              </a:rPr>
              <a:t>RIPETIZION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ff"/>
                </a:solidFill>
                <a:latin typeface="Times New Roman"/>
              </a:rPr>
              <a:t>DISTRIBUZIONE A SPIRALE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ff"/>
                </a:solidFill>
                <a:latin typeface="Times New Roman"/>
              </a:rPr>
              <a:t>Nella natura e società si usa la distribuzione concentrica a spirale dei contenut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Freeform 9"/>
          <p:cNvSpPr/>
          <p:nvPr/>
        </p:nvSpPr>
        <p:spPr>
          <a:xfrm>
            <a:off x="4211640" y="3284640"/>
            <a:ext cx="2536920" cy="3020760"/>
          </a:xfrm>
          <a:prstGeom prst="pie">
            <a:avLst/>
          </a:prstGeom>
          <a:noFill/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176560" y="2657520"/>
            <a:ext cx="174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340000" y="3860640"/>
            <a:ext cx="171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IV CLA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III CLA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II CLA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I CLA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340000" y="5445000"/>
            <a:ext cx="475308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16:09Z</dcterms:created>
  <dc:creator>korisnik</dc:creator>
  <dc:description/>
  <dc:language>en-US</dc:language>
  <cp:lastModifiedBy>Miro</cp:lastModifiedBy>
  <dcterms:modified xsi:type="dcterms:W3CDTF">2013-03-25T20:24:38Z</dcterms:modified>
  <cp:revision>8</cp:revision>
  <dc:subject/>
  <dc:title>Slide 1</dc:title>
</cp:coreProperties>
</file>