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338-0BEC-467D-8D70-EBEBEED0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FC4-F064-426B-9156-7E0166A5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A5F-2BD5-4C94-BCBC-7508000F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A58-18EA-4AAB-82CB-1922306D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43F1-5638-4457-A008-E3549619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76C7-7275-44B3-BF1A-85F699B1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09B-F5E5-436B-A569-3B7B07BD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38E-0C8D-49A3-81EE-3E94149C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20A-A2D8-4842-91D5-B02687E2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9333-6AF1-4175-BB57-0FB9CED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5628-F7B0-4604-B52C-138EB3A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A6E-F790-4779-857E-4C0F883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EC4-C22B-4E6B-BD78-20AF043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DB4-3B9B-4807-9E30-44EAB2B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746-B92B-4294-B526-39DA4324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7DF-FE86-4B78-979D-0C6561CC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FDFE-6E5B-4522-9143-8542EE0A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B4922-A32B-456E-B68D-4DAA5DB3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22376-E34F-48D7-AFF3-7F1E13AD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A0D21-B137-44FC-BF36-3E331D4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0F141-95D5-41C9-A2CE-A8682E1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18E1D-B081-422A-B443-D148677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E3E-E118-4A8E-9954-33A9AAA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FD86E-51C0-45BA-A312-C8AA2625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B48B3-9F14-477D-9739-BCDB411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DB554-66D6-40AB-B6DB-8FCAA9A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717FC-5264-4417-8EB9-484553C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5D5D5-3FA7-47BD-9717-686ABD5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3279F-725D-48FC-BCB0-FF11B7E9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3064E-4744-4678-ADEE-812E720E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BD68-F877-4B24-9579-CC2A37FF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D227-9D4A-4B66-9F55-8B476B0E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63D3-0BF7-4813-86F3-B8F92BF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2BD-3AA6-4A1C-AE6F-A130845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34D6-474C-4644-84BF-8825795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15C8-8D46-44D1-86B2-DE0B6C9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B721-55D4-40CA-AE92-43BD797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286A-D09B-43A0-8A0B-6F8926A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D7E1-95B3-4259-9079-1BFEBAD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62FB-2A1D-4C74-A653-B762E5B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786B-3DD1-4B20-A74C-6EB4E97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745A-C7A1-4CF3-803B-16DB60EE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B8B4-E4EB-4B43-B2D9-FB83636E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2400B-17AF-47D4-99EA-05AB93F6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BFD-8FAF-45BE-B9EC-2FC30AF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D6027-05F3-4522-8B0A-AABD313B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AD558-769B-4992-A478-3EB2DF5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C4340-4F25-4257-ACD8-9DB38D0C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1EEFF-EE5F-4F26-8666-83BEFA41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100E7-6AA9-4DA9-8F86-A07D238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FD29F-A977-4332-A7CA-EAE19801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FF477-07C4-4399-A552-89979E57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F32B1-957B-4BDF-B043-DE1BA9E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A02FA-4943-40F5-952E-CEA4EDF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B4DCF-B848-4F4D-A02D-DBDC7D87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BD8-6425-4400-8A6A-2268C22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95C4D-B8F4-4A0C-A853-ABA2E4A3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3F231-5E2A-440B-B1EC-72F6D740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1A485-F837-413F-AFAC-CA32EC35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7EF27-1E0C-45E9-ACC9-F8B82A21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70FF2-19F4-458F-8BFB-61B537B9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9FCFE-5C78-4809-97F0-12DB87D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35432-49C8-4FFF-821F-42E00DFD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C7621-CD98-4F13-A191-A528B4D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052E4-3BE3-4699-BCD4-69B5876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03390-133F-4750-8AE5-3AE1536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431-74E1-4F25-8AEB-6D3B110E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EC837-5BFF-4744-8ACE-C275068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D59F8-446E-4DF9-93BB-903A881B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639B8-B23B-49F9-9C3D-0994D741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FE99E-1F62-4E8E-B639-558ED637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F590E-13F6-452C-996E-1DACC1E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B6E2C-13FC-450C-9AFB-42AE16A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07EA6-AA19-42A2-93E6-E445B09A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2ABB8-6B62-4BA1-92BF-C3880FE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D047C-40E7-46BB-95B7-F8EDF53F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B09B6-7ED0-412A-8C89-50C1088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6C8-609E-4CF2-89FE-DD8BFDA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FC08E-47EF-4817-B769-1D77B89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21AFC-85CB-4B60-8457-71666A5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9F2E5-78C0-4C15-9428-D565AE60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DE91A-DB90-4B56-A56E-A69842F9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C80C5-4114-4E47-B06C-EEE77961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F26-019F-4C58-AB5A-80F854A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756-03E0-4AFB-BB9F-8F25D3B0BFA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2DB0-6E2D-42F5-9EBC-20D931883A1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C37-0D2A-4F4A-BF97-992E482D1559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500-94AD-4A80-8883-20C852411BD1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52C-003F-4B53-B253-240711570143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C148-B8B8-4461-9271-A44658888C40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930A-2967-48FE-9753-42200D8977A6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6840" y="1285920"/>
            <a:ext cx="72154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 FINALITÀ E GLI OBIETTIVI DELLA NATURA E SOCIETÀ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4292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ocente: </a:t>
            </a: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m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.sc. Nevia Močini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rso di studio: Insegnamento di classe I</a:t>
            </a: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V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an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’ANALISI E LA SINTES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entury Schoolbook"/>
              </a:rPr>
              <a:t>l'analisi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consiste nel dividere il problema conoscitivo nelle sue parti più semplic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ener conto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el modo in cui sono combina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 (riconoscimento, categorizzazione,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elezione, pianificazione, decisio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entury Schoolbook"/>
              </a:rPr>
              <a:t>la sintesi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onsiste nel rimettere assieme le parti analizzate identificando la giusta struttura e composizione del problema da risolver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in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una visione unitaria e global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rielaborazion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trollo,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rappresentazione e ridescrizio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original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75f6d"/>
                </a:solidFill>
                <a:latin typeface="Century Schoolbook"/>
              </a:rPr>
              <a:t>L’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ATTENZI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entury Schoolbook"/>
              </a:rPr>
              <a:t>L'attenzione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è il processo attraverso il quale si selezionano alcuni stimoli, li si met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a fuoco, e se ne prende una chiara vision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er riuscire a concentrare l'attenzione bisogna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riuscire a eliminare dal campo di coscienza tutti gli altri stimoli ch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trebbero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disturb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r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ostenere lo sforzo e l'impegno per il tempo necessari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a capacità di concentrare la propria attenzione su un particolare tema o un particolare problema è una cosa molto importante per l'apprendimento e la memorizzazione dei concett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entury Schoolbook"/>
              </a:rPr>
              <a:t>LA CAPACITÀ CRITIC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capacità critica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è quella che permette alla persona di raggiungere l’obiettività nella visione e nella valutazione delle cose. Tale capacità comport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la riflession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per considerare gli stimoli con attenzione e controllo, e prenderne coscienza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la ricerca sistematic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per individuare le cause di ciò che si sta considerando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l’approfondimento dei concetti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ssimilati e 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dei fatti osservati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per conoscerli nei loro vari aspet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A VALUTAZI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 valutazione comporta l’espressione di un 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giudizio basato su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lche tipo d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nfro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alutare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ignifica stabilire norme e criteri per esprimere giudizi sulla qualità d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un ragionamento, della soluzione di un problema, ec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un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’attività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tesa alla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cerc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sistematica d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zioni per dare giudiz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su questioni, fat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alutazion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e richiama la chiarezza d’idee, l’ordine mentale, l’abilità nel distinguere tra l’essenza di una cosa e i dettag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75f6d"/>
                </a:solidFill>
                <a:latin typeface="Century Schoolbook"/>
              </a:rPr>
              <a:t>CREATIVIT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À INTELLETTI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creativit</a:t>
            </a:r>
            <a:r>
              <a:rPr b="1" lang="it-IT" sz="2400" spc="-1" strike="noStrike">
                <a:solidFill>
                  <a:srgbClr val="000000"/>
                </a:solidFill>
                <a:latin typeface="Century Schoolbook"/>
              </a:rPr>
              <a:t>à intellettiva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è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uso originale d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gli stimoli del mondo esterno,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he l’individuo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apisce,  assimila, elabora, associa tra loro 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tegra in modo divergente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. Questo comport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rontezza nelle reazioni e nell'apprendimento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capacità di adattare l'esperienza passata alla situazione attual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bilità a cogliere l'essenza in una situazione complessa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ttitudine a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rovare soluzioni originali a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roblemi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vecchi e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nuov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’INTERES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articolare attenzione rivolta verso q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co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o q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c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teressi -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e, argomenti che appassiona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e parole collegate con passione ne sviluppano soprattutto i significati positivi, il senso di curiosità, interesse e scoperta, talvolta una vera vocazione che ci spinge verso qualcosa. Appassionarsi equivale a provare molto interesse per qualcosa: ci si appassiona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lla ricerca su qualcosa,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 uno sport, a un hobby, all’opera di uno scrittor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, ecc.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OBIETTIVI EDUCATIV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99972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riferiscono all’influenza della natura e società s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li aspetti sociale ed emotivo-affettivo del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ersonalità dell’alunn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’obiettivo finale dovrebbe essere la formazione di una personalità consapevole delle proprie capacità e capace di inserirsi in modo attivo nelle strutture della società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e8637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fe8637"/>
                </a:solidFill>
                <a:latin typeface="Century Schoolbook"/>
              </a:rPr>
              <a:t>Obiettivi educativi: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 dell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ratteristiche positive del caratter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ovvero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ori etico-morali generalmente riconosciuti come validi, ad es. l’onestà, la costanza, la sincerità, la fedeltà, la giustizia, la padronanza di sè, l’imparzialità, l’altruismo, la solidarietà, ec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 del rispetto per le norme sociali e capacità di instaurare rapporti interpersonali corret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42920" y="35712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ff"/>
                </a:solidFill>
                <a:latin typeface="Century Schoolbook"/>
              </a:rPr>
              <a:t>Rispetto per le norme sociali</a:t>
            </a: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el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spetto ver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mpagn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el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spetto ver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li insegnanti e gli altri adult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mparare ad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ccettare se stess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entury Schoolbook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l rispetto per le norme sociali si acq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isce in tutto il proces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ormativ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 si esplica in genere in tutti i campi dell’attività um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l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rtamento esemplare dell’insegnante stess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aggiunge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a capacità dell’alunno di valutare criticamente il comportamento personale e altrui secondo valori etico-morali positiv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ISPETTO VERSO </a:t>
            </a: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COMPAGNI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428840"/>
            <a:ext cx="746748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operare con i compa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are supporto ai compa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uidare e stimolare i compa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ggregarsi con i compa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ire cose positive degli alt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ostenere le proprie opinioni senza offendere gli alt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manere cal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aggiungere i propri obiettivi nel rispetto degli alt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ffrontare adeguatamente l’aggressività altru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RISPETTO VERSO I COMPAG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ssere disponibile all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labora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zione con i compa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persi inserire nel gruppo con atteggiamento asser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scoprire i compagni come ami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per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stare insiem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nel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giocare, costruire,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mpar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per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aiutar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 gli alt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aper esprimere le emozioni in modo socialmente accettabi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llo per i rapporti interpers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li nell’età adulta sia in famiglia che nella comunità socia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400" y="499680"/>
            <a:ext cx="8001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 finalità dell’insegnamento sono le mete verso le quali è indirizzato il processo educativo-istruttivo in genera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biettivi specific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no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lizzazione concreta degli obi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tivi general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cioè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il raggiungimento di determinate conoscenze, capacità e abitudini da parte degli alunn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si devono essere il più possibile concreti e realizzabil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RISPETTO VERSO GLI INSEGNAN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scoltare con attenzione l’insegn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eguire le istruzioni e le regole di clas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cercare aiuto per i propri bisog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tervenire nelle conversazioni in modo pertin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spettare i tur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vorare in modo indipend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ar fronte a compiti differen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ominare la rabb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siderare le correzioni degli insegnan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AREA COGNITI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071720"/>
            <a:ext cx="7972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Ricordare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: si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verifica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 doti e capacità sostanzialmente mnemonich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entury Schoolbook"/>
              </a:rPr>
              <a:t>Compren</a:t>
            </a: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dere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: viene verificata la capacità dell’allievo di comprendere quanto gli viene comunicato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, di spiegare teorie, principi .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entury Schoolbook"/>
              </a:rPr>
              <a:t>Applica</a:t>
            </a: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re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: è valutata la capacità di affrontare e risolvere problemi concreti sulla scorta delle norme, dei principi e dei metodi già acquisit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entury Schoolbook"/>
              </a:rPr>
              <a:t>Anali</a:t>
            </a: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zzare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si verifica la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capacità di cogliere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gli elementi costitutivi e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d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esplicitare le relazion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 e i nessi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di una struttura compless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entury Schoolbook"/>
              </a:rPr>
              <a:t>Valuta</a:t>
            </a: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i="1" lang="it-IT" sz="2200" spc="-1" strike="noStrike">
                <a:solidFill>
                  <a:srgbClr val="000000"/>
                </a:solidFill>
                <a:latin typeface="Century Schoolbook"/>
              </a:rPr>
              <a:t>e: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 viene verificata la capacità di esprimere giudizi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 sul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la validità e l’adeguatezza di procedimenti ed operazioni relativi ai precedenti livell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entury Schoolbook"/>
              </a:rPr>
              <a:t>Creare: 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si verifica la </a:t>
            </a: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capacità 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di creare nuove ide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trovare nuove soluzioni, sintetizzare l’essenzial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hr-HR" sz="2200" spc="-1" strike="noStrike">
                <a:solidFill>
                  <a:srgbClr val="000000"/>
                </a:solidFill>
                <a:latin typeface="Century Schoolbook"/>
              </a:rPr>
              <a:t>individuare nuovi algoritm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5f6d"/>
                </a:solidFill>
                <a:latin typeface="Century Schoolbook"/>
              </a:rPr>
              <a:t>CATEGORIE DI PROCESSO COGNITIVO E TIPI DI CONOSCENZA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1600200"/>
          <a:ext cx="8043840" cy="4394160"/>
        </p:xfrm>
        <a:graphic>
          <a:graphicData uri="http://schemas.openxmlformats.org/drawingml/2006/table">
            <a:tbl>
              <a:tblPr/>
              <a:tblGrid>
                <a:gridCol w="1149480"/>
                <a:gridCol w="1179360"/>
                <a:gridCol w="1119240"/>
                <a:gridCol w="1251000"/>
                <a:gridCol w="1163520"/>
                <a:gridCol w="1163520"/>
                <a:gridCol w="1017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ipo di cono-sc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1224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tegorie di processo cog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icorda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pi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pli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alizz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lu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tu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1224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cet-tu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du-r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co-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AREA AFFETTI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ategorie tassonomich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1.Interesse -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ricettivit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capacità di percepire e prestare attenzione a stimoli senza reagire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2. Impegno -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risposta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capacità di reagire ad uno stimolo esterno) e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valutazio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capacità di scegliere e rifiuta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3. Partecipazione –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organizzazio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capacità di creare un sistema di scelte e valori) e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caratterizzazio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(capacità di creare una propria visione del mond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AREA PSICOMOTO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ategorie tassonomich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movimenti riflessi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risposte ad uno stimolo senza esserne coscien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movimenti fondamentali di bas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movimenti inna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abilità percettiv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discriminazione cinestetica, visiva, uditiva, tattile, capacità coordin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qualità fisich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resistenza, forza, flessibilità, agilit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movimenti di destrezza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movimenti di base, uso di strumenti, applicazione di leggi e principi fisi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comunicazione non verbal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(movimenti espressivi, interpretazione di movimen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13840" y="213840"/>
            <a:ext cx="8286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ando i campi che abbracciano, gli obiettivi specifici si dividono 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entury Schoolbook"/>
              </a:rPr>
              <a:t>ISTRUTTIVI</a:t>
            </a:r>
            <a:r>
              <a:rPr b="1" lang="hr-HR" sz="2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 riferiscono all’apprendimento dei contenuti, del sapere sulla realtà oggettiva da parte dell’alun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entury Schoolbook"/>
              </a:rPr>
              <a:t>FUNZIONALI</a:t>
            </a:r>
            <a:r>
              <a:rPr b="1" lang="hr-HR" sz="2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 riferiscono alle funzioni psicofisiche e alle capacità  cognitive che l’alunno sviluppa durante il proces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orma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entury Schoolbook"/>
              </a:rPr>
              <a:t>EDUCATIVI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rendono i valori morali e le norme comportamental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, nonché le caratteristiche positive del caratte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e l’alunno assimila progressivamente nel proces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orma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 2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70c0"/>
                </a:solidFill>
                <a:latin typeface="Century Schoolbook"/>
              </a:rPr>
              <a:t>S</a:t>
            </a:r>
            <a:r>
              <a:rPr b="1" lang="en-US" sz="2700" spc="-1" strike="noStrike">
                <a:solidFill>
                  <a:srgbClr val="0070c0"/>
                </a:solidFill>
                <a:latin typeface="Century Schoolbook"/>
              </a:rPr>
              <a:t>econdo il piano e programma ministeriale di natura e società </a:t>
            </a:r>
            <a:r>
              <a:rPr b="1" lang="hr-HR" sz="2700" spc="-1" strike="noStrike">
                <a:solidFill>
                  <a:srgbClr val="0070c0"/>
                </a:solidFill>
                <a:latin typeface="Century Schoolbook"/>
              </a:rPr>
              <a:t>le</a:t>
            </a:r>
            <a:r>
              <a:rPr b="1" lang="en-US" sz="27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hr-HR" sz="2700" spc="-1" strike="noStrike">
                <a:solidFill>
                  <a:srgbClr val="0070c0"/>
                </a:solidFill>
                <a:latin typeface="Century Schoolbook"/>
              </a:rPr>
              <a:t>finalità </a:t>
            </a:r>
            <a:r>
              <a:rPr b="1" lang="en-US" sz="2700" spc="-1" strike="noStrike">
                <a:solidFill>
                  <a:srgbClr val="0070c0"/>
                </a:solidFill>
                <a:latin typeface="Century Schoolbook"/>
              </a:rPr>
              <a:t>sono così formulat</a:t>
            </a:r>
            <a:r>
              <a:rPr b="1" lang="hr-HR" sz="2700" spc="-1" strike="noStrike">
                <a:solidFill>
                  <a:srgbClr val="0070c0"/>
                </a:solidFill>
                <a:latin typeface="Century Schoolbook"/>
              </a:rPr>
              <a:t>e</a:t>
            </a:r>
            <a:r>
              <a:rPr b="1" lang="en-US" sz="2700" spc="-1" strike="noStrike">
                <a:solidFill>
                  <a:srgbClr val="0070c0"/>
                </a:solidFill>
                <a:latin typeface="Century Schoolbook"/>
              </a:rPr>
              <a:t>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14200" y="157140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598d9"/>
              </a:buClr>
              <a:buSzPct val="9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mpliare e approfondire il sapere e l’esperienza già acq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te sul proprio ambiente, sul luogo natio, sulla regione e sulla patria in base all’esperienza diretta e medi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598d9"/>
              </a:buClr>
              <a:buSzPct val="9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are sistematicamente nel process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ormativ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 capacità psicofisiche dell’alunno, specialment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abilità a imparare da soli e l’interesse 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noscere la realtà sociale e la natu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598d9"/>
              </a:buClr>
              <a:buSzPct val="9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ibuire con i contenuti da assimilare allo sviluppo int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tuale,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ociale, emotivo-affettivo e motorio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la personalità dell’alunno in modo che sia in grado di partecipare attivamente alla vita e della comunità e di utilizzare le conquiste tecniche e della cultura moder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OBIETTIVI ISTRUTTIV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57120" y="1071720"/>
            <a:ext cx="84297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Gli obiettivi istruttivi nell’insegnamento della natura e società consistono nel far conoscere agli alunni i principali aspetti della natura, dell’economia e della società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Benchè l’atte</a:t>
            </a:r>
            <a:r>
              <a:rPr b="0" lang="hr-HR" sz="2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giamento dell’uomo moderno verso la natura sia enormemente c</a:t>
            </a:r>
            <a:r>
              <a:rPr b="0" lang="hr-HR" sz="2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mbiato, bisogna far comprendere agli alunni l’interdipenenza fra l’uomo e la natura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L’obiettivo istruttivo generale della natura e società è conoscere le forme principali del</a:t>
            </a:r>
            <a:r>
              <a:rPr b="0" lang="hr-HR" sz="26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 vita sociale, della natura e dell’economia e capire la loro dipendenza reciproca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749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5c01"/>
                </a:solidFill>
                <a:latin typeface="Century Schoolbook"/>
              </a:rPr>
              <a:t>OBIETTIVI FUNZIONAL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78588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li obiettivi funzionali si riferiscono allo sviluppo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i abilità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sicofisic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egli alunn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attraverso l’apprendimen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uti della natura e società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. Si tratta de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 svilupp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lle seguenti abil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à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0" y="2428920"/>
            <a:ext cx="43578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a percezione sensi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’analisi e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e capacità di rag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 pensiero 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a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 della motivazione intri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tent Placeholder 3"/>
          <p:cNvSpPr/>
          <p:nvPr/>
        </p:nvSpPr>
        <p:spPr>
          <a:xfrm>
            <a:off x="4357800" y="2143080"/>
            <a:ext cx="4786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e capacità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i risolvere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o dell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eativit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della fan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a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l’attenzione e della 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viluppo del controllo delle emo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428760"/>
            <a:ext cx="8115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ercezione sensibil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sensi e la percezione sono alla ba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le esperienze concrete degli alunni e quindi della loro conoscenza empirica della realtà nei suoi vari aspet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 bas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er l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tività tipiche delle funzioni cognitiv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iarire e sintetizzare i concetti, osservare i rapporti fra fenomeni, analizzarli, trarre conclusioni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eare interpretazioni, comprendere le regole della vita naturale e social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n psicologia la </a:t>
            </a:r>
            <a:r>
              <a:rPr b="1" lang="it-IT" sz="2100" spc="-1" strike="noStrike">
                <a:solidFill>
                  <a:srgbClr val="000000"/>
                </a:solidFill>
                <a:latin typeface="Century Schoolbook"/>
              </a:rPr>
              <a:t>memoria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è la capacità del cervello di conservare informazioni.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Si tratta di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a funzione psichica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che comprende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l'attività di immagazzinamento e riutilizzo dei dati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Le fasi principali nell'elaborazione della memoria sono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codifica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, l'elaborazione delle informazioni ricevute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'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immagazzinamento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, la creazione di registrazioni permanenti delle informazioni codificate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l 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richiamo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recupero delle informazioni immagazzinate, in risposta a qualche sollecitazion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Secondo la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durata della ritenzione del ricordo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distinguiamo: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memoria sensoriale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memoria a breve termine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, e la </a:t>
            </a:r>
            <a:r>
              <a:rPr b="0" i="1" lang="it-IT" sz="2100" spc="-1" strike="noStrike">
                <a:solidFill>
                  <a:srgbClr val="000000"/>
                </a:solidFill>
                <a:latin typeface="Century Schoolbook"/>
              </a:rPr>
              <a:t>memoria a lungo term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mbini piccoli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rtati alla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memoria meccanica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pi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ú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e a quella log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necessaria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ura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particolar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per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 sviluppo della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memori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secondo 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uttur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logic</a:t>
            </a:r>
            <a:r>
              <a:rPr b="0" i="1" lang="hr-HR" sz="21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hr-HR" sz="2100" spc="-1" strike="noStrike">
                <a:solidFill>
                  <a:srgbClr val="000000"/>
                </a:solidFill>
                <a:latin typeface="Century Schoolbook"/>
              </a:rPr>
              <a:t> dell’argomento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714240" y="35712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IL RAGIONAMENT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85560"/>
            <a:ext cx="80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'usare la ragione',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ovvero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'avanzare ragioni' per sostenere qualcosa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non ci si limita a fare affermazioni, ma si danno 'ragioni' per giustificar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o schema di un ragionamento contien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'affermazione che si intende sostenere 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(tesi)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e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 a</a:t>
            </a:r>
            <a:r>
              <a:rPr b="0" i="1" lang="hr-HR" sz="2400" spc="-1" strike="noStrike">
                <a:solidFill>
                  <a:srgbClr val="000000"/>
                </a:solidFill>
                <a:latin typeface="Century Schoolbook"/>
              </a:rPr>
              <a:t>rgomentazioni 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portate a favore della tesi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una </a:t>
            </a:r>
            <a:r>
              <a:rPr b="0" i="1" lang="it-IT" sz="2400" spc="-1" strike="noStrike">
                <a:solidFill>
                  <a:srgbClr val="000000"/>
                </a:solidFill>
                <a:latin typeface="Century Schoolbook"/>
              </a:rPr>
              <a:t>base argomentativa</a:t>
            </a: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 (insieme di assunzioni implicite) lasciata sottintes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Ragionare equivale a concatenare proposizioni in modo tale che si possa trarre una conclusione sulla loro base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ipi di ragionamento: deduttivo, induttivo, analo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7:40:44Z</dcterms:created>
  <dc:creator>pc</dc:creator>
  <dc:description/>
  <dc:language>en-US</dc:language>
  <cp:lastModifiedBy>Miro</cp:lastModifiedBy>
  <dcterms:modified xsi:type="dcterms:W3CDTF">2013-04-22T19:35:48Z</dcterms:modified>
  <cp:revision>91</cp:revision>
  <dc:subject/>
  <dc:title>Le finalitÀ e gli obiettivi dell’insegnamento della natura e societÀ</dc:title>
</cp:coreProperties>
</file>