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1.jpeg" ContentType="image/jpeg"/>
  <Override PartName="/ppt/media/image30.jpeg" ContentType="image/jpeg"/>
  <Override PartName="/ppt/media/image48.png" ContentType="image/png"/>
  <Override PartName="/ppt/media/image72.gif" ContentType="image/gif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20.png" ContentType="image/png"/>
  <Override PartName="/ppt/media/image57.png" ContentType="image/png"/>
  <Override PartName="/ppt/media/image28.jpeg" ContentType="image/jpeg"/>
  <Override PartName="/ppt/media/image62.png" ContentType="image/png"/>
  <Override PartName="/ppt/media/image73.jpeg" ContentType="image/jpeg"/>
  <Override PartName="/ppt/media/image24.png" ContentType="image/png"/>
  <Override PartName="/ppt/media/image22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76.png" ContentType="image/png"/>
  <Override PartName="/ppt/media/image71.jpeg" ContentType="image/jpeg"/>
  <Override PartName="/ppt/media/image69.jpeg" ContentType="image/jpeg"/>
  <Override PartName="/ppt/media/image70.png" ContentType="image/png"/>
  <Override PartName="/ppt/media/image68.png" ContentType="image/png"/>
  <Override PartName="/ppt/media/image12.png" ContentType="image/png"/>
  <Override PartName="/ppt/media/image63.png" ContentType="image/png"/>
  <Override PartName="/ppt/media/image29.png" ContentType="image/png"/>
  <Override PartName="/ppt/media/image49.png" ContentType="image/png"/>
  <Override PartName="/ppt/media/image65.jpeg" ContentType="image/jpeg"/>
  <Override PartName="/ppt/media/image23.jpeg" ContentType="image/jpeg"/>
  <Override PartName="/ppt/media/image8.png" ContentType="image/png"/>
  <Override PartName="/ppt/media/image38.png" ContentType="image/png"/>
  <Override PartName="/ppt/media/image25.png" ContentType="image/png"/>
  <Override PartName="/ppt/media/image60.png" ContentType="image/png"/>
  <Override PartName="/ppt/media/image6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E6A-BD71-4CF0-8430-5EBBF3A0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B2F-CB2F-472A-A5CF-2E967903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E8E-5B22-42D6-86A4-DBFA3722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32C-4195-412B-BC9C-6861D040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E079-2C80-4C6C-9C3A-DC2E7C0B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DEAA-B455-4F39-A926-9761FE86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851B-A6F1-4BA7-851E-A6621438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33DD-77EE-462B-A31D-B6AF7A98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26FD-1FFC-4B89-9976-09364E77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63E0-5595-4287-9488-44ADB7F8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8A23-8C57-4A54-BF30-168B778F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10F-4DFB-41F3-BB28-6ED3C863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3ACD-67DC-428A-A31F-C94F8BA7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BE3D-5E31-4FB6-90DB-7F0E7D68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94DF-A6BE-4BDF-B8D0-1FC0B24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7E8F-D027-4A9C-97DD-C94C4E30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CD69-7917-4F6A-B255-E72008A8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FF61-9080-481C-8374-017C0991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CB7D-DBEE-4CC0-9176-239ECC25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B8C4-58E8-4AE8-9619-746540A8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DE6D-4B54-4D97-B0BE-4AEA103C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36F41-FC36-4F7D-A492-0F227115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A24-596E-4DC5-B038-AF0A454B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A491-F3E3-4CB6-A876-682C0F03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854F-64E5-40C2-8EC8-256AB48E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65D5-4296-4AA4-A576-B6CE34F1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7E7DB-C789-40E7-9FE6-A5E8040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A1B7-1025-4B96-97F2-5CA9735A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15CC-8240-4D20-AA93-D8FD9429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A31D-91FD-498F-948F-F9512E1F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5A583-4A2B-45B7-91F0-AFFB40B3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2FF50-F94D-49AA-AA24-4E2C5E67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5CC9-F57F-4373-A0AC-E354E9B1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70A-EEB9-4F6F-B8AB-DA20C390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BC85-8E2C-4D34-A7C0-7F72DE18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E642-EE06-4BB9-A887-882C5AAD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A664-C47D-41D7-9B5A-2A5178DF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999AF-079D-4A7D-A8A8-A2139C6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78C4C-50F7-42C4-8FE1-28868233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593D-991B-46A7-8C2D-88CDF9EC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EAA4-58C6-4AFF-BC48-DA366EA2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771D-5658-4085-AC19-805844ED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5A9B-A56B-4A75-A4A0-76ED036C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9951E-5400-49E6-88B1-A0B21134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DCB-512E-42AA-A5F2-27492EE2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6329-2C83-4801-87F1-8F798EF8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86FB-83C6-48A3-BD14-613F61C0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3E7D-150D-4E73-86DA-E130EC1F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3A56-6A77-4846-8EE1-7BF24C7D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EA08-C733-436E-8AD1-1F8C7B0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5D123-9115-4248-A81E-EF9558D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2592-1A68-446C-9CB7-1D46FBE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427C-BFB5-41D8-A163-7480D5BD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52BA-9E5E-42B8-8792-4D596312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0713C-CE2A-4A30-9886-3358C714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3F0-9027-42AF-8618-633EA514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D57D3-737B-47F8-B2CC-A3DD4F11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A063D-6F17-4C49-9FD9-F314129E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45ECD-764C-4DD6-964E-D55DE919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325C4-9D70-427A-880A-8E453A63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D2BF5-08DC-4B3F-8C94-12F94773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5B5FD-F46A-4D20-891C-2A717DF2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BB2D6-271A-4BA7-BC01-A914376E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470DA-B9D7-4C8D-A179-7622C73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793E5-5ED7-4BC3-B6BE-A48A10AE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A659F-F28C-460B-9486-A0E9070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049-8044-4232-91F6-35244147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236F-5D94-4480-A4F1-6CFAE5AE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45499-219F-4AED-AB3E-A0E4307A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6DC22-C5B3-430D-BFD4-BEF6A9FA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B8E65-9E6F-4D65-9889-3B32E25E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4E8E8-881E-4C66-8CFC-5DC33E17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38326-1DBD-4020-8350-A255577C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C8EB2-D859-43EF-82F8-B0C37D2E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CE5A-A92D-4DA1-8160-B841131F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54FA8-23D2-48E0-AEBD-694A4834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D00A-9212-45B0-A81F-E2F558C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E0D-5104-4951-91AE-50DB0CC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64F0D-81EC-4794-B662-37057B76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5C5F6-1FE9-4C18-B6FB-512804A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B1A3-DCD7-4416-AC46-3D5645CB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D676B-49E3-4C79-999E-9A209A85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7127-9CD8-4031-8946-B87394EF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35BBA-F3A3-4124-A9B2-8187245E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0868-873E-4117-8CE3-0E8591D7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D0CF9-5DC3-4710-B501-5D524B53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20B08-0987-4EF1-ABE9-EB436B49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7260D-80D8-46E6-B4AD-A44FFDD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D00-E43A-434D-8ECC-DBB87D3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42560-CEF7-41B8-8444-375756BA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043E8-76E9-4A8C-BB6C-90C65E4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751DE-B41A-4B51-966F-7A4D279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31919-A881-4C92-94CD-43AE6BB1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477C-85E5-4980-80C9-15FFA2D7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9F2E4-497A-4D68-A617-1C504C90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B72D9-8F21-4F88-9DC0-8999190F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FAC7-595F-4E30-961A-5C4877F3C21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2BD7-435A-4A1A-A075-E43678498F6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B3A7-5F35-49CE-8870-4A790607F96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BDC7-3147-459C-9A2E-4DCCA9DE3B9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0F73-E11C-4183-8CB8-975B344EE0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9C74-9EFA-4D17-9BFF-E461CDAF991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28BF-ECD0-45B1-86B4-5BE5AD3DEDB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C269-D720-49EF-B68F-B86AB0A6B3E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0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0.pn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64646"/>
                </a:solidFill>
                <a:latin typeface="Lucida Sans Unicode"/>
              </a:rPr>
              <a:t>mr.sc. Nevia Močinić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64646"/>
                </a:solidFill>
                <a:latin typeface="Lucida Sans Unicode"/>
              </a:rPr>
              <a:t>Didattica della natura e societ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ontent Placeholder 3" descr="colomba-pasquale.jpg"/>
          <p:cNvPicPr/>
          <p:nvPr/>
        </p:nvPicPr>
        <p:blipFill>
          <a:blip r:embed="rId1"/>
          <a:stretch/>
        </p:blipFill>
        <p:spPr>
          <a:xfrm>
            <a:off x="5286240" y="1214280"/>
            <a:ext cx="1608120" cy="1872000"/>
          </a:xfrm>
          <a:prstGeom prst="rect">
            <a:avLst/>
          </a:prstGeom>
          <a:ln w="0">
            <a:noFill/>
          </a:ln>
        </p:spPr>
      </p:pic>
      <p:pic>
        <p:nvPicPr>
          <p:cNvPr id="395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colomba.gif"/>
          <p:cNvPicPr/>
          <p:nvPr/>
        </p:nvPicPr>
        <p:blipFill>
          <a:blip r:embed="rId3"/>
          <a:stretch/>
        </p:blipFill>
        <p:spPr>
          <a:xfrm>
            <a:off x="571680" y="1571760"/>
            <a:ext cx="2076120" cy="1895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pinza1.jpg"/>
          <p:cNvPicPr/>
          <p:nvPr/>
        </p:nvPicPr>
        <p:blipFill>
          <a:blip r:embed="rId4"/>
          <a:stretch/>
        </p:blipFill>
        <p:spPr>
          <a:xfrm>
            <a:off x="7000920" y="785880"/>
            <a:ext cx="1747800" cy="1619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uovo-pulcino.jpg"/>
          <p:cNvPicPr/>
          <p:nvPr/>
        </p:nvPicPr>
        <p:blipFill>
          <a:blip r:embed="rId5"/>
          <a:stretch/>
        </p:blipFill>
        <p:spPr>
          <a:xfrm>
            <a:off x="3000240" y="1643040"/>
            <a:ext cx="2256120" cy="1692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titole.jpg"/>
          <p:cNvPicPr/>
          <p:nvPr/>
        </p:nvPicPr>
        <p:blipFill>
          <a:blip r:embed="rId6"/>
          <a:stretch/>
        </p:blipFill>
        <p:spPr>
          <a:xfrm>
            <a:off x="6786720" y="2714760"/>
            <a:ext cx="2054160" cy="1547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coniglio-pasquale.gif"/>
          <p:cNvPicPr/>
          <p:nvPr/>
        </p:nvPicPr>
        <p:blipFill>
          <a:blip r:embed="rId7"/>
          <a:stretch/>
        </p:blipFill>
        <p:spPr>
          <a:xfrm>
            <a:off x="1071720" y="3857760"/>
            <a:ext cx="2279520" cy="208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uova-di-pasqua[1].jpg"/>
          <p:cNvPicPr/>
          <p:nvPr/>
        </p:nvPicPr>
        <p:blipFill>
          <a:blip r:embed="rId8"/>
          <a:stretch/>
        </p:blipFill>
        <p:spPr>
          <a:xfrm>
            <a:off x="3714840" y="3714840"/>
            <a:ext cx="2442960" cy="2411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agnello.jpg"/>
          <p:cNvPicPr/>
          <p:nvPr/>
        </p:nvPicPr>
        <p:blipFill>
          <a:blip r:embed="rId9"/>
          <a:stretch/>
        </p:blipFill>
        <p:spPr>
          <a:xfrm>
            <a:off x="6572160" y="4572000"/>
            <a:ext cx="23544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Il  festeggiamento  del 1º maggio è legato storicamente ad uno sciopero avvenuti negli Stati Uniti negli anni ’80 del XIX secolo. Il punto culminante di questo sciopero a oltranza fu il 1º maggio del 1886 quando a Chicago scioperavano 40 000 operai e la polizia si mise a sparare su di loro</a:t>
            </a: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 uccidendone 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6 e fer</a:t>
            </a: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endo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 circa una cinquantina di operai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el 1889 fu deciso che in memoria dei tragici avvenimenti a Chicago in quel giorno fossero organizzate massicce dimostrazioni. Da quell’ anno il 1º maggio si festeggia come festa internazionale dei lavoratori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912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13840" y="1285560"/>
            <a:ext cx="8929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Fra le ricorrenze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rientrano ancor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la Giornata della scuola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La Giornata dello Sta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La festa del Patrono della città, ec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rispettare il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loro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significato storico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e non permettere che si trasformi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no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in fest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senza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alcuna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motivazion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profond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in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classe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descriv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ere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gli aspetti esteriori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della ricorrenza in questione (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es.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gli addobbi, i simboli, i regali, le pietanze tipiche che si preparano…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n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II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classe oltre alla descrizione richiede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re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ai bambini di notare i cambiamenti che porta la ricorrenz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in III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e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IV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 classe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si può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notare il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Lucida Sans Unicode"/>
              </a:rPr>
              <a:t>significato sociale della ricorrenz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225360" y="2376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i scelgono personalità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in prima classe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che hanno avuto un ruolo importante nella storia della città o del pae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nella seconda classe si considerano le personalità illustri nella storia dei dintorni della città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nella terza classe personalità della regione economico-geografic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nella quarta classe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e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ersonalità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llustri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della Croazia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e dell’Italia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868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descrizione del personaggio e delle sue attività socialmente importanti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far capire agli alunni l’importanza e l’influenza delle sue azioni sugli uomini e sugli avvenimenti del tempo in cui è vissu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i motivi per cui tale personaggio è 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imasto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viv</a:t>
            </a: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nel tempo, cioè influisc</a:t>
            </a: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Lucida Sans Unicode"/>
              </a:rPr>
              <a:t> sul nostro tempo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068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ella scelta del personaggio non ci si deve limitare a un solo campo della vita social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cegliere personalità che hanno avuto un ruolo significativo nella cultura, nella politica, nell’economia,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ella medicina, nell’arte,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ec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Esempi di criteri per la scelt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il nome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lla scu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l nome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l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e vie,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l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e piazze,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l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e fabbriche,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l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e società artistico-culturali,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l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e organizzazioni degli esploratori,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l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e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navi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, ec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7120" y="1480680"/>
            <a:ext cx="83296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er esempio le costruzioni antiche considerate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monumenti storici sono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il castello di Tersatto a Fiume, l’Arena a Pola, il palazzo di Diocleziano a Spalato, ec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i svolgono anche monumenti di epoca modern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es.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monument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costruit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in memoria alle vittime cadute nella lotta per la libert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i d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ev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e far conoscere agli alunni i monumenti storico-culturali più importanti e la loro importanza stor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213840" y="1213920"/>
            <a:ext cx="8472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ella prima e nella seconda classe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– si usa un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modo impreciso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di trattare gli avvenimenti storici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(senza precisare la loro dimensione tempora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ella terza classe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si inizia l’avviamento degli alunni all’orientamento nel te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ella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quarta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classe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– precisazione dei concetti di passato vicino e lontano e di epoche storich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aper sistemare gli avvenimenti secondo la loro successione temporale è indispensabile per un’efficace comprensione e dei contenuti storici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56760" y="1143000"/>
            <a:ext cx="8572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l concetto di tempo – oggetto di indagine di filosofi, biologi, fisici, antropologi, matematici, storici, ec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è una successione illimitata di istanti in cui avvengono gli eventi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; tempo atmosfer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il tempo è un fenomeno che non si può osservare ma si può solo immaginare col pensiero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i può percepire solo il tempo attuale. Non è possibile percepire nè il tempo passato nè quello futuro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In questo sta la difficoltà nello svolgimento del concetto di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temp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Ordinare gli eventi secondo la </a:t>
            </a:r>
            <a:r>
              <a:rPr b="0" lang="hr-HR" sz="2700" spc="-1" strike="noStrike">
                <a:solidFill>
                  <a:srgbClr val="ff0000"/>
                </a:solidFill>
                <a:latin typeface="Lucida Sans Unicode"/>
              </a:rPr>
              <a:t>durata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gli interval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Ordinare gli eventi secondo il loro </a:t>
            </a:r>
            <a:r>
              <a:rPr b="0" lang="hr-HR" sz="2700" spc="-1" strike="noStrike">
                <a:solidFill>
                  <a:srgbClr val="ff0000"/>
                </a:solidFill>
                <a:latin typeface="Lucida Sans Unicode"/>
              </a:rPr>
              <a:t>susseguirsi nel te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padronanza di queste capacità presuppone il saper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tabilire un intervallo di tempo da misurare, l’unità di misura e lo strumen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riconoscere la contemporaneità nel presente, nel passato, nel futur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differenziare le relazioni temporali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(prima, ora, dopo; ieri, oggi, domani, mentre,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poco fa, molto tempo fa, più tardi, ecc.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ell’ambito della natura e società non hanno una struttura scientif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i studiano in modo frammentario e non sistematico (cronologicamente dai tempi più lontani fino ai giorni nostr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storia non si studia nel suo significato ristret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Comunque i fatti storici e le conclusioni che se ne traggono devono avere una validità scientif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La durata del temp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esperienze precedenti: valutazioni soggettive sui tempi lunghi e tempi cor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confronti motivati di durate relative a esperienze familia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a successione temporale degli avvenimenti per capire la continuità del temp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Es.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rima abbiamo giocato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oi abbiamo cenato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e infine siamo andati a dormi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Far capire che a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cuni avvenimenti accadono anche contemporaneam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068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ercepire il trascorrere del tempo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valutare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a durata del tempo trascorso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istinguere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a continuità (la successione temporale)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degli avvenimen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percezione soggettiva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del tempo deve essere usata come punto di partenza per l’introduzione alla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ua misurazione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oggettiv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Non è possibile orientarsi nel tempo se non lo si percepis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er misurare il tempo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i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deve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apere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ciò che si misurerà,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avere uno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strumento per misurare e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un’unità di misura più o meno o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gge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tti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Esperienze temporali molto più complesse delle altre grandezze (grandezza, peso, volume) per poterle misur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Riflessione: Si può misurare il tempo? Con che cosa? Quali sono le unità di misura? Come sono state ottenut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85840" y="148104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Unità di misura per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a durata del tempo: il secondo, il minuto, l’ora, il giorno, la settimana, il mese, l’anno, il decennio, il secolo, il millennio, ec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Dalla durata del tempo dipende l’unità di misura che useremo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er un periodo più breve useremo unità di misura più piccole e viceversa, per periodi più lunghi useremo misure più grand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’OROLOGIO (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es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: orologio solare = meridiana, orologio analogico, orologio digita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trumenti non standardizzati: clessidra,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orologio ad acqua,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pendo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il CALENDARIO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’uso del calendario è possibile perchè il tempo è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er definizione un fenomeno continuo, ininterrotto e scorre secondo determinate leggi natural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878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or-analogico"/>
          <p:cNvPicPr/>
          <p:nvPr/>
        </p:nvPicPr>
        <p:blipFill>
          <a:blip r:embed="rId2"/>
          <a:stretch/>
        </p:blipFill>
        <p:spPr>
          <a:xfrm>
            <a:off x="1428840" y="192888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or-digitale"/>
          <p:cNvPicPr/>
          <p:nvPr/>
        </p:nvPicPr>
        <p:blipFill>
          <a:blip r:embed="rId3"/>
          <a:stretch/>
        </p:blipFill>
        <p:spPr>
          <a:xfrm>
            <a:off x="4500720" y="1928880"/>
            <a:ext cx="24364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642960" y="1571760"/>
          <a:ext cx="7858080" cy="4454280"/>
        </p:xfrm>
        <a:graphic>
          <a:graphicData uri="http://schemas.openxmlformats.org/drawingml/2006/table">
            <a:tbl>
              <a:tblPr/>
              <a:tblGrid>
                <a:gridCol w="1928880"/>
                <a:gridCol w="1482480"/>
                <a:gridCol w="1482840"/>
                <a:gridCol w="1481040"/>
                <a:gridCol w="148284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mpo 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SSID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. AD ACQ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D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OLO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ncellare la lava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1224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ENO DELLA 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1224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1224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 OSCILL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1224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CO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1224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Eseguire un’addi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ENO DELLA 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IÙ DI 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5 OSCILL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CO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Bere un bicchiere d’acq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ENO DELLA 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IÙ DI 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5 OSCILL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CO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Riempire una bottig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ENO DELLA 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 OSCILL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CO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Infilare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un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golf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IÙ DELLA 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IÙ DI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U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5 OSCILL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CO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solidFill>
                      <a:srgbClr val="39639d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lacciarsi le scar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PIÙ DELLA ME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UNO E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MEZ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0 OSCILL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SECO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5760">
                      <a:solidFill>
                        <a:srgbClr val="39639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214280"/>
            <a:ext cx="8400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ono stati ottenuti risultati diversi perchè sono stati usati strumenti diversi per misurare il te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a clessidra e l’orologio ad acqua non sono molto precisi e non permettono di vedere chiaramente quale azione dura di più e quale di m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Un’oscillazione del pendolo corrisponde ad un secon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’azione più rapida è cancellare la lavagna e riempire una bottiglia; la meno rapida è allacciarsi le scar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6840" y="1480680"/>
            <a:ext cx="8472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Giorno, ora, minuto, secondo (rotazione della Terra intorno al suo as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Anno, mese, settimana (rivoluzione della Terra intorno al So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cennio,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ustro,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secolo, millennio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, e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e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’alunno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conosce uno dei termini di confronto, non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gli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arà difficile capire l’altro. Così, se comprende la durata di un giorno, capirà la durata di una settimana, ec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È indispensabile, dunque, creare un punto fermo per poter costruire su di esso il concetto di tempo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13840" y="1481040"/>
            <a:ext cx="86439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Uso del calendario e della linea del te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Unità di misura: anno, decennio,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ustro,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secolo, millennio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, er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l concetto di anno – usare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a linea del te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7896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500040" y="3500280"/>
          <a:ext cx="8286840" cy="443160"/>
        </p:xfrm>
        <a:graphic>
          <a:graphicData uri="http://schemas.openxmlformats.org/drawingml/2006/table">
            <a:tbl>
              <a:tblPr/>
              <a:tblGrid>
                <a:gridCol w="690480"/>
                <a:gridCol w="690840"/>
                <a:gridCol w="69048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  <a:gridCol w="690840"/>
                <a:gridCol w="69048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1224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TextBox 4"/>
          <p:cNvSpPr/>
          <p:nvPr/>
        </p:nvSpPr>
        <p:spPr>
          <a:xfrm>
            <a:off x="336960" y="4286160"/>
            <a:ext cx="1482120" cy="3682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Capodan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6"/>
          <p:cNvSpPr/>
          <p:nvPr/>
        </p:nvSpPr>
        <p:spPr>
          <a:xfrm>
            <a:off x="1064160" y="5072040"/>
            <a:ext cx="1252080" cy="3682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Carnev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>
            <a:off x="1895400" y="4286160"/>
            <a:ext cx="1342080" cy="642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Inizio d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prima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8"/>
          <p:cNvSpPr/>
          <p:nvPr/>
        </p:nvSpPr>
        <p:spPr>
          <a:xfrm>
            <a:off x="2571840" y="5000760"/>
            <a:ext cx="966960" cy="3682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Pas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9"/>
          <p:cNvSpPr/>
          <p:nvPr/>
        </p:nvSpPr>
        <p:spPr>
          <a:xfrm>
            <a:off x="3258720" y="4357800"/>
            <a:ext cx="1252080" cy="3682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1. m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0"/>
          <p:cNvSpPr/>
          <p:nvPr/>
        </p:nvSpPr>
        <p:spPr>
          <a:xfrm>
            <a:off x="3619800" y="4929120"/>
            <a:ext cx="1668240" cy="642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Fine dell’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scola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1"/>
          <p:cNvSpPr/>
          <p:nvPr/>
        </p:nvSpPr>
        <p:spPr>
          <a:xfrm>
            <a:off x="4573080" y="4143240"/>
            <a:ext cx="1063080" cy="642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Vac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es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2"/>
          <p:cNvSpPr/>
          <p:nvPr/>
        </p:nvSpPr>
        <p:spPr>
          <a:xfrm>
            <a:off x="5372640" y="5000760"/>
            <a:ext cx="974880" cy="642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Si va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m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5814360" y="4286160"/>
            <a:ext cx="1223280" cy="642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Si ritor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a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4"/>
          <p:cNvSpPr/>
          <p:nvPr/>
        </p:nvSpPr>
        <p:spPr>
          <a:xfrm>
            <a:off x="6392520" y="5143680"/>
            <a:ext cx="1451880" cy="3682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vendem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5"/>
          <p:cNvSpPr/>
          <p:nvPr/>
        </p:nvSpPr>
        <p:spPr>
          <a:xfrm>
            <a:off x="7120440" y="4214880"/>
            <a:ext cx="1450080" cy="3682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Ognissan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6"/>
          <p:cNvSpPr/>
          <p:nvPr/>
        </p:nvSpPr>
        <p:spPr>
          <a:xfrm>
            <a:off x="7845840" y="4714920"/>
            <a:ext cx="941040" cy="3682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Na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Straight Arrow Connector 18"/>
          <p:cNvCxnSpPr/>
          <p:nvPr/>
        </p:nvCxnSpPr>
        <p:spPr>
          <a:xfrm>
            <a:off x="857160" y="3929040"/>
            <a:ext cx="7200" cy="357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6" name="Straight Arrow Connector 22"/>
          <p:cNvCxnSpPr/>
          <p:nvPr/>
        </p:nvCxnSpPr>
        <p:spPr>
          <a:xfrm flipH="1">
            <a:off x="1856520" y="4000320"/>
            <a:ext cx="2520" cy="1143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7" name="Straight Arrow Connector 24"/>
          <p:cNvCxnSpPr/>
          <p:nvPr/>
        </p:nvCxnSpPr>
        <p:spPr>
          <a:xfrm flipH="1">
            <a:off x="2355480" y="3930120"/>
            <a:ext cx="2160" cy="358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8" name="Straight Arrow Connector 26"/>
          <p:cNvCxnSpPr/>
          <p:nvPr/>
        </p:nvCxnSpPr>
        <p:spPr>
          <a:xfrm flipH="1">
            <a:off x="3214440" y="3928680"/>
            <a:ext cx="2160" cy="1072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59" name="Straight Arrow Connector 29"/>
          <p:cNvCxnSpPr/>
          <p:nvPr/>
        </p:nvCxnSpPr>
        <p:spPr>
          <a:xfrm flipH="1">
            <a:off x="3642480" y="3928680"/>
            <a:ext cx="2520" cy="4294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0" name="Straight Arrow Connector 31"/>
          <p:cNvCxnSpPr/>
          <p:nvPr/>
        </p:nvCxnSpPr>
        <p:spPr>
          <a:xfrm>
            <a:off x="4500720" y="3928680"/>
            <a:ext cx="72000" cy="1072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1" name="Straight Arrow Connector 40"/>
          <p:cNvCxnSpPr>
            <a:endCxn id="449" idx="0"/>
          </p:cNvCxnSpPr>
          <p:nvPr/>
        </p:nvCxnSpPr>
        <p:spPr>
          <a:xfrm>
            <a:off x="5070960" y="3928680"/>
            <a:ext cx="34200" cy="214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2" name="Straight Arrow Connector 42"/>
          <p:cNvCxnSpPr/>
          <p:nvPr/>
        </p:nvCxnSpPr>
        <p:spPr>
          <a:xfrm flipH="1">
            <a:off x="5714640" y="3928680"/>
            <a:ext cx="2160" cy="1072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3" name="Straight Arrow Connector 44"/>
          <p:cNvCxnSpPr/>
          <p:nvPr/>
        </p:nvCxnSpPr>
        <p:spPr>
          <a:xfrm flipH="1">
            <a:off x="6428520" y="3928680"/>
            <a:ext cx="2520" cy="4294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4" name="Straight Arrow Connector 46"/>
          <p:cNvCxnSpPr>
            <a:endCxn id="452" idx="0"/>
          </p:cNvCxnSpPr>
          <p:nvPr/>
        </p:nvCxnSpPr>
        <p:spPr>
          <a:xfrm flipH="1">
            <a:off x="7117560" y="3929040"/>
            <a:ext cx="26280" cy="1215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5" name="Straight Arrow Connector 48"/>
          <p:cNvCxnSpPr/>
          <p:nvPr/>
        </p:nvCxnSpPr>
        <p:spPr>
          <a:xfrm flipH="1">
            <a:off x="7786440" y="3930120"/>
            <a:ext cx="2160" cy="358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6" name="Straight Arrow Connector 50"/>
          <p:cNvCxnSpPr/>
          <p:nvPr/>
        </p:nvCxnSpPr>
        <p:spPr>
          <a:xfrm flipH="1">
            <a:off x="8643600" y="3928680"/>
            <a:ext cx="2160" cy="7866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642960" y="2786040"/>
          <a:ext cx="7643880" cy="371520"/>
        </p:xfrm>
        <a:graphic>
          <a:graphicData uri="http://schemas.openxmlformats.org/drawingml/2006/table">
            <a:tbl>
              <a:tblPr/>
              <a:tblGrid>
                <a:gridCol w="765000"/>
                <a:gridCol w="763920"/>
                <a:gridCol w="765000"/>
                <a:gridCol w="763560"/>
                <a:gridCol w="765360"/>
                <a:gridCol w="763560"/>
                <a:gridCol w="765000"/>
                <a:gridCol w="763560"/>
                <a:gridCol w="765360"/>
                <a:gridCol w="763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9639d"/>
                      </a:solidFill>
                    </a:lnL>
                    <a:lnR w="5760">
                      <a:solidFill>
                        <a:srgbClr val="39639d"/>
                      </a:solidFill>
                    </a:lnR>
                    <a:lnT w="5760">
                      <a:solidFill>
                        <a:srgbClr val="39639d"/>
                      </a:solidFill>
                    </a:lnT>
                    <a:lnB w="12240">
                      <a:solidFill>
                        <a:srgbClr val="39639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TextBox 4"/>
          <p:cNvSpPr/>
          <p:nvPr/>
        </p:nvSpPr>
        <p:spPr>
          <a:xfrm>
            <a:off x="573120" y="3643200"/>
            <a:ext cx="784080" cy="642600"/>
          </a:xfrm>
          <a:prstGeom prst="rect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1185840" y="4643280"/>
            <a:ext cx="1360440" cy="580680"/>
          </a:xfrm>
          <a:prstGeom prst="rect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Ho iniziat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cammin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7"/>
          <p:cNvSpPr/>
          <p:nvPr/>
        </p:nvSpPr>
        <p:spPr>
          <a:xfrm>
            <a:off x="1671120" y="3571920"/>
            <a:ext cx="1532520" cy="580680"/>
          </a:xfrm>
          <a:prstGeom prst="rect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Si è ammal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il no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8"/>
          <p:cNvSpPr/>
          <p:nvPr/>
        </p:nvSpPr>
        <p:spPr>
          <a:xfrm>
            <a:off x="2899440" y="4500720"/>
            <a:ext cx="1270440" cy="580680"/>
          </a:xfrm>
          <a:prstGeom prst="rect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E’ nata m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sorel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3548160" y="3571920"/>
            <a:ext cx="1410480" cy="580680"/>
          </a:xfrm>
          <a:prstGeom prst="rect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Inizio scuo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ma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000760" y="4214880"/>
            <a:ext cx="1143000" cy="824040"/>
          </a:xfrm>
          <a:prstGeom prst="rect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Ho impar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a nuo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6152400" y="3643200"/>
            <a:ext cx="794880" cy="580680"/>
          </a:xfrm>
          <a:prstGeom prst="rect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Pr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c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7072200" y="3500280"/>
            <a:ext cx="1071720" cy="580680"/>
          </a:xfrm>
          <a:prstGeom prst="rect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Seconda c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7670160" y="4286160"/>
            <a:ext cx="755280" cy="580680"/>
          </a:xfrm>
          <a:prstGeom prst="rect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Ter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Lucida Sans Unicode"/>
              </a:rPr>
              <a:t>c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Straight Arrow Connector 15"/>
          <p:cNvCxnSpPr/>
          <p:nvPr/>
        </p:nvCxnSpPr>
        <p:spPr>
          <a:xfrm flipH="1">
            <a:off x="712440" y="3143160"/>
            <a:ext cx="2160" cy="5025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79" name="Straight Arrow Connector 17"/>
          <p:cNvCxnSpPr/>
          <p:nvPr/>
        </p:nvCxnSpPr>
        <p:spPr>
          <a:xfrm flipH="1">
            <a:off x="1499400" y="3142800"/>
            <a:ext cx="2520" cy="150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80" name="Straight Arrow Connector 19"/>
          <p:cNvCxnSpPr/>
          <p:nvPr/>
        </p:nvCxnSpPr>
        <p:spPr>
          <a:xfrm flipH="1">
            <a:off x="2499480" y="3142800"/>
            <a:ext cx="2520" cy="4294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81" name="Straight Arrow Connector 22"/>
          <p:cNvCxnSpPr/>
          <p:nvPr/>
        </p:nvCxnSpPr>
        <p:spPr>
          <a:xfrm flipH="1">
            <a:off x="3355200" y="3142800"/>
            <a:ext cx="2520" cy="1359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82" name="Straight Arrow Connector 32"/>
          <p:cNvCxnSpPr/>
          <p:nvPr/>
        </p:nvCxnSpPr>
        <p:spPr>
          <a:xfrm flipH="1">
            <a:off x="6500520" y="3142800"/>
            <a:ext cx="2160" cy="5007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83" name="Straight Arrow Connector 34"/>
          <p:cNvCxnSpPr/>
          <p:nvPr/>
        </p:nvCxnSpPr>
        <p:spPr>
          <a:xfrm flipH="1">
            <a:off x="7357680" y="3143160"/>
            <a:ext cx="2160" cy="357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84" name="Straight Arrow Connector 36"/>
          <p:cNvCxnSpPr/>
          <p:nvPr/>
        </p:nvCxnSpPr>
        <p:spPr>
          <a:xfrm flipH="1">
            <a:off x="8214480" y="3143160"/>
            <a:ext cx="2520" cy="1145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85" name="Straight Arrow Connector 41"/>
          <p:cNvCxnSpPr/>
          <p:nvPr/>
        </p:nvCxnSpPr>
        <p:spPr>
          <a:xfrm flipH="1">
            <a:off x="4141440" y="3142800"/>
            <a:ext cx="2160" cy="430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86" name="Straight Arrow Connector 43"/>
          <p:cNvCxnSpPr/>
          <p:nvPr/>
        </p:nvCxnSpPr>
        <p:spPr>
          <a:xfrm flipH="1">
            <a:off x="5571360" y="3142800"/>
            <a:ext cx="2520" cy="1073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071360"/>
            <a:ext cx="83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Se si analizzano i modi di lavorare, possiamo distinguere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I temi legati alle ricorrenz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L’orientamento degli alunni nel temp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I frammenti storici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Lo svolgimento storico di alcuni fatti, oggetti o avvenimenti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classi I e II - temi legati alle ricorrenz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classe III – introduzione all’orientamento nel tempo e comprensione del concetto di temp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Lucida Sans Unicode"/>
              </a:rPr>
              <a:t>classe IV – alcuni frammenti della storia della Croazia (Italia), lo sviluppo storico di alcuni fatti, oggetti e fenomeni e anche temi legati alle ricorrenz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l secolo è un periodo molto lungo e ha una grande importanza nello studio della sto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e vogliamo che ľalunno comprenda la durata di un secolo bisogn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ndividuare il maggior numero di fatti concreti che sono accaduti durante il secolo stesso per concretizzare questo lasso di te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nserirli sulla linea del te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ndicare sulla linea del tempo il presente, il passato e  il futur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65240" y="281160"/>
            <a:ext cx="84978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l frammento storico è una </a:t>
            </a:r>
            <a:r>
              <a:rPr b="0" lang="hr-HR" sz="2700" spc="-1" strike="noStrike">
                <a:solidFill>
                  <a:srgbClr val="1faecd"/>
                </a:solidFill>
                <a:latin typeface="Lucida Sans Unicode"/>
              </a:rPr>
              <a:t>piccola parte della storia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n base alla quale gli alunni possono comprendere le caratteristiche storiche essenziali in quel determinato perio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Per elaborarli si insiste </a:t>
            </a:r>
            <a:r>
              <a:rPr b="0" lang="hr-HR" sz="2700" spc="-1" strike="noStrike">
                <a:solidFill>
                  <a:srgbClr val="1faecd"/>
                </a:solidFill>
                <a:latin typeface="Lucida Sans Unicode"/>
              </a:rPr>
              <a:t>poco sui fatti storici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e </a:t>
            </a:r>
            <a:r>
              <a:rPr b="0" lang="hr-HR" sz="2700" spc="-1" strike="noStrike">
                <a:solidFill>
                  <a:srgbClr val="1faecd"/>
                </a:solidFill>
                <a:latin typeface="Lucida Sans Unicode"/>
              </a:rPr>
              <a:t>molto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sulla loro </a:t>
            </a:r>
            <a:r>
              <a:rPr b="0" lang="hr-HR" sz="2700" spc="-1" strike="noStrike">
                <a:solidFill>
                  <a:srgbClr val="1faecd"/>
                </a:solidFill>
                <a:latin typeface="Lucida Sans Unicode"/>
              </a:rPr>
              <a:t>percezione emotiva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i usano per conoscere le tappe fondamentali nella storia del proprio popolo o nazionalità di appartenenz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obbiamo tener conto dei due crtiteri basilari: </a:t>
            </a:r>
            <a:r>
              <a:rPr b="0" lang="hr-HR" sz="2700" spc="-1" strike="noStrike">
                <a:solidFill>
                  <a:srgbClr val="1faecd"/>
                </a:solidFill>
                <a:latin typeface="Lucida Sans Unicode"/>
              </a:rPr>
              <a:t>il territorio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hr-HR" sz="2700" spc="-1" strike="noStrike">
                <a:solidFill>
                  <a:srgbClr val="1faecd"/>
                </a:solidFill>
                <a:latin typeface="Lucida Sans Unicode"/>
              </a:rPr>
              <a:t> il te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ella III classe si scelgono frammenti storici della regione in cui si trova la scu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ella IV classe si scelgono frammenti dalla storia della Croazia e dell’Ital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frammenti dalla preisto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frammenti dall'epoca rom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frammenti del medioe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frammenti del XIX seco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frammenti del XX seco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frammenti del periodo di ricostru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14806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imitare la quantità di fatti – avvenimen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cegliere fatti storici caratteristici del periodo storico, essenziali per la comprensione dell’ epoca storica studi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ridurre al minimo indispensabile gli elementi raziona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dedicare attenzione particolare a suscitare emozioni, cercando di far rivivere l'avvenimento all'alun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è opportuno elaborare i frammenti storici sulla base di opere d'ar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4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85840" y="149976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piega le cause e le ragioni per cui l’umanità, attraverso i tempi, ha cambiato i sistemi di valori e i modelli cultura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fa capire come gli uomini hanno risposto alle sfide che provenivano dalla natura e dalla storia stessa, adattando l’ambiente alle loro esigen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erve a conservare la memoria dell’umanità, a documentare la ricchezza e la pluralità delle voci del passa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tudiare la storia di ieri permette di conoscere meglio quella di ogg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195120" y="420840"/>
            <a:ext cx="84981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840" y="148104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o scopo di tale stor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far capire agli alunni la serie di cambiamenti subiti da un fenomeno o ogget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comprendere che i cambiamenti nel corso del tempo sono condizionati dagli eventi storico – socia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capire che i cambiamenti possono essere in rapporto di causa – effetto, possono essere graduali (progressivi) o rivoluzionari (improvvis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otare quando è stato osservato per la prima vol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n quale forma è compars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quali ne sono le cause e le conseguen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notare le fasi essenziali nello sviluppo del fenom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ndividuare le regole secondo le quali si svilupp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ndividuare la forma in cui esiste attualm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storia della scuola come istituzione formati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storia del tur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storia della comunità nazionale italiana in Croaz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storia della na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storia dell’automob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storia della biciclet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storia del telefo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la storia del computer, ec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2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70c0"/>
                </a:solidFill>
                <a:latin typeface="Lucida Sans Unicode"/>
              </a:rPr>
              <a:t>Prima serie di osservazioni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: il materiale usato per la costru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(la nave è un mezzo di trasporto sulľ acqu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precursore della nave era il tronco d'alber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una forma migliore era la zatte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la cano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la barca costruita con tavole di leg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la galea a remi e con vele fis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vari tipi di velie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navi di ferro con motori diesel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navi con motori ad energia nucle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navi costruiti in leghe speciali oppure in plastic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Content Placeholder 3" descr="zattera_rifatta.gif"/>
          <p:cNvPicPr/>
          <p:nvPr/>
        </p:nvPicPr>
        <p:blipFill>
          <a:blip r:embed="rId1">
            <a:lum bright="10000"/>
          </a:blip>
          <a:srcRect l="0" t="22606" r="0" b="0"/>
          <a:stretch/>
        </p:blipFill>
        <p:spPr>
          <a:xfrm>
            <a:off x="0" y="1428840"/>
            <a:ext cx="3384720" cy="2200320"/>
          </a:xfrm>
          <a:prstGeom prst="rect">
            <a:avLst/>
          </a:prstGeom>
          <a:ln w="0">
            <a:noFill/>
          </a:ln>
        </p:spPr>
      </p:pic>
      <p:pic>
        <p:nvPicPr>
          <p:cNvPr id="506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anoa.jpg"/>
          <p:cNvPicPr/>
          <p:nvPr/>
        </p:nvPicPr>
        <p:blipFill>
          <a:blip r:embed="rId3"/>
          <a:stretch/>
        </p:blipFill>
        <p:spPr>
          <a:xfrm>
            <a:off x="6357960" y="214200"/>
            <a:ext cx="2565360" cy="3419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nave-remi.jpg"/>
          <p:cNvPicPr/>
          <p:nvPr/>
        </p:nvPicPr>
        <p:blipFill>
          <a:blip r:embed="rId4"/>
          <a:stretch/>
        </p:blipFill>
        <p:spPr>
          <a:xfrm>
            <a:off x="500040" y="4000680"/>
            <a:ext cx="3503520" cy="26272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6" descr="Veliero1.jpg"/>
          <p:cNvPicPr/>
          <p:nvPr/>
        </p:nvPicPr>
        <p:blipFill>
          <a:blip r:embed="rId5"/>
          <a:stretch/>
        </p:blipFill>
        <p:spPr>
          <a:xfrm>
            <a:off x="3357720" y="1000080"/>
            <a:ext cx="2947680" cy="2879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nave-a-vapore.jpg"/>
          <p:cNvPicPr/>
          <p:nvPr/>
        </p:nvPicPr>
        <p:blipFill>
          <a:blip r:embed="rId6"/>
          <a:srcRect l="0" t="0" r="0" b="14473"/>
          <a:stretch/>
        </p:blipFill>
        <p:spPr>
          <a:xfrm>
            <a:off x="4500720" y="4071960"/>
            <a:ext cx="4390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econdo il loro contenuto possiamo distinguere alcuni tipi di temi legati ad avvenimenti specific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 temi legati a particolari ricorren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 temi legati a personalità importanti della sto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 temi legati a monumenti storico-cultura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356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i deve individuare la forza motrice delle nav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braccia delľ uomo – pali, rem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vele fisse – vento, vele mobili – vento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l motore a vapore – il vapo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l motore diesel - gasol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l motore ad energia nucle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n seguito gli alunni devono notare la qualità della forza motr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Conclusione: L’uomo con il suo lavoro cambia la società e se stess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Content Placeholder 3" descr="celerifero.jpg"/>
          <p:cNvPicPr/>
          <p:nvPr/>
        </p:nvPicPr>
        <p:blipFill>
          <a:blip r:embed="rId1"/>
          <a:stretch/>
        </p:blipFill>
        <p:spPr>
          <a:xfrm>
            <a:off x="0" y="1143000"/>
            <a:ext cx="4518000" cy="3240000"/>
          </a:xfrm>
          <a:prstGeom prst="rect">
            <a:avLst/>
          </a:prstGeom>
          <a:ln w="0">
            <a:noFill/>
          </a:ln>
        </p:spPr>
      </p:pic>
      <p:pic>
        <p:nvPicPr>
          <p:cNvPr id="51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draisina.jpg"/>
          <p:cNvPicPr/>
          <p:nvPr/>
        </p:nvPicPr>
        <p:blipFill>
          <a:blip r:embed="rId3"/>
          <a:stretch/>
        </p:blipFill>
        <p:spPr>
          <a:xfrm>
            <a:off x="4413240" y="3429000"/>
            <a:ext cx="4730760" cy="3276720"/>
          </a:xfrm>
          <a:prstGeom prst="rect">
            <a:avLst/>
          </a:prstGeom>
          <a:ln w="0">
            <a:noFill/>
          </a:ln>
        </p:spPr>
      </p:pic>
      <p:sp>
        <p:nvSpPr>
          <p:cNvPr id="516" name="TextBox 5"/>
          <p:cNvSpPr/>
          <p:nvPr/>
        </p:nvSpPr>
        <p:spPr>
          <a:xfrm>
            <a:off x="5583240" y="200016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celerif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6"/>
          <p:cNvSpPr/>
          <p:nvPr/>
        </p:nvSpPr>
        <p:spPr>
          <a:xfrm>
            <a:off x="1940040" y="507204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drai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Content Placeholder 3" descr="biciclo.gif"/>
          <p:cNvPicPr/>
          <p:nvPr/>
        </p:nvPicPr>
        <p:blipFill>
          <a:blip r:embed="rId1"/>
          <a:stretch/>
        </p:blipFill>
        <p:spPr>
          <a:xfrm>
            <a:off x="714240" y="1714680"/>
            <a:ext cx="3032280" cy="2447640"/>
          </a:xfrm>
          <a:prstGeom prst="rect">
            <a:avLst/>
          </a:prstGeom>
          <a:ln w="0">
            <a:noFill/>
          </a:ln>
        </p:spPr>
      </p:pic>
      <p:pic>
        <p:nvPicPr>
          <p:cNvPr id="519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mountain-bike.jpg"/>
          <p:cNvPicPr/>
          <p:nvPr/>
        </p:nvPicPr>
        <p:blipFill>
          <a:blip r:embed="rId3"/>
          <a:stretch/>
        </p:blipFill>
        <p:spPr>
          <a:xfrm>
            <a:off x="4143240" y="1428840"/>
            <a:ext cx="4245120" cy="2555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6"/>
          <p:cNvSpPr/>
          <p:nvPr/>
        </p:nvSpPr>
        <p:spPr>
          <a:xfrm>
            <a:off x="1222200" y="45720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cic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5014440" y="4786200"/>
            <a:ext cx="27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untain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Content Placeholder 3" descr="bici-corsa.jpg"/>
          <p:cNvPicPr/>
          <p:nvPr/>
        </p:nvPicPr>
        <p:blipFill>
          <a:blip r:embed="rId1"/>
          <a:stretch/>
        </p:blipFill>
        <p:spPr>
          <a:xfrm>
            <a:off x="142920" y="1428840"/>
            <a:ext cx="4505400" cy="2808360"/>
          </a:xfrm>
          <a:prstGeom prst="rect">
            <a:avLst/>
          </a:prstGeom>
          <a:ln w="0">
            <a:noFill/>
          </a:ln>
        </p:spPr>
      </p:pic>
      <p:pic>
        <p:nvPicPr>
          <p:cNvPr id="52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bicicletta-elettrica.jpg"/>
          <p:cNvPicPr/>
          <p:nvPr/>
        </p:nvPicPr>
        <p:blipFill>
          <a:blip r:embed="rId3"/>
          <a:stretch/>
        </p:blipFill>
        <p:spPr>
          <a:xfrm>
            <a:off x="4857840" y="2928960"/>
            <a:ext cx="4066920" cy="2916360"/>
          </a:xfrm>
          <a:prstGeom prst="rect">
            <a:avLst/>
          </a:prstGeom>
          <a:ln w="0">
            <a:noFill/>
          </a:ln>
        </p:spPr>
      </p:pic>
      <p:sp>
        <p:nvSpPr>
          <p:cNvPr id="526" name="TextBox 6"/>
          <p:cNvSpPr/>
          <p:nvPr/>
        </p:nvSpPr>
        <p:spPr>
          <a:xfrm>
            <a:off x="1297800" y="457200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ci da co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5798880" y="20718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ci elett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28400" y="1214280"/>
            <a:ext cx="8429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Trovare la definizione di tur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i risponde alla domande dove si trovano i centri turistici della reg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quali sono i centri turistic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perché sono situati proprio lì e non da qualche altra parte (condizioni natural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quando ha avuto origine il turismo nella reg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come si è sviluppato (le fasi più importanti), quale importanza ha avuto nelľeconomia, nella cultura e nei rapporti sociali nel corso degli an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l 1° novembre – Giornata dei defunti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(Ognissanti): Si ricordano sia illustri personaggi pubblici (es. i soldati morti durante la guerra per l’ indipendenza della Croazia e quelli morti nella lotta contro il fascismo) che le persone care della propria famigli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i possono realizzare visite al cimitero e porre dei fiori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o accendere una candela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ulla tomba dei propri car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i ricorda la nascita di Gesù, il salvatore del mondo e propagatore della bontà e del perdono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Il Natale è dunque la festa della bontà, occasione in cui si preparano dei doni per i propri cari per dimostrare loro il nostro affetto e si cerca di diventare più buoni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’ anno di nascita di Gesù segna l’inizio della nostra e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i indaga sulle tradizioni locali legate al Carneval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i analizza il significato di questi festeggiamenti nati da usanze pagane e ripresi dal Cristianesimo e considerati uno sfogo prima dell’ inizio della Quaresima, periodo di penitenza prima di Pasqu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si analizzano le maschere tradizionali italia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arlecchino.gif"/>
          <p:cNvPicPr/>
          <p:nvPr/>
        </p:nvPicPr>
        <p:blipFill>
          <a:blip r:embed="rId1"/>
          <a:stretch/>
        </p:blipFill>
        <p:spPr>
          <a:xfrm>
            <a:off x="357120" y="0"/>
            <a:ext cx="2247840" cy="3629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brighella.gif"/>
          <p:cNvPicPr/>
          <p:nvPr/>
        </p:nvPicPr>
        <p:blipFill>
          <a:blip r:embed="rId2"/>
          <a:stretch/>
        </p:blipFill>
        <p:spPr>
          <a:xfrm>
            <a:off x="2643120" y="0"/>
            <a:ext cx="2193840" cy="3168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Colombina.jpg"/>
          <p:cNvPicPr/>
          <p:nvPr/>
        </p:nvPicPr>
        <p:blipFill>
          <a:blip r:embed="rId3"/>
          <a:stretch/>
        </p:blipFill>
        <p:spPr>
          <a:xfrm>
            <a:off x="4857840" y="214200"/>
            <a:ext cx="1587240" cy="313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gianduia.gif"/>
          <p:cNvPicPr/>
          <p:nvPr/>
        </p:nvPicPr>
        <p:blipFill>
          <a:blip r:embed="rId4"/>
          <a:stretch/>
        </p:blipFill>
        <p:spPr>
          <a:xfrm>
            <a:off x="6643800" y="0"/>
            <a:ext cx="2247840" cy="3067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meneghino.jpg"/>
          <p:cNvPicPr/>
          <p:nvPr/>
        </p:nvPicPr>
        <p:blipFill>
          <a:blip r:embed="rId5"/>
          <a:stretch/>
        </p:blipFill>
        <p:spPr>
          <a:xfrm>
            <a:off x="428760" y="3357720"/>
            <a:ext cx="1260360" cy="2411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ulcinella_pic.gif"/>
          <p:cNvPicPr/>
          <p:nvPr/>
        </p:nvPicPr>
        <p:blipFill>
          <a:blip r:embed="rId6"/>
          <a:stretch/>
        </p:blipFill>
        <p:spPr>
          <a:xfrm>
            <a:off x="4857840" y="3286080"/>
            <a:ext cx="1841400" cy="3348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pantalone.gif"/>
          <p:cNvPicPr/>
          <p:nvPr/>
        </p:nvPicPr>
        <p:blipFill>
          <a:blip r:embed="rId7"/>
          <a:stretch/>
        </p:blipFill>
        <p:spPr>
          <a:xfrm>
            <a:off x="6572160" y="3286080"/>
            <a:ext cx="1973520" cy="334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balanzone_pic.gif"/>
          <p:cNvPicPr/>
          <p:nvPr/>
        </p:nvPicPr>
        <p:blipFill>
          <a:blip r:embed="rId8"/>
          <a:stretch/>
        </p:blipFill>
        <p:spPr>
          <a:xfrm>
            <a:off x="2357280" y="3357720"/>
            <a:ext cx="238140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Si ricorda la risurrezione di Gesù, sacrificatosi per la salvezza di tutti gli uomin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È la festa della pace e del perdon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L'evento ha risonanze agresti e risale ad un'antica celebrazione con cui veniva festeggiato l'arrivo della primavera tramite offerte di ringraziamento, tra cui le primizie del campo e dell'orto, e sacrifici di agnell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 simboli della Pasqua: agnello, uova, uova di cioccolata, colomba col ramoscello d’ulivo nel becco, coniglietto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9:44:36Z</dcterms:created>
  <dc:creator>Miro</dc:creator>
  <dc:description/>
  <dc:language>en-US</dc:language>
  <cp:lastModifiedBy>Miro</cp:lastModifiedBy>
  <dcterms:modified xsi:type="dcterms:W3CDTF">2014-02-25T21:07:36Z</dcterms:modified>
  <cp:revision>81</cp:revision>
  <dc:subject/>
  <dc:title>I contenuti storici nella natura e società</dc:title>
</cp:coreProperties>
</file>