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774-DA89-4995-8206-16E28541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3B8-8914-480D-B86E-71CDA78E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3F4-13E1-4461-9AEF-55D6EB65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D25-04DB-4342-AB3E-9CFB67CB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6BDD-A625-4EF7-A678-042DCB7F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6729-AFE9-40AD-B955-476EE860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FD4E-0591-41E6-9B54-07255B2F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7FF2-F53D-4FFC-9809-B553D60E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4E1E-A40A-4994-83BF-8737C2FF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C7C7-4287-4802-BFB9-9E8ADA4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5147-5AF4-4811-9155-E8EE943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BD3-4ECA-4DA5-B379-801CE1AE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A1CA-308A-45D9-99D1-961FDEBD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327A-7F37-4F73-87FF-42B54C6F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FA2D-8D24-4A50-A193-5CC41B02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BF8D-D693-4876-908B-444C9EA7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0E1B-E02B-4543-91A5-07ACF9D6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E71-C029-49C4-9BC9-A1E9957D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BE0-8709-49E6-9368-76561D59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D9E-4A3C-49D1-BF72-FCF72465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0FA-4AFA-4ED9-B381-FF1536AB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AA8-E763-497C-8B73-CD14D231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8E3-2585-4ED0-B981-5D73774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DD3-A6BC-454D-8A15-9B235C1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8401-9591-404B-86D2-8156B1CF073D}" type="slidenum">
              <a:rPr b="0" lang="hr-H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CA14-D8D2-44F9-90A9-DAED6198A782}" type="slidenum">
              <a:rPr b="0" lang="hr-H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400800" cy="16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82400"/>
                </a:solidFill>
                <a:latin typeface="Arial Black"/>
              </a:rPr>
              <a:t>I metodi e le strategie d’insegnament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886200"/>
            <a:ext cx="653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82400"/>
                </a:solidFill>
                <a:latin typeface="Times New Roman"/>
              </a:rPr>
              <a:t>Didattica della natura e soci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Mr.sc. Nevia Močin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857160" y="2714760"/>
          <a:ext cx="32734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714760"/>
                    <a:ext cx="3273480" cy="3200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Le domande devono essere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57160" y="1766520"/>
            <a:ext cx="8072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inguisticamente corrette (ordine giusto delle parole, senza interruzioni a metà dom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ben chiare e determinate (es. Non va bene “Dove si trova Sebenico?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deguate all’età degli alunni (senza vocaboli sconosciuti o espressioni poco chi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idatticamente corrette (lasciare tempo per riflettere, far parlare un alunno alla volta, evitare domande retoriche, complesse, che confondono l’alunno, evitare di ripetere le risposte degli alun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Esempi di doman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28440" y="1643040"/>
            <a:ext cx="7902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e più semplici richiedono di elencare, di far vedere o descrivere qual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omande più complesse – richiedono di spiegare, argomentare, accertare, dimostrare, risolvere, valutare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s. Che cosa succede quando la neve e il ghiaccio delle montagne iniziano a sciogliersi? Che cosa tiene in aria l’aquilone? Dove si sono formate le città nelle regioni montane? Perché alcuni uccelli migrano in autunno? Perché pi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Evitare di: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85520" y="149976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ar confermare con brevi risposte le affermazioni dell’insegnante – es. Non è vero che ora siamo in inver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ar completare il pensiero dell’insegnante: es. Se la riscaldiamo, l’acqua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avor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’esposizione di idee nuove, suggerimenti, informazioni interessanti sull’argomento trat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ricerca di informazioni e opinioni per comprendere meglio ciò che si dis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capacità di coordinare e sintetizzare le idee espr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Metodo dei lavori scritt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28440" y="1643040"/>
            <a:ext cx="7902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olto usato nell’insegnamento della natura e soci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tile in prevalenza nelle fasi di ripetizione e veri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ntagg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viluppare l’espressione scri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nsolidare e precisare il sapere dell’alu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imolare l’indipendenza nello 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rricchire il vocabolario dell’alu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Forme frequenti di lavori scritt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57160" y="1571400"/>
            <a:ext cx="807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piato di appunti dalla lavagna o di altri te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crittura di relazioni brevi in base a esperienze viss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esura di saggi brevi in base a temi concordati e indicazioni precise sui limiti e la forma da osserv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isposte alle dom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iassu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appe concettu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Regole da osserva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crivere in modo ordinato, ortograficamente e sintatticamente corretto, rispettando tutte le regole della lingua ital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crivere con chiarezza e coer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vitare troppi appunti alla lavagna, sul lucido, sulla slide del Pow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on copiare mentre l’insegnante spi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Saper prendere appunt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1640" y="1766880"/>
            <a:ext cx="77691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per sottolineare le informazioni essenzi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per prendere appunti durante le osservazioni a breve 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mpilare il diario delle osserv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nnotare notizie sentite alla radio, alla televisione, leggendo giornalini per bambini, facendo un viaggio, e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Strategie, metodi e proced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57160" y="1642680"/>
            <a:ext cx="8072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rategie – insieme di metodi e procedure didattiche messe in atto dall’insegnante per favorire l’apprendimento e sviluppare le capacità de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i – insieme di procedure didattiche impiegate dalle insegnanti nel processo form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cedure didattiche – comportamenti appresi in vista di obiettivi formativi da raggiung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Classificazione dei metod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1640" y="157176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1. Metodi verb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nvers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ll’esposi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l lavoro sul t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i lavori scri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2. Metodi visiv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lla dimost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i lavori graf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3. Metodo dei lavori prat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Metodi verbal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28800" y="114264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Metodo dell’esposi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l più antico nella storia dell’inseg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stituisce i 2/3 dell’attività in cl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ncor’oggi risulta indispensabile in determinati c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on va usato se gli alunni possono conoscere il fenomeno o il tema in altri modi e poco per l’apprendimento delle abi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spetti dell’esposizione: racconto, spiegazione, descri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82400"/>
                </a:solidFill>
                <a:latin typeface="Times New Roman"/>
              </a:rPr>
              <a:t>Il metodo dell’esposizione dipende dall’abilità del saper: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1360" y="1714320"/>
            <a:ext cx="7769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unicare con ef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tivare 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estire la cl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oscere il presapere de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oscere gli stili di apprendimento degli alunni (verbale, visuale, gestu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ssare obiettivi formativi raggiungib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Comunicare con efficac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28440" y="1214280"/>
            <a:ext cx="8001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i trasmette informazioni in modo efficace se si pensa in modo efficiente, capacità che si traduce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capacità di pensiero guid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capacità di pensiero autonomo (senza aiuti di alcun gen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distorsione della comunicazione può dipendere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formulazione del messaggio (es. ripetizioni inutili, passaggi non mediati, omissioni, ecc.)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l codice non condiviso tra emittente e destina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l canale (es. aspetti acustici dell’au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disponibilità all’ascolto dell’alu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482400"/>
                </a:solidFill>
                <a:latin typeface="Times New Roman"/>
              </a:rPr>
              <a:t>Ruolo dell’insegnante e </a:t>
            </a:r>
            <a:br>
              <a:rPr sz="4000"/>
            </a:br>
            <a:r>
              <a:rPr b="0" lang="hr-HR" sz="4000" spc="-1" strike="noStrike">
                <a:solidFill>
                  <a:srgbClr val="482400"/>
                </a:solidFill>
                <a:latin typeface="Times New Roman"/>
              </a:rPr>
              <a:t>comunicazione efficac</a:t>
            </a: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28440" y="1766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candire i contenuti disciplinari in unità progressive con evidenziati i concetti fondamen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ttivare in modo intenzionale e sistematico processi di metariflessione e metacognizione degli alu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laborare strategie che accrescano la concentrazione degli alunni sugli aspetti importanti  della l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muovere processi di feedback sulla valutazione della propia prestazione rispetto alle aspet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Metodo della conversazion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1640" y="1766520"/>
            <a:ext cx="776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i basa sulle domande e sulle risposte sia dell’insegnante che dell’alu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rettamente collegata con le altre forme di inseg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ende possibile la comunicazione interpers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ende attivi gli alunni, li stimola alla riflessione, consolida le loro conoscenze, li abitua al lavoro auton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Conversazione effic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28440" y="1643040"/>
            <a:ext cx="7902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erché la conversazione sia efficace bisog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rre domande su esperienze vissute o presapere acquisito da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noscere la fonte del sapere de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pere se gli alunni sono abituati o meno ad esporre le proprie opin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muovere uno spirito cri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ar partecipare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avorire l’ascolto attento di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4:18:57Z</dcterms:created>
  <dc:creator>vlado</dc:creator>
  <dc:description/>
  <dc:language>en-US</dc:language>
  <cp:lastModifiedBy>Miro</cp:lastModifiedBy>
  <dcterms:modified xsi:type="dcterms:W3CDTF">2013-11-09T13:05:08Z</dcterms:modified>
  <cp:revision>54</cp:revision>
  <dc:subject/>
  <dc:title>POUČAVANJE</dc:title>
</cp:coreProperties>
</file>