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47B-8855-4A7B-B117-C5C3CEE5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8CC-70F3-4AF3-A07E-15A9BFC8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FC3-1DF2-451E-A66E-BA130A16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C2D-1FFF-4629-805F-61B3CD8D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15D7-6B81-4091-ADF3-EFB136CC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F0E2-0E87-49A7-BA16-129D10A0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257F-604B-4CAA-B34E-2752E4F6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DA6-5D85-458D-995B-D6161394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7A58-5235-4845-8C37-611C4BA3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564-D7EC-45A8-951F-F766135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2D7C-32CC-486C-85D6-CB68E92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ABE-AE2D-433C-8CD8-C97F7673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9C53-B634-4EAD-8920-37FC3A8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3899-7B62-43B7-A2C5-29D8DC3D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E29B-C27C-4C25-84CD-4460CDD2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AB11-6EC6-44FD-BC21-10149A5A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0973-0599-4B62-8051-285BC9EE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7245E-24B1-4574-B95F-5E2E54B3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3399A-B39E-4B90-A775-9ECAF80A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EF3D2-1712-40C4-942A-5061D429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6F0A9-F099-4774-A5C2-0A9C5BB9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B1768-7E9F-431C-8BA4-83E59590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A73-C58A-40BD-A3AF-51AF54A9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EC05C-4144-4A21-9627-CB60F1CF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B30C4-9A60-4249-A2DB-FC1E248E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18FDA-848B-41CD-AC30-FF5093C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F8BD5-9F87-4FE3-B1C5-A5452FE0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A76AD-F304-41F0-B053-0BC9F85F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D4806-DFFF-4337-B31F-9EB74C6A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82C07-3476-47BA-AD3D-61AF2560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48B96-4F35-4E72-80F3-3CE0AF8F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41456-8B5C-4EA1-A9EC-05591F6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657E-DCFC-49A7-88D4-81FC7FC4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61B-1D9A-4CB4-963F-6B24DF6E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28F0-1B81-4C73-8CEA-879D4B21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8BF5-8CB6-461F-BE0E-6EF8B4D3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5CD8E-C726-41F0-9ED0-A351510A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AFF2-838B-4F24-AB0A-9DEBD75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4479-42FE-4F77-8E33-948D075F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3EFD-0F14-48FE-94CC-FDA66B8B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AD34-7958-456A-B4C7-8BC08FE4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4FAF-08CF-409C-A4E8-09BA4A80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A06C7-B7E5-4054-A7A3-DCDBDF59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546D6-C8F0-45F1-A191-03DBD45A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64C-AA76-45EE-8FF6-71009BFF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350F2-BF8B-4D95-80B1-26F32CB0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74B34-33F0-4657-9F84-A17BDD4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6DF82-3C69-43A7-9F51-F68E0BF7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584CA-4D72-4840-9BE5-BB2DC033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801CD-DAA4-4485-A5AA-5867DC81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A0D8D-2C72-49AA-89C2-15B01DE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98F0B-808F-4384-8BE0-4ECC04E3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78325-1FB4-4F77-9621-9F8102B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3291B-2268-459E-AC5F-CC0230E3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B3E44-B7D2-4EF8-8582-8C7D8885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713-114F-4A1C-8DCF-FC034122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49552-ED16-4ECE-BCE3-55887482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0147B-587E-4763-84E6-3206E2F3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9C5C0-ACA2-454E-AA00-107AC10D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C0EE5-2E25-4FBF-9C69-BF7DB85E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F8311-671B-4EFA-94A5-B334C695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771E4-D6E4-47DF-B730-A6C7B3B0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09878-3ED2-425B-A7DE-92D8BCA6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FDBD7-20A1-4050-AF3A-B07C5C93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11696-38E2-41EE-B375-3C2922A8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F3054-8694-4DC0-85AC-16D2929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1DA-04F7-4CC6-8CF3-31B4BEE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FD339-426F-4432-A5E7-17C74F55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6C7DB-7D78-4FB1-A43A-64E94D94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9F68F-F155-4206-99DE-78E70443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C177E-23A9-4175-A9F6-62BD690F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EE128-8FE3-447A-9268-26011846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A9409-67E6-4C08-8177-2BA85205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92700-73B1-4B52-9409-238768F0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DB126-D888-472B-A353-6A9DC5DE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21536-2A28-4320-AFA4-9224A385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E358C-C80B-4247-BBB4-D28E664B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BB5-A524-4782-A4AE-8B57943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5A304-93DA-47CB-A2FE-02E35733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4CEE0-5B10-44EC-B5CA-5A06A75F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053B5-084E-4F86-AFA7-189FD04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771B0-90D8-490D-B8EB-21497E27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8DFE2-38FE-4207-B7BF-901B4B1D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398A67-9B38-4B79-BCE4-A496CD31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C1242A-714C-46C7-94BF-BA8209B8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5322F6-114E-4B90-92F4-C600513B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F3C674-757D-400F-9AAC-E0C00C2F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21323B-02C2-49FE-95C1-9A073458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C13-012B-4DC7-BAD9-FC033812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FF68A2-570F-41A6-BE18-B7E53855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5C992-B178-41D8-8490-EF4FEDC3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A5C6EA-F1C2-4431-8864-738AD1D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DA08AA-CB7D-4F8B-B0B3-022F2315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E9D133-7BED-40BC-895C-8CDB6ACB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FB4A55-090A-4CA7-8F30-52AB4C51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FE6959-0A9E-49A9-AE4C-69507E26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706-6D3B-4257-BEA7-D61686E88DBD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D9A6-522B-42AA-8674-55A4475B8E64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3E68-F8A5-45E0-96CF-012D67E53394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33E4-FDB6-4F09-B347-31B9872997A2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B5FD-7556-4C9E-9698-BC08D9401147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B841-66F5-4BB8-B7B5-2FE9021BF374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FAAD-C470-4AD9-BEDA-D2DBCEDCDA55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6C12-2214-43F6-A645-DBD932E04EA3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dt" idx="2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5640" y="2571480"/>
            <a:ext cx="61722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300" spc="-1" strike="noStrike">
                <a:solidFill>
                  <a:srgbClr val="575f6d"/>
                </a:solidFill>
                <a:latin typeface="Century Schoolbook"/>
              </a:rPr>
              <a:t>LO STUDIO NELLO SVOLGIMENTO DEI CONTENUTI DI </a:t>
            </a:r>
            <a:br>
              <a:rPr sz="3300"/>
            </a:br>
            <a:r>
              <a:rPr b="1" lang="hr-HR" sz="3300" spc="-1" strike="noStrike">
                <a:solidFill>
                  <a:srgbClr val="575f6d"/>
                </a:solidFill>
                <a:latin typeface="Century Schoolbook"/>
              </a:rPr>
              <a:t>NATURA E SOCIETÀ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580000" y="5805360"/>
            <a:ext cx="32068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75f6d"/>
                </a:solidFill>
                <a:latin typeface="Century Schoolbook"/>
              </a:rPr>
              <a:t>Mr.sc. Nevia Močinić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75c01"/>
                </a:solidFill>
                <a:latin typeface="Century Schoolbook"/>
              </a:rPr>
              <a:t>USO DI ALTRI GRAFICI</a:t>
            </a:r>
            <a:br>
              <a:rPr sz="2900"/>
            </a:br>
            <a:r>
              <a:rPr b="0" lang="hr-HR" sz="2500" spc="-1" strike="noStrike">
                <a:solidFill>
                  <a:srgbClr val="575f6d"/>
                </a:solidFill>
                <a:latin typeface="Century Schoolbook"/>
              </a:rPr>
              <a:t>VIENI A SCUOLA DA SOLO O TI ACCOMPAGNA QUALCUNO?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5" name="Picture 4" descr="Copy of img172"/>
          <p:cNvPicPr/>
          <p:nvPr/>
        </p:nvPicPr>
        <p:blipFill>
          <a:blip r:embed="rId1"/>
          <a:stretch/>
        </p:blipFill>
        <p:spPr>
          <a:xfrm>
            <a:off x="539640" y="1628640"/>
            <a:ext cx="7272360" cy="23050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468360" y="393372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entury Schoolbook"/>
              </a:rPr>
              <a:t>COSA MANGI PER MERE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Copy of Copy of img172"/>
          <p:cNvPicPr/>
          <p:nvPr/>
        </p:nvPicPr>
        <p:blipFill>
          <a:blip r:embed="rId2"/>
          <a:stretch/>
        </p:blipFill>
        <p:spPr>
          <a:xfrm>
            <a:off x="539640" y="4365720"/>
            <a:ext cx="727236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13880" y="274680"/>
            <a:ext cx="7210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75c01"/>
                </a:solidFill>
                <a:latin typeface="Century Schoolbook"/>
              </a:rPr>
              <a:t>LA MEMORIZZAZIONE DEI CONCETTI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714680"/>
            <a:ext cx="74674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er favorire la memorizzazione dei concetti l’insegnante dev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viluppare l’attenzione concentrata del bambin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diminuire il suo livello di ans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timolare la sua motivazi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resentare i fatti e i concetti nuovi in forma problemat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68360" y="164268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Schoolbook"/>
              </a:rPr>
              <a:t>Nell’isegnamento della N e S si deve dedicare un’attenzione particolare alla formazione dei concetti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Schoolbook"/>
              </a:rPr>
              <a:t>La formazione dei concetti viene guidata e organizzata dall’insegnant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entury Schoolbook"/>
              </a:rPr>
              <a:t>Per farlo correttamente deve conoscere il processo di formazione dei concetti nel suo aspetto logico e psicologico</a:t>
            </a:r>
            <a:r>
              <a:rPr b="0" lang="hr-HR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TextBox 2"/>
          <p:cNvSpPr/>
          <p:nvPr/>
        </p:nvSpPr>
        <p:spPr>
          <a:xfrm>
            <a:off x="928800" y="928800"/>
            <a:ext cx="67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75c01"/>
                </a:solidFill>
                <a:latin typeface="Century Schoolbook"/>
              </a:rPr>
              <a:t>LA FORMAZIONE DEI CONC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e75c01"/>
                </a:solidFill>
                <a:latin typeface="Century Schoolbook"/>
              </a:rPr>
              <a:t>LO STUDIO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’ una forma di attivit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scolas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’ un’attivit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intellettuale che richiede un impegno person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’ un’attivit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cosciente e intenzionale che permette lo sviluppo del bambi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4" descr="leggere-insieme.jpg"/>
          <p:cNvPicPr/>
          <p:nvPr/>
        </p:nvPicPr>
        <p:blipFill>
          <a:blip r:embed="rId1"/>
          <a:stretch/>
        </p:blipFill>
        <p:spPr>
          <a:xfrm>
            <a:off x="857160" y="3929040"/>
            <a:ext cx="2952720" cy="2411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alunni.jpg"/>
          <p:cNvPicPr/>
          <p:nvPr/>
        </p:nvPicPr>
        <p:blipFill>
          <a:blip r:embed="rId2"/>
          <a:stretch/>
        </p:blipFill>
        <p:spPr>
          <a:xfrm>
            <a:off x="4214880" y="3857760"/>
            <a:ext cx="372888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952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’attivit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didattica si baser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sulla comunicazione verbale quando tale attivit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si basa su dati ed esperienze concrete vissute dagli alunn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a comunicazione verbale sar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indispensabile quando si trasmetteranno contenuti non percepibili tramite i sensi, oppure non adatti ad una conoscenza sensibi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’esposizione verbale deve essere abbinata all’esecuzione di determinate attivit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pratich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s. Prendere appunti, disegnare, osservare illustrazioni, pensare e riflette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857160" y="64296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75c01"/>
                </a:solidFill>
                <a:latin typeface="Century Schoolbook"/>
              </a:rPr>
              <a:t>LO STUDIO NELL’INSEGN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75c01"/>
                </a:solidFill>
                <a:latin typeface="Century Schoolbook"/>
              </a:rPr>
              <a:t>DELLA NATURA E SOC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3533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75c01"/>
                </a:solidFill>
                <a:latin typeface="Century Schoolbook"/>
              </a:rPr>
              <a:t>I METODI E LE TECNICHE PER UNO STUDIO EFFICACE (PER L’ALUNNO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Apprendere i contenuti ripetendo i concetti trattati e gli item da ricord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Cercare spiegazioni sulle parti poco chi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Una volta compresi i contenuti, annotarli in forma di appunti strutturando i concetti pi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importanti (preparando schemi, tabelle, grafici, mappe concettuali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Formare una propria opinione sull’ argomento tratta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95280" y="1356840"/>
            <a:ext cx="83534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Molto utile per uno studio efficac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ipetere gli item da ricordar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agruppare le informazioni  che si pu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ò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fare mediante l’organizzazione dei dati in sche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14752"/>
                </a:solidFill>
                <a:latin typeface="Century Schoolbook"/>
              </a:rPr>
              <a:t>Es. </a:t>
            </a:r>
            <a:r>
              <a:rPr b="0" lang="hr-HR" sz="2400" spc="-1" strike="noStrike">
                <a:solidFill>
                  <a:srgbClr val="414752"/>
                </a:solidFill>
                <a:latin typeface="Century Schoolboo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igl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ig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AMIGLIA                             figl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genitori            mam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ap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Line 17"/>
          <p:cNvSpPr/>
          <p:nvPr/>
        </p:nvSpPr>
        <p:spPr>
          <a:xfrm flipV="1">
            <a:off x="2428920" y="4357440"/>
            <a:ext cx="6429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2357280" y="4714920"/>
            <a:ext cx="7858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0"/>
          <p:cNvSpPr/>
          <p:nvPr/>
        </p:nvSpPr>
        <p:spPr>
          <a:xfrm flipV="1">
            <a:off x="3924360" y="378900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1"/>
          <p:cNvSpPr/>
          <p:nvPr/>
        </p:nvSpPr>
        <p:spPr>
          <a:xfrm>
            <a:off x="3924360" y="4292640"/>
            <a:ext cx="576360" cy="35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4500720" y="5071680"/>
            <a:ext cx="7855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3"/>
          <p:cNvSpPr/>
          <p:nvPr/>
        </p:nvSpPr>
        <p:spPr>
          <a:xfrm>
            <a:off x="4500720" y="5214960"/>
            <a:ext cx="85716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8"/>
          <p:cNvSpPr/>
          <p:nvPr/>
        </p:nvSpPr>
        <p:spPr>
          <a:xfrm>
            <a:off x="857160" y="64296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75c01"/>
                </a:solidFill>
                <a:latin typeface="Century Schoolbook"/>
              </a:rPr>
              <a:t>USO DI SCH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05800" cy="53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e75c01"/>
                </a:solidFill>
                <a:latin typeface="Century Schoolbook"/>
              </a:rPr>
              <a:t>USO DELLA TABEL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entury Schoolbook"/>
              </a:rPr>
              <a:t>ISTITUZIONE SANITARIA           FUNZIO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42920" y="1714680"/>
          <a:ext cx="8424720" cy="4232160"/>
        </p:xfrm>
        <a:graphic>
          <a:graphicData uri="http://schemas.openxmlformats.org/drawingml/2006/table">
            <a:tbl>
              <a:tblPr/>
              <a:tblGrid>
                <a:gridCol w="3817800"/>
                <a:gridCol w="46069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sa della salute pubbl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edico di famiglia; visite di controllo per persone sane e ammal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ronto soccor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asi d’emergenz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armac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edicine prescritte dal medi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osped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icovero nel caso di malattie gravi che richiedono assistenza continua di medici e infermie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9528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e75c01"/>
                </a:solidFill>
                <a:latin typeface="Century Schoolbook"/>
              </a:rPr>
              <a:t>USO DELL’AREOGRAM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15" descr="img171"/>
          <p:cNvPicPr/>
          <p:nvPr/>
        </p:nvPicPr>
        <p:blipFill>
          <a:blip r:embed="rId1"/>
          <a:stretch/>
        </p:blipFill>
        <p:spPr>
          <a:xfrm>
            <a:off x="324000" y="1341360"/>
            <a:ext cx="8569080" cy="41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7572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100" spc="-1" strike="noStrike">
                <a:solidFill>
                  <a:srgbClr val="e75c01"/>
                </a:solidFill>
                <a:latin typeface="Century Schoolbook"/>
              </a:rPr>
              <a:t>USO DEL DIAGRAMMA</a:t>
            </a: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000"/>
            </a:br>
            <a:r>
              <a:rPr b="0" lang="hr-HR" sz="2800" spc="-1" strike="noStrike">
                <a:solidFill>
                  <a:srgbClr val="575f6d"/>
                </a:solidFill>
                <a:latin typeface="Century Schoolbook"/>
              </a:rPr>
              <a:t>TEMPERATURA RILEVATA </a:t>
            </a:r>
            <a:br>
              <a:rPr sz="2800"/>
            </a:br>
            <a:r>
              <a:rPr b="0" lang="hr-HR" sz="2800" spc="-1" strike="noStrike">
                <a:solidFill>
                  <a:srgbClr val="575f6d"/>
                </a:solidFill>
                <a:latin typeface="Century Schoolbook"/>
              </a:rPr>
              <a:t>ALLE ORE 14:00 E ALLE ORE 18:00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1" name="Picture 4" descr="Copy of img171"/>
          <p:cNvPicPr/>
          <p:nvPr/>
        </p:nvPicPr>
        <p:blipFill>
          <a:blip r:embed="rId1"/>
          <a:stretch/>
        </p:blipFill>
        <p:spPr>
          <a:xfrm>
            <a:off x="539640" y="1627200"/>
            <a:ext cx="770436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78588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75c01"/>
                </a:solidFill>
                <a:latin typeface="Century Schoolbook"/>
              </a:rPr>
              <a:t>USO DEL DIAGRAMMA DI VENN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3" name="Picture 4" descr="img172"/>
          <p:cNvPicPr/>
          <p:nvPr/>
        </p:nvPicPr>
        <p:blipFill>
          <a:blip r:embed="rId1"/>
          <a:stretch/>
        </p:blipFill>
        <p:spPr>
          <a:xfrm>
            <a:off x="900000" y="2060640"/>
            <a:ext cx="730260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8:29:57Z</dcterms:created>
  <dc:creator>korisnik</dc:creator>
  <dc:description/>
  <dc:language>en-US</dc:language>
  <cp:lastModifiedBy>Miro</cp:lastModifiedBy>
  <dcterms:modified xsi:type="dcterms:W3CDTF">2013-11-09T12:36:03Z</dcterms:modified>
  <cp:revision>10</cp:revision>
  <dc:subject/>
  <dc:title>LO STUDIO, IL GIOCO E L’ATTIVITA’ PRATICA NELLO SVOLGIMENTO DEI CONTENUTI DI NATURA E SOCIETA’</dc:title>
</cp:coreProperties>
</file>