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5925-3660-46DC-978E-3FBF50497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F8DE-4835-4002-869C-2ECCCEFF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0C5B-7BF0-4186-8E8D-4875E44AA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0092-21A4-4B72-AA86-893B16E1F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7387-DF2B-470D-B858-DE386E7C5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B44B-316E-4767-AC06-636BFE62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327A-140B-4B3B-895B-D6FBFF0E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4CB5-3764-406C-A7EF-8A55C95D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BD22-4E3C-4C05-B250-EF5E0E0C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F0EB-B231-4BD9-A064-B1D5A9DB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6C82-6230-45EC-BBB9-1E932A7B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E5A1-CB45-4D12-A9F0-2DBF44C4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6A06-56E9-4EC0-B60F-391CAC0E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30F3-B9C2-4EE0-930F-E9B97742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6103-2C46-4556-A1BB-F326E8E6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566A-1B50-4908-B3F3-6B171395F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E5D2-8C62-4209-B803-DBD2A6BE2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27CB-C094-4D30-B233-FEBAB350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1EBF-0C42-4B13-9463-E22EF793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CB6A-5234-4AAE-B4BA-B373CA41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73F6-E356-42D7-BC38-6AFEDB46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2AB1-5586-4CE1-9C89-1F0E3C21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CE30-E36F-4D0F-8814-25017F90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48A8-5B8B-4585-B66B-D117B601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BC09-E15C-40FB-BB09-BF0ED74DA043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03A6-71EE-4A81-A0BE-602C30173A44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L’ORGANIZZAZIONE DEI CONTENUTI DELLA </a:t>
            </a:r>
            <a:br>
              <a:rPr sz="2400"/>
            </a:b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NATURA E SOCI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Mr.sc. Nevia Močin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438280" y="404280"/>
            <a:ext cx="64008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I </a:t>
            </a:r>
            <a:r>
              <a:rPr b="1" i="1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nuclei tematic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ontengono concetti di tutte e tre le un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tematiche: la natura, la soci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 il lavoro degli uomi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ono suddivisi in: UN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DIDATTICH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arti meno ampie del programma per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comprendono un argomento limitato ad un centro d’interesse circos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rit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La casa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e la famiglia                 nucleo tema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La casa              la famiglia     -  un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didatt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La famiglia vive nella casa -  collabora con la scu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Sono collegate al luogo natio                             nel tempo e nello spaz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"/>
          <p:cNvSpPr/>
          <p:nvPr/>
        </p:nvSpPr>
        <p:spPr>
          <a:xfrm>
            <a:off x="5508720" y="1989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H="1">
            <a:off x="3059280" y="220500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6"/>
          <p:cNvSpPr/>
          <p:nvPr/>
        </p:nvSpPr>
        <p:spPr>
          <a:xfrm>
            <a:off x="4500720" y="220500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2"/>
          <p:cNvSpPr/>
          <p:nvPr/>
        </p:nvSpPr>
        <p:spPr>
          <a:xfrm flipH="1">
            <a:off x="6876720" y="371628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438280" y="907560"/>
            <a:ext cx="64008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9966ff"/>
                </a:solidFill>
                <a:latin typeface="Arial"/>
              </a:rPr>
              <a:t>Unità didatt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2700360" y="1989000"/>
            <a:ext cx="5688000" cy="381636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LA VITA E IL LAVORO IN FAMIG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LA CASA E GLI AMBIENTI DELLA C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LA VITA DEL BAMBINO IN FAMIG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438280" y="549000"/>
            <a:ext cx="64008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5e0dff"/>
                </a:solidFill>
                <a:latin typeface="Arial"/>
              </a:rPr>
              <a:t>UNIT</a:t>
            </a:r>
            <a:r>
              <a:rPr b="1" lang="en-US" sz="3200" spc="-1" strike="noStrike">
                <a:solidFill>
                  <a:srgbClr val="5e0dff"/>
                </a:solidFill>
                <a:latin typeface="Arial"/>
                <a:ea typeface="Arial"/>
              </a:rPr>
              <a:t>À</a:t>
            </a:r>
            <a:r>
              <a:rPr b="1" lang="hr-HR" sz="3200" spc="-1" strike="noStrike">
                <a:solidFill>
                  <a:srgbClr val="5e0dff"/>
                </a:solidFill>
                <a:latin typeface="Arial"/>
                <a:ea typeface="Arial"/>
              </a:rPr>
              <a:t> DIDAT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La vita e il lavoro in famiglia: le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2771640" y="1413000"/>
            <a:ext cx="1501920" cy="1309680"/>
          </a:xfrm>
          <a:custGeom>
            <a:avLst/>
            <a:gdLst>
              <a:gd name="textAreaLeft" fmla="*/ 262800 w 1501920"/>
              <a:gd name="textAreaRight" fmla="*/ 1089000 w 1501920"/>
              <a:gd name="textAreaTop" fmla="*/ 175320 h 1309680"/>
              <a:gd name="textAreaBottom" fmla="*/ 1134360 h 1309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6"/>
          <p:cNvSpPr/>
          <p:nvPr/>
        </p:nvSpPr>
        <p:spPr>
          <a:xfrm>
            <a:off x="2643120" y="2643120"/>
            <a:ext cx="5689800" cy="3529080"/>
          </a:xfrm>
          <a:prstGeom prst="ellips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I membri della famig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Le occupazioni dei membri della famig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Le regole di vita in famig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L’aiuto dei bambini in famig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438280" y="549000"/>
            <a:ext cx="64008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er assicurare uno svolgimento efficace del nucleo tematico bisogna stare attenti al fatto che lo svolgimento stesso abb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na coesione LOGICA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truttura logica dei contenu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na coesione CONTENUTISTICA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 contenuti devono basarsi su un centro d’interes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na coesioneTEMPORALE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svolgim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vvicinato nel tempo delle lezio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na coesione PSICOLOGICA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ffetto sull’alunno se si rispettano gli altri fattor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438280" y="404280"/>
            <a:ext cx="64008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ESEMPIO: Il mio luogo natio nello spazio e nel t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Le osservazioni dell’ambiente si svolgono durante tutto l’anno scolastico, si realizza la composizione delle tessere di un mosaic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 u="sng">
                <a:solidFill>
                  <a:srgbClr val="000000"/>
                </a:solidFill>
                <a:uFillTx/>
                <a:latin typeface="Arial"/>
              </a:rPr>
              <a:t>Com’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é</a:t>
            </a:r>
            <a:r>
              <a:rPr b="0" i="1" lang="hr-H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l’aspetto geografico del luogo n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e caratteristiche specifiche:</a:t>
            </a:r>
            <a:r>
              <a:rPr b="0" i="1" lang="hr-HR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hr-H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dizioni culturali e popol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a natura del luogo n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e attivit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à</a:t>
            </a:r>
            <a:r>
              <a:rPr b="0" i="1" lang="hr-H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economiche caratterist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e istituzioni pi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ú</a:t>
            </a:r>
            <a:r>
              <a:rPr b="0" i="1" lang="hr-H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note e le loro fun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e azioni per migliorare l’aspetto del luogo n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124000" y="-360"/>
            <a:ext cx="7020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Altre regole da applicare nella distribuzione dei contenut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Modo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FILOGENETICO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- gli animali e le piante si studiano dal p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ú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 semplice al p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ú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 comples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Modo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FENOLOGICO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- i fenomeni naturali si studiano nell’ordine in cui avvengono nella na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Secondo gli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ECOSISTEMI 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ossia ambienti naturali di v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Dall’attual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 al passato recente e infine al passato lont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Modo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BIOGRAFICO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- personal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 importanti del pass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Modo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MONOGRAFICO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-approfondimento dei singoli fatti del pass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Secondo il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CALENDARIO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: es. I fatti storic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svolti nella ricorrenza di date importan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Insegnamento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ESEMPL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Modo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SINTETIC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 e modo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ANALITIC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( riguardano i contenuti geografic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c0039"/>
                </a:solidFill>
                <a:latin typeface="Arial"/>
              </a:rPr>
              <a:t>PRINCIPI DA APPLICARE NELLO SVOLGIMENTO DEI CONTENUTI DELLA NATURA E SOCIET</a:t>
            </a:r>
            <a:r>
              <a:rPr b="0" lang="en-US" sz="2400" spc="-1" strike="noStrike">
                <a:solidFill>
                  <a:srgbClr val="8c0039"/>
                </a:solidFill>
                <a:latin typeface="Arial"/>
                <a:ea typeface="Arial"/>
              </a:rPr>
              <a:t>À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Gli obiettivi di regola si formulano prima dei contenuti che dipendono dagli obiettivi da raggiung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Gli obiettivi istruttivi sono il supporto per gli obiettivi funzionali e quelli educa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Far sviluppare agli alunni le loro abil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cognitive,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affettive e psicomoto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Lo scopo della scuola primaria nella soci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odiern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aiutare l’alunno a formarsi un’autentica critic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, ed  educare l’alunno alla responsabil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e all’imp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06:40:19Z</dcterms:created>
  <dc:creator>korisnik</dc:creator>
  <dc:description/>
  <dc:language>en-US</dc:language>
  <cp:lastModifiedBy>Miro</cp:lastModifiedBy>
  <dcterms:modified xsi:type="dcterms:W3CDTF">2010-10-25T18:12:01Z</dcterms:modified>
  <cp:revision>10</cp:revision>
  <dc:subject/>
  <dc:title>L’ORGANIZZAZIONE DEI CONTENUTI DELLA NATURA E SOCIETÀ</dc:title>
</cp:coreProperties>
</file>