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3C36-5F32-44D4-89A4-41963721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A68-11DF-448F-B58D-7911D37E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63F3-07A1-4601-A08E-777AED3A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1F48-B772-409F-97A4-7E63EE0E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E600-3C1C-4DF5-9118-47761EA0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B3E3-88C1-4EEF-AE43-98D555E5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482C-5072-401D-B97E-2C087526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4DAD-5FF7-4C3C-9DDF-2C67CB38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2CB0-1591-4E9A-BA21-7C90BBEF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9E59-2413-477F-B0D1-CF417C63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6CEF-5962-4C65-8701-512A9DBA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1786-2952-4152-94F7-2D956B65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DFD1-51D5-40A6-B7F1-56307E6F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288A-CACE-4976-843E-50A64696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B27C-863F-4801-A71D-BB0EA45F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EA74-6A41-45DE-99A8-7B4F24B2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B9D5-C6F2-4A06-B8CB-1D54FA42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EC0-647B-4027-B570-314F7710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133D-A481-481D-BD0C-4CEEE238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984-6774-4941-B75E-32FF5672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85BF-ADAD-4CA5-85FB-EC002133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FEFC-C84B-4BD2-B5BF-4B952A26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047C-2B85-42E4-9CAF-3C67140D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3462-F226-4D95-B510-E8BB5DE3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8871bb"/>
              </a:gs>
              <a:gs pos="100000">
                <a:srgbClr val="4e009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4e009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330066"/>
              </a:gs>
              <a:gs pos="100000">
                <a:srgbClr val="4e009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4e009c"/>
              </a:gs>
              <a:gs pos="100000">
                <a:srgbClr val="3300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4e009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330066"/>
              </a:gs>
              <a:gs pos="100000">
                <a:srgbClr val="4e009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4e009c"/>
              </a:gs>
              <a:gs pos="100000">
                <a:srgbClr val="3300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4e009c"/>
              </a:gs>
              <a:gs pos="100000">
                <a:srgbClr val="8871b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9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871b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F5DE-E7CE-4D84-AF0B-D7238EBCC6AB}" type="slidenum">
              <a:rPr b="0" lang="en-GB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8871bb"/>
              </a:gs>
              <a:gs pos="100000">
                <a:srgbClr val="4e009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4e009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330066"/>
              </a:gs>
              <a:gs pos="100000">
                <a:srgbClr val="4e009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4e009c"/>
              </a:gs>
              <a:gs pos="100000">
                <a:srgbClr val="3300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4e009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330066"/>
              </a:gs>
              <a:gs pos="100000">
                <a:srgbClr val="4e009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4e009c"/>
              </a:gs>
              <a:gs pos="100000">
                <a:srgbClr val="3300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4e009c"/>
              </a:gs>
              <a:gs pos="100000">
                <a:srgbClr val="8871b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prstGeom prst="pie">
            <a:avLst/>
          </a:prstGeom>
          <a:gradFill rotWithShape="0">
            <a:gsLst>
              <a:gs pos="0">
                <a:srgbClr val="4e009c"/>
              </a:gs>
              <a:gs pos="100000">
                <a:srgbClr val="8871b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9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871b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EA70-8ADA-4712-9C6E-9E25FC3B7A30}" type="slidenum">
              <a:rPr b="0" lang="en-GB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cab40"/>
                </a:solidFill>
                <a:latin typeface="Comic Sans MS"/>
              </a:rPr>
              <a:t>Attività educativ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bd189"/>
                </a:solidFill>
                <a:latin typeface="Comic Sans MS"/>
              </a:rPr>
              <a:t>Programmare le attività del capoclas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bd189"/>
                </a:solidFill>
                <a:latin typeface="Comic Sans MS"/>
              </a:rPr>
              <a:t>mr. sc. Nevia Močinić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bd189"/>
                </a:solidFill>
                <a:latin typeface="Arial"/>
              </a:rPr>
              <a:t>Educazione alla salu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00080" y="1285920"/>
            <a:ext cx="81439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Promuovere la conoscenza dei fattori di rischio inerenti la salute e l’ambient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Promuovere la conoscenza dei comportamenti che hanno rilevanza per la salute umana, delle variabili psicologiche, relazionali, sociali, culturali, ambientali che influenzano 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i 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comportamenti a rischio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Sviluppare riflessioni sulle convinzioni e sui comportamenti corretti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Modificare le abitudini di vita errate e rinforzare i comportamenti idonei non ancora radicati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0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bd189"/>
                </a:solidFill>
                <a:latin typeface="Comic Sans MS"/>
              </a:rPr>
              <a:t>Educazione alla pa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28800" y="1285920"/>
            <a:ext cx="82152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competenze e abilità nella trasformazione costruttiva dei conflitti e nella formazione alla non</a:t>
            </a: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violenz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contesto sociale caratterizzato da profonde tensioni e lacerazioni (disoccupazione, frammentazione sociale, competizione, degenerazione delle relazioni e aumento della violenza diffusa, della discriminazione e dell’esclusion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compito dell’educazione</a:t>
            </a: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 -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sostegno alla crescita e formazione ad una cittadinanza responsabile assumono un significato di primaria importanz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le tensioni, le liti e i conflitti devono essere regolati mediante negoziati ragionevoli, e non mediante la forza; le opposizioni ideologiche devono essere tra loro confrontate in un clima di dialogo e di libera discussio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bd189"/>
                </a:solidFill>
                <a:latin typeface="Comic Sans MS"/>
              </a:rPr>
              <a:t>Educazione al rispetto dei diritti umani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66680" y="1357200"/>
            <a:ext cx="77724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Rispetto - 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sentimento che ci trattiene dall’offendere gli altri, 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violare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 i loro diritti o menomare i loro ben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I comportamenti che esprimono e manifestano «rispetto»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 sono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apacità di identificare e riconoscere le infinite forme della violenza nelle relazioni che si vivon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s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aper riconoscere in anticipo ed evitare i casi in cui il nostro agire può comportare disagio, fastidio o danno agli altri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57160" y="428400"/>
            <a:ext cx="798192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capacità di ascolto dell’altr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apacità di pensiero exotopico (saper riconoscere che quel che si vede</a:t>
            </a: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/sente</a:t>
            </a: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/pensa dipende dal proprio punto di vist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apacità di pensiero positivo e di risposta mediata alle frustrazioni personal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apacità di comunicazione empatica e non</a:t>
            </a: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violent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apacità di entrare in relazione con il bisogno dell’altr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apacità di interagire e cooperare in un contesto di gruppo ricco di differenz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aper esercitare responsabilità sociale verso ciascun altr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apersi «far rispettare» senza venir meno al proprio rispetto per gli altri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bd189"/>
                </a:solidFill>
                <a:latin typeface="Comic Sans MS"/>
              </a:rPr>
              <a:t>Educazione civic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Arial"/>
              </a:rPr>
              <a:t>Gruppi umani e differenze cultural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Il nostro pianeta è popolato da gruppi di individui che si differenziano per le loro caratteristiche fisiche e per il loro modo di organizzarsi e di comportarsi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Ogni gruppo ha propri usi, costumi, fedi e credenze, lingue e tradizioni, e concepisce in maniera diversa la vita, la morte e il mondo: insomma, ogni gruppo umano ha quella che chiamiamo, nel complesso, una sua </a:t>
            </a:r>
            <a:r>
              <a:rPr b="1" i="1" lang="it-IT" sz="2800" spc="-1" strike="noStrike">
                <a:solidFill>
                  <a:srgbClr val="eaeaea"/>
                </a:solidFill>
                <a:latin typeface="Arial"/>
              </a:rPr>
              <a:t>cultura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bd189"/>
                </a:solidFill>
                <a:latin typeface="Arial"/>
              </a:rPr>
              <a:t>Culture e popol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680" y="167616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Le culture dei popoli sono state costruite attraverso millenni di storia, con il lavoro, con l’ingegno, a volte con notevoli sacrifici e addirittura con guerre. Le varie culture dei popoli sono la grande ricchezza dell’umanità e per questo meritano di essere conosciute, studiate e, soprattutto, rispettat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Possiamo definire popolo un gruppo umano che ha la stessa lingua, gli stessi usi e costumi, possiede cioè una cultura ben identificabile nella quale si riconosce e che lo contraddistingue come etnia e lo rende differente dagli altri popoli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ebd189"/>
                </a:solidFill>
                <a:latin typeface="Arial"/>
              </a:rPr>
              <a:t>Nazioni e Stat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285920"/>
            <a:ext cx="80773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Oggi quasi tutti i popoli si sono stanziati in determinati territori e costituiscono le </a:t>
            </a:r>
            <a:r>
              <a:rPr b="1" lang="it-IT" sz="2400" spc="-1" strike="noStrike">
                <a:solidFill>
                  <a:srgbClr val="eaeaea"/>
                </a:solidFill>
                <a:latin typeface="Arial"/>
              </a:rPr>
              <a:t>Nazioni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e gli </a:t>
            </a:r>
            <a:r>
              <a:rPr b="1" lang="it-IT" sz="2400" spc="-1" strike="noStrike">
                <a:solidFill>
                  <a:srgbClr val="eaeaea"/>
                </a:solidFill>
                <a:latin typeface="Arial"/>
              </a:rPr>
              <a:t>Stati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Nel linguaggio comune questi due termini assumono lo stesso significato, mentre in realtà esprimono due concetti diversi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La </a:t>
            </a:r>
            <a:r>
              <a:rPr b="1" lang="it-IT" sz="2400" spc="-1" strike="noStrike">
                <a:solidFill>
                  <a:srgbClr val="eaeaea"/>
                </a:solidFill>
                <a:latin typeface="Arial"/>
              </a:rPr>
              <a:t>Nazione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rappresenta un gruppo umano stabile che ha in comune innanzitutto la lingua, ma anche i costumi e le usanze. </a:t>
            </a: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Es.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nazione italiana, francese, tedesca, cinese o giappones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Lo </a:t>
            </a:r>
            <a:r>
              <a:rPr b="1" lang="it-IT" sz="2400" spc="-1" strike="noStrike">
                <a:solidFill>
                  <a:srgbClr val="eaeaea"/>
                </a:solidFill>
                <a:latin typeface="Arial"/>
              </a:rPr>
              <a:t>Stato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rappresenta qualcosa di più delimitato e preciso: esso è costituito dai </a:t>
            </a:r>
            <a:r>
              <a:rPr b="1" lang="it-IT" sz="2400" spc="-1" strike="noStrike" u="sng">
                <a:solidFill>
                  <a:srgbClr val="eaeaea"/>
                </a:solidFill>
                <a:uFillTx/>
                <a:latin typeface="Arial"/>
              </a:rPr>
              <a:t>cittadini</a:t>
            </a:r>
            <a:r>
              <a:rPr b="0" lang="it-IT" sz="2400" spc="-1" strike="noStrike" u="sng">
                <a:solidFill>
                  <a:srgbClr val="eaeaea"/>
                </a:solidFill>
                <a:uFillTx/>
                <a:latin typeface="Arial"/>
              </a:rPr>
              <a:t>,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da un </a:t>
            </a:r>
            <a:r>
              <a:rPr b="1" lang="it-IT" sz="2400" spc="-1" strike="noStrike">
                <a:solidFill>
                  <a:srgbClr val="eaeaea"/>
                </a:solidFill>
                <a:latin typeface="Arial"/>
              </a:rPr>
              <a:t>territorio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e da una </a:t>
            </a:r>
            <a:r>
              <a:rPr b="1" lang="it-IT" sz="2400" spc="-1" strike="noStrike">
                <a:solidFill>
                  <a:srgbClr val="eaeaea"/>
                </a:solidFill>
                <a:latin typeface="Arial"/>
              </a:rPr>
              <a:t>sovranità politica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. Lo Stato è anche un’area dove si parla la stessa lingua ufficiale e dove si usa la stessa unità monetari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0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bd189"/>
                </a:solidFill>
                <a:latin typeface="Arial"/>
              </a:rPr>
              <a:t>L</a:t>
            </a:r>
            <a:r>
              <a:rPr b="1" lang="it-IT" sz="4400" spc="-1" strike="noStrike">
                <a:solidFill>
                  <a:srgbClr val="ebd189"/>
                </a:solidFill>
                <a:latin typeface="Arial"/>
              </a:rPr>
              <a:t>o Stato </a:t>
            </a:r>
            <a:r>
              <a:rPr b="1" lang="hr-HR" sz="4400" spc="-1" strike="noStrike">
                <a:solidFill>
                  <a:srgbClr val="ebd189"/>
                </a:solidFill>
                <a:latin typeface="Arial"/>
              </a:rPr>
              <a:t>- </a:t>
            </a:r>
            <a:r>
              <a:rPr b="1" lang="it-IT" sz="4400" spc="-1" strike="noStrike">
                <a:solidFill>
                  <a:srgbClr val="ebd189"/>
                </a:solidFill>
                <a:latin typeface="Arial"/>
              </a:rPr>
              <a:t>sovranità politic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28800" y="1357200"/>
            <a:ext cx="8215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Per </a:t>
            </a:r>
            <a:r>
              <a:rPr b="1" lang="it-IT" sz="2400" spc="-1" strike="noStrike">
                <a:solidFill>
                  <a:srgbClr val="eaeaea"/>
                </a:solidFill>
                <a:latin typeface="Arial"/>
              </a:rPr>
              <a:t>sovranità politica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si intende l’autorità che ha uno Stato di imporsi sui propri cittadini per regolamentare la loro vita, e di rappresentarli nei rapporti con gli altri Paesi. Questa autorità o potere viene esercitato dallo Stato per mezzo di </a:t>
            </a:r>
            <a:r>
              <a:rPr b="1" lang="it-IT" sz="2400" spc="-1" strike="noStrike">
                <a:solidFill>
                  <a:srgbClr val="eaeaea"/>
                </a:solidFill>
                <a:latin typeface="Arial"/>
              </a:rPr>
              <a:t>norme giuridiche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La sovranità si realizza attraverso uno o più organi che abbiano la capacità di esercitare il potere di comando sui cittadini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I </a:t>
            </a:r>
            <a:r>
              <a:rPr b="1" lang="it-IT" sz="2400" spc="-1" strike="noStrike">
                <a:solidFill>
                  <a:srgbClr val="eaeaea"/>
                </a:solidFill>
                <a:latin typeface="Arial"/>
              </a:rPr>
              <a:t>cittadini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di uno Stato possono appartenere anche a nazionalità divers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I cittadini di uno Stato godono di vari diritti, fra i quali il </a:t>
            </a: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diritto di cittadinanz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ebd189"/>
                </a:solidFill>
                <a:latin typeface="Arial"/>
              </a:rPr>
              <a:t>La divisione dei poter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50012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Nell'esercizio delle sue funzioni, lo Stato si avvale di tre poteri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il potere legislativo, 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capacità di emanare le leggi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il potere esecutivo 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capacità di applicare le leggi e fare in modo che tutti le rispettino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il potere giudiziario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capacità di giudicare ed eventualmente punire chi ha violato le leggi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)</a:t>
            </a: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ebd189"/>
                </a:solidFill>
                <a:latin typeface="Arial"/>
              </a:rPr>
              <a:t>Organi dello Stat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680" y="167616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Gli organi dello Stato sono gli strumenti attraverso i quali lo Stato esercita i poteri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Presidente della Repubblica (repubblica presidenziale e r. parlamentar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Govern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Magistratur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Parlament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0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cab40"/>
                </a:solidFill>
                <a:latin typeface="Comic Sans MS"/>
              </a:rPr>
              <a:t>Attività educativ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6680" y="1285560"/>
            <a:ext cx="77724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Comic Sans MS"/>
              </a:rPr>
              <a:t>Apprendere ad apprende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Comic Sans MS"/>
              </a:rPr>
              <a:t>Educazione sostenibi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Comic Sans MS"/>
              </a:rPr>
              <a:t>Educazione alla salu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Comic Sans MS"/>
              </a:rPr>
              <a:t>Educazione alla p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Comic Sans MS"/>
              </a:rPr>
              <a:t>Educazione al rispetto dei diritti uman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Comic Sans MS"/>
              </a:rPr>
              <a:t>Educazione civic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Comic Sans MS"/>
              </a:rPr>
              <a:t>Prevenzione del bullismo e delle varie forme di dipendenz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Comic Sans MS"/>
              </a:rPr>
              <a:t>Sviluppo delle caratteristiche positive del carattere</a:t>
            </a:r>
            <a:r>
              <a:rPr b="0" lang="hr-HR" sz="2800" spc="-1" strike="noStrike">
                <a:solidFill>
                  <a:srgbClr val="eaeaea"/>
                </a:solidFill>
                <a:latin typeface="Comic Sans MS"/>
              </a:rPr>
              <a:t> (sincerità, onestà, lealtà..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ebd189"/>
                </a:solidFill>
                <a:latin typeface="Comic Sans MS"/>
              </a:rPr>
              <a:t>Sviluppo delle caratteristiche positive del carattere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680" y="1428480"/>
            <a:ext cx="7772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Arial"/>
              </a:rPr>
              <a:t>Saggezza e sape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Curiosità e interesse per il mondo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, d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esiderio di impara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Giudizio, senso critico, apertura di spiri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Ingegnosità, originalità, intelligenza pratic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Lungimiranza, capacità di mettere in prospettiva gli event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Arial"/>
              </a:rPr>
              <a:t>Coragg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Perseveranza, assiduità, diligenz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Integrità, autenticità, sincerità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Entusiasm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0666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Arial"/>
              </a:rPr>
              <a:t>Giustiz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Senso della giustizia e del dovere, lealtà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Equità, imparzialità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Rispetto delle gerarchi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Arial"/>
              </a:rPr>
              <a:t>Moderazi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Capacità di perdon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Umiltà e modest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Prudenza, discrezione, capacità di prendere precauzion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Autocontroll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Arial"/>
              </a:rPr>
              <a:t>Trascendenz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Apprezzamento della bellezza e dell’eccellenz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Gratitud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Speranza, ottimismo e apertura verso il futur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Gioia e senso dell’umorism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0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bd189"/>
                </a:solidFill>
                <a:latin typeface="Arial"/>
              </a:rPr>
              <a:t>Apprendere ad apprende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66680" y="1428840"/>
            <a:ext cx="77724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Potenziale di apprendimento - 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l’insieme di possibilità di apprendimento che sono realizzabili da una perso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apacità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di apprendimento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Strategie d’apprendime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Attitudini metacognitive (conoscenza e consapevolezza che una persona ha del proprio modo di apprendere e dei propri processi cognitivi interni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Convinzioni e credenze su noi stes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Credenze o teorie implicite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 sul corso di studio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bd189"/>
                </a:solidFill>
                <a:latin typeface="Comic Sans MS"/>
              </a:rPr>
              <a:t>Educazione sostenibile</a:t>
            </a:r>
            <a:r>
              <a:rPr b="0" lang="hr-HR" sz="4400" spc="-1" strike="noStrike">
                <a:solidFill>
                  <a:srgbClr val="ebd189"/>
                </a:solidFill>
                <a:latin typeface="Comic Sans MS"/>
              </a:rPr>
              <a:t> 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lo sviluppo sostenibile è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uno sviluppo che consente alla generazione presente di soddisfare i propri bisogni senza compromettere la possibilità delle generazioni future di soddisfare i loro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Il rapporto evidenzia l'interazione esistente tra i processi economici, sociali ed ecologic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bd189"/>
                </a:solidFill>
                <a:latin typeface="Comic Sans MS"/>
              </a:rPr>
              <a:t>Educazione sostenibile</a:t>
            </a:r>
            <a:r>
              <a:rPr b="0" lang="hr-HR" sz="4400" spc="-1" strike="noStrike">
                <a:solidFill>
                  <a:srgbClr val="ebd189"/>
                </a:solidFill>
                <a:latin typeface="Comic Sans MS"/>
              </a:rPr>
              <a:t> 2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57140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non riguarda solo l’</a:t>
            </a:r>
            <a:r>
              <a:rPr b="1" lang="hr-HR" sz="3200" spc="-1" strike="noStrike">
                <a:solidFill>
                  <a:srgbClr val="eaeaea"/>
                </a:solidFill>
                <a:latin typeface="Arial"/>
              </a:rPr>
              <a:t>ambiente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, ma anche l’</a:t>
            </a:r>
            <a:r>
              <a:rPr b="1" lang="hr-HR" sz="3200" spc="-1" strike="noStrike">
                <a:solidFill>
                  <a:srgbClr val="eaeaea"/>
                </a:solidFill>
                <a:latin typeface="Arial"/>
              </a:rPr>
              <a:t>economia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 (consumi, povertà, nord e sud del mondo) e la </a:t>
            </a:r>
            <a:r>
              <a:rPr b="1" lang="hr-HR" sz="3200" spc="-1" strike="noStrike">
                <a:solidFill>
                  <a:srgbClr val="eaeaea"/>
                </a:solidFill>
                <a:latin typeface="Arial"/>
              </a:rPr>
              <a:t>società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 (diritti, pace, salute, diversità culturali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tocca </a:t>
            </a:r>
            <a:r>
              <a:rPr b="1" lang="hr-HR" sz="3200" spc="-1" strike="noStrike">
                <a:solidFill>
                  <a:srgbClr val="eaeaea"/>
                </a:solidFill>
                <a:latin typeface="Arial"/>
              </a:rPr>
              <a:t>tutti gli aspetti della vita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 e i </a:t>
            </a:r>
            <a:r>
              <a:rPr b="1" lang="hr-HR" sz="3200" spc="-1" strike="noStrike">
                <a:solidFill>
                  <a:srgbClr val="eaeaea"/>
                </a:solidFill>
                <a:latin typeface="Arial"/>
              </a:rPr>
              <a:t>valori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, al centro dei quali vi è il </a:t>
            </a:r>
            <a:r>
              <a:rPr b="1" lang="hr-HR" sz="3200" spc="-1" strike="noStrike">
                <a:solidFill>
                  <a:srgbClr val="eaeaea"/>
                </a:solidFill>
                <a:latin typeface="Arial"/>
              </a:rPr>
              <a:t>rispetto 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 per gli altri, inclusi quelli delle generazioni presente e future, per la diversità, per l’ambiente, per le risorse della Terr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bd189"/>
                </a:solidFill>
                <a:latin typeface="Comic Sans MS"/>
              </a:rPr>
              <a:t>Educazione sostenibile</a:t>
            </a:r>
            <a:r>
              <a:rPr b="0" lang="hr-HR" sz="4400" spc="-1" strike="noStrike">
                <a:solidFill>
                  <a:srgbClr val="ebd189"/>
                </a:solidFill>
                <a:latin typeface="Comic Sans MS"/>
              </a:rPr>
              <a:t> 3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680" y="167616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Le fasi del processo di educazione 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sostenibile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 sono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Fase esistenziale: il come sono nell'ambiente, come cultura, sentimento, atteggiamento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Fase cognitiva: il "cosa conosco" dell'ambiente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Fase operativa: il "cosa faccio" nell'ambiente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Fase metodologica: la struttura che connette tutto il processo, finalizzata all'adozione di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 un nuovo comportamento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bd189"/>
                </a:solidFill>
                <a:latin typeface="Arial"/>
              </a:rPr>
              <a:t>Decennio dell’Educazione allo Sviluppo Sostenibile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28440" y="1499760"/>
            <a:ext cx="8001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S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i caratterizza per i seguenti elementi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Arial"/>
              </a:rPr>
              <a:t>Interdisciplinarietà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: lo sviluppo sostenibile deve inserirsi nell’intero programma didattic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Arial"/>
              </a:rPr>
              <a:t>Acquisizione di valori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: più che trasmettere nozioni, è importante puntare a far c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apire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 i valori alla base dello sviluppo sostenibi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Sviluppo del pensiero critico e ricerca della risoluzione dei problem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Arial"/>
              </a:rPr>
              <a:t>Decisioni condivise e “partecipate”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gli alunni sono 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invitati a partecipare attivamente nella programmazione dell’apprendime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bd189"/>
                </a:solidFill>
                <a:latin typeface="Arial"/>
              </a:rPr>
              <a:t>Continuazione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680" y="1428840"/>
            <a:ext cx="77724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Arial"/>
              </a:rPr>
              <a:t>Molteplicità di metodologie</a:t>
            </a: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: è necessario utilizzare metodologie didattiche stimolanti e innovative, e soprattutto interattive, quali le esperienze pratiche, le attività all’aria aperta, i giochi, e far uso di materiali multi-mediali, artistic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Arial"/>
              </a:rPr>
              <a:t>Importanza del contesto locale</a:t>
            </a: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: attenzione particolare va riservata alle problematiche local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bd189"/>
                </a:solidFill>
                <a:latin typeface="Comic Sans MS"/>
              </a:rPr>
              <a:t>Educazione alla salu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28440" y="1428840"/>
            <a:ext cx="8001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Promuovere salute è un processo volto a creare ambienti favorevoli, rafforzare le azioni della comunità, sviluppare capacità individuali, orientare i servizi sanitari, integrare le strategie di promozione della salute in tutte le politiche e gli interventi per la salute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La scuola rappresenta un luogo privilegiato per instaurare un dialogo sulla salute e sui corretti stili di vita, in quanto è punto di incontro di tutti gli interventi finalizzati all’educazione degli individui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7:28:09Z</dcterms:created>
  <dc:creator>Elvi</dc:creator>
  <dc:description/>
  <dc:language>en-US</dc:language>
  <cp:lastModifiedBy>Miro</cp:lastModifiedBy>
  <dcterms:modified xsi:type="dcterms:W3CDTF">2012-10-30T17:35:50Z</dcterms:modified>
  <cp:revision>37</cp:revision>
  <dc:subject/>
  <dc:title>DISCIPLINA U ŠKOLI</dc:title>
</cp:coreProperties>
</file>