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B8F4-B491-4631-9455-C539EB78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6792-3967-442D-9496-80728AD2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0CF6-02F7-42E1-B456-02A823C3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4E67-3593-4CCE-8D45-B387D379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700C-6C8C-4FA1-9582-04939A59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16C6-8AAC-4A1F-ADBA-6AEC8866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2FCE-6757-4142-BFCC-63F3D465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41FC-D8A3-4136-9C13-5EF6E005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C56D-D18F-4BF0-B6A4-DD0E904A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8F93-0CC1-493E-BCBE-83651DD9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DBD4-2D1F-4E2C-BDA3-ED37A11E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4F92-748B-49CE-849B-DCF8CBC5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610B-D4A0-41FA-8D2D-16A10BAD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131E-E4CB-4C8D-B4BB-8011BEE5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9A82-996E-4923-9407-CE63722C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E07A-043E-4109-B0EE-919E253B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6EA7-4F8F-40CF-B1A3-98C3B010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E3F28-908C-4816-BB72-14E0F052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EE2D0-246C-4EF3-94D9-6E34F50A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3C583-CC9E-43C6-A27F-14E3A701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A1C50-5AF6-47FA-B625-BE24C793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F63A7-265D-4157-A35F-43589411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4C42-47B3-43EA-B40C-22AA0233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C2720-D2A1-4830-A06E-1A4B36C0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942F7-8D58-4F99-8AAF-FF58368D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0A137-A339-4619-80CB-D825A0E8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7570E-2C78-4136-A582-E5FB0FBE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2D210-FAB5-471C-BF34-6D7A18FD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A8442-9209-4091-AA6B-C1970303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3A77D-C57A-49E6-BDAD-501297D1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5ECD4-75F0-4762-BD94-3308F9403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88ADA-6EBF-4EA0-AF3D-A361B4B1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59FAA-45A8-46B4-9E64-FE51F6BF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4B84-F252-4F15-B1FC-8F92B0A8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E9798-AF06-479E-BC75-897B0992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B58FC-7CE5-4076-B968-084A0711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491EB-DFD3-4FD6-87EE-80306A14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A1311-3DD9-464C-84B5-768A8B21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748D1-1021-4A50-A7E2-14362CFB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6C28C-55C5-4D0A-A5F8-33519910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BA79D-E456-4662-BAF7-FE5CD67D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CE348-2F66-49F3-A811-37441459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DDCDB-A0A2-4FC6-976B-C2C436F9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8D0D-FFE9-477F-8896-ADF2EC25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4FCB-6186-4EB0-ACE3-768CB4ED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29FF-623D-4FD2-A3F9-122395F0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1324-9E63-49BC-BF99-55C82C4F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491B-01A6-412D-8AF3-2DB7BE77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A4DC-3D85-42D4-BB68-3E9CA98DF2F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9DDF-FA8D-46E4-9843-B4CFC2472B8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33EA-79B4-486F-B66C-B8928621598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A641-ED13-4305-B6EE-0461E058913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Arial"/>
              </a:rPr>
              <a:t>Autovalutazione della scuola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r.sc. Nevia Močinić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600" spc="-1" strike="noStrike">
                <a:solidFill>
                  <a:srgbClr val="04617b"/>
                </a:solidFill>
                <a:latin typeface="Calibri"/>
              </a:rPr>
              <a:t>Valuta</a:t>
            </a:r>
            <a:r>
              <a:rPr b="1" lang="hr-HR" sz="4600" spc="-1" strike="noStrike">
                <a:solidFill>
                  <a:srgbClr val="04617b"/>
                </a:solidFill>
                <a:latin typeface="Arial"/>
              </a:rPr>
              <a:t>r</a:t>
            </a:r>
            <a:r>
              <a:rPr b="1" lang="it-IT" sz="4600" spc="-1" strike="noStrike">
                <a:solidFill>
                  <a:srgbClr val="04617b"/>
                </a:solidFill>
                <a:latin typeface="Calibri"/>
              </a:rPr>
              <a:t>e la qualità della scuola</a:t>
            </a:r>
            <a:r>
              <a:rPr b="0" lang="it-IT" sz="4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identific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 alcuni elementi critici, indicatori di punti di forza o di debolezza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verificare la possibilità di acquisire dati a riguardo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valutare la possibilità di organizzarli e trattarli in modo corretto per avere informazioni attendibili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e si individua un deficit qualitativo bisogna cercare di identificare le possibili cause  per poterle rimuovere e ridurre o eliminare la difettosità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4617b"/>
                </a:solidFill>
                <a:latin typeface="Calibri"/>
              </a:rPr>
              <a:t>Quali strumenti utilizzare</a:t>
            </a: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La scelta di uno strumento d’indagine dipend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dalla questione che si vuole studiar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dalle risorse disponibil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dalla popolazione interessata alla ricerca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li strumenti più diffusi di autovalutazione son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i </a:t>
            </a:r>
            <a:r>
              <a:rPr b="0" i="1" lang="it-IT" sz="2800" spc="-1" strike="noStrike">
                <a:solidFill>
                  <a:srgbClr val="000000"/>
                </a:solidFill>
                <a:latin typeface="Constantia"/>
              </a:rPr>
              <a:t>test di profitto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nstantia"/>
              </a:rPr>
              <a:t>i questionari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nstantia"/>
              </a:rPr>
              <a:t>le griglie di osservazione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nstantia"/>
              </a:rPr>
              <a:t>le liste di controllo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04617b"/>
                </a:solidFill>
                <a:latin typeface="Calibri"/>
              </a:rPr>
              <a:t>Validità, attendibilità e usabilità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Per utilizzare in modo adeguato un test di profitto o un questionario, è importante verificare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0" i="1" lang="it-IT" sz="3200" spc="-1" strike="noStrike">
                <a:solidFill>
                  <a:srgbClr val="000000"/>
                </a:solidFill>
                <a:latin typeface="Constantia"/>
              </a:rPr>
              <a:t>validità</a:t>
            </a: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la precisione o </a:t>
            </a:r>
            <a:r>
              <a:rPr b="0" i="1" lang="it-IT" sz="3200" spc="-1" strike="noStrike">
                <a:solidFill>
                  <a:srgbClr val="000000"/>
                </a:solidFill>
                <a:latin typeface="Constantia"/>
              </a:rPr>
              <a:t>attendibilità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l’</a:t>
            </a:r>
            <a:r>
              <a:rPr b="0" i="1" lang="it-IT" sz="3200" spc="-1" strike="noStrike">
                <a:solidFill>
                  <a:srgbClr val="000000"/>
                </a:solidFill>
                <a:latin typeface="Constantia"/>
              </a:rPr>
              <a:t>usabilità </a:t>
            </a: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del mezzo scelto per fare la ricerca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 </a:t>
            </a: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La </a:t>
            </a:r>
            <a:r>
              <a:rPr b="0" i="1" lang="it-IT" sz="5000" spc="-1" strike="noStrike">
                <a:solidFill>
                  <a:srgbClr val="04617b"/>
                </a:solidFill>
                <a:latin typeface="Calibri"/>
              </a:rPr>
              <a:t>validità</a:t>
            </a: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0" i="1" lang="it-IT" sz="2400" spc="-1" strike="noStrike">
                <a:solidFill>
                  <a:srgbClr val="000000"/>
                </a:solidFill>
                <a:latin typeface="Constantia"/>
              </a:rPr>
              <a:t>validità</a:t>
            </a: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 va riferita ai contenuti, ai criteri  e ai costrutti (o attributi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La validità rispetto a un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nstantia"/>
              </a:rPr>
              <a:t>contenuto</a:t>
            </a: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 mira a verificare il dominio di un argomento o la soddisfazione per un particolare servizio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La validità rispetto ad un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nstantia"/>
              </a:rPr>
              <a:t>criterio</a:t>
            </a: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, che ha ad esempio carattere predittivo, cioè serve per prendere decisioni per il futuro, come nell’orientamento o nella selezione, implica la necessità di un controllo successivo, per vedere se la prova  ha funzionato o meno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La validità rispetto a un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nstantia"/>
              </a:rPr>
              <a:t>costrutto (o attributo</a:t>
            </a: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), cioè a qualità psicologiche, richiede l’uso di sofisticate tecniche d’indagine ed è terreno di lavoro di espert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L’</a:t>
            </a:r>
            <a:r>
              <a:rPr b="0" i="1" lang="it-IT" sz="5000" spc="-1" strike="noStrike">
                <a:solidFill>
                  <a:srgbClr val="04617b"/>
                </a:solidFill>
                <a:latin typeface="Calibri"/>
              </a:rPr>
              <a:t>attendibilità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L’</a:t>
            </a:r>
            <a:r>
              <a:rPr b="0" i="1" lang="it-IT" sz="2800" spc="-1" strike="noStrike">
                <a:solidFill>
                  <a:srgbClr val="000000"/>
                </a:solidFill>
                <a:latin typeface="Constantia"/>
              </a:rPr>
              <a:t>attendibilità</a:t>
            </a: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 ossia la precisione con cui  si rilevano i dati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In una prova di profitto possono influenzare l’emozione, la distrazione, le modalità di somministrazione, l’ambiguità nella formulazione, la possibilità di copiar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Uno strumento, ad esempio ripetuto o somministrato  in forme equivalenti, è tanto più attendibile quanto meno differiscono, o quanto più stabili sono, i punteggi ottenuti dalla stessa popolazion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L’</a:t>
            </a:r>
            <a:r>
              <a:rPr b="0" i="1" lang="it-IT" sz="5000" spc="-1" strike="noStrike">
                <a:solidFill>
                  <a:srgbClr val="04617b"/>
                </a:solidFill>
                <a:latin typeface="Calibri"/>
              </a:rPr>
              <a:t>usabilità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’</a:t>
            </a:r>
            <a:r>
              <a:rPr b="0" i="1" lang="it-IT" sz="2600" spc="-1" strike="noStrike">
                <a:solidFill>
                  <a:srgbClr val="000000"/>
                </a:solidFill>
                <a:latin typeface="Constantia"/>
              </a:rPr>
              <a:t>usabilità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 è data dal suo concreto utilizz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sia in ordine alla facilità di somministrazion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che ai tempi e ai costi della stess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500" spc="-1" strike="noStrike">
                <a:solidFill>
                  <a:srgbClr val="04617b"/>
                </a:solidFill>
                <a:latin typeface="Arial"/>
              </a:rPr>
              <a:t>Valutare la scuol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0000"/>
                </a:solidFill>
                <a:latin typeface="Arial"/>
              </a:rPr>
              <a:t>Valutazione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determinazione del valore di un bene o di un ogget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cquisizione di dati e informazioni che permettono di verificare l’efficacia di un intervento educativo e del profitto di un alliev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la qualità del servizio offerto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i="1" lang="it-IT" sz="2600" spc="-1" strike="noStrike">
                <a:solidFill>
                  <a:srgbClr val="000000"/>
                </a:solidFill>
                <a:latin typeface="Arial"/>
              </a:rPr>
              <a:t>scuola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la fase della raccolta delle informazioni si analizz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ingoli elementi (classi, studenti, team docenti…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n un secondo momento i dati raccolti vanno aggregati al fine di formulare un </a:t>
            </a:r>
            <a:r>
              <a:rPr b="0" i="1" lang="it-IT" sz="2600" spc="-1" strike="noStrike">
                <a:solidFill>
                  <a:srgbClr val="000000"/>
                </a:solidFill>
                <a:latin typeface="Arial"/>
              </a:rPr>
              <a:t>giudizio globa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, una valutazione della scuola nel suo insie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Tipi di valutazion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valutazione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nterna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ando  la scuola, mediante un’unità di operatori interni ad essa, svolge l’attività di valutazi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autovalutazione della scuo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alutazione interna svolta dagli stessi insegnanti e capi d’istitu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valutazione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ester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ando la valutazione è condotta da professionisti ester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600" spc="-1" strike="noStrike">
                <a:solidFill>
                  <a:srgbClr val="04617b"/>
                </a:solidFill>
                <a:latin typeface="Arial"/>
              </a:rPr>
              <a:t>Motivi di</a:t>
            </a:r>
            <a:r>
              <a:rPr b="0" lang="it-IT" sz="4600" spc="-1" strike="noStrike">
                <a:solidFill>
                  <a:srgbClr val="04617b"/>
                </a:solidFill>
                <a:latin typeface="Calibri"/>
              </a:rPr>
              <a:t> richiesta sociale di valutazione della scuola 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n nuovo atteggiamento, tipico delle imprese</a:t>
            </a: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i cerca di esplicitare e innovare sempre più i contenuti del servizio offert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si tende a garantire degli standard di qualità e di produttività sempre più soddisfacenti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alla metafora dell’impresa </a:t>
            </a: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si possono cogliere 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alcuni elementi </a:t>
            </a: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importanti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il servizio d’insegnamento che </a:t>
            </a: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scuola offre agli allievi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è il </a:t>
            </a: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suo 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prodot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Arial"/>
              </a:rPr>
              <a:t>Il prodotto della scuo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l processo d’insegnamento sono </a:t>
            </a: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contenuti due aspetti: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prodotto come output – il servizio offerto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come risultato del processo di combinazione di risorse diverse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(insegnamento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prodotto come outcome – l’effetto, l’esito che la fruizione del servizio induce nei destinatar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(apprendimento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l contesto scolastico e ambientale:</a:t>
            </a: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 la qualità dell’offerta formativ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l’organizzazion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delle opportunità formativ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 spazi, tempi, attività, occasioni sociali e di apprendiment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risorse di cui dispon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4617b"/>
                </a:solidFill>
                <a:latin typeface="Calibri"/>
              </a:rPr>
              <a:t>Aspetti della valutazione</a:t>
            </a:r>
            <a:r>
              <a:rPr b="0" lang="hr-HR" sz="4400" spc="-1" strike="noStrike">
                <a:solidFill>
                  <a:srgbClr val="04617b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endere conto delle proprie scelte, dei propri risultati può essere motivo di preoccupazione e d’ansia per gli operatori scolastici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nell'immaginario degli insegnanti il termine  valutazione viene associato a quello di "controllo"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difficilmente viene riportato a quello di "formazione"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raramente viene vissuto come elemento strategico nello sviluppo della propria professionalità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costituisce uno degli aspetti più complessi e delicati della scuol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4617b"/>
                </a:solidFill>
                <a:latin typeface="Calibri"/>
              </a:rPr>
              <a:t>Aspetti della valutazione</a:t>
            </a:r>
            <a:r>
              <a:rPr b="0" lang="hr-HR" sz="4400" spc="-1" strike="noStrike">
                <a:solidFill>
                  <a:srgbClr val="04617b"/>
                </a:solidFill>
                <a:latin typeface="Arial"/>
              </a:rPr>
              <a:t> 2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riveste, sempre più, un carattere di centralità nel processo d'insegnamento-apprendiment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consente la raccolta e l’analisi di tutte le informazioni necessarie per affrontare con efficacia la programmazione e la realizzazione dell’intervento didattic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è un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parte integrante  del processo formativo, non può essere considerata una semplice registrazione dei risultati conseguiti dagli alunni, una mera votazion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qualsiasi pratica valutativa non deve perdere di vista l’unità e l’unicità della persona e la continuità del processo formativ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4617b"/>
                </a:solidFill>
                <a:latin typeface="Arial"/>
              </a:rPr>
              <a:t>La valutazione util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ev’essere</a:t>
            </a: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 considerata come </a:t>
            </a:r>
            <a:r>
              <a:rPr b="1" lang="it-IT" sz="3200" spc="-1" strike="noStrike">
                <a:solidFill>
                  <a:srgbClr val="000000"/>
                </a:solidFill>
                <a:latin typeface="Constantia"/>
              </a:rPr>
              <a:t>VALORIZZAZIONE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una valutazione che non si limita ad evidenziare, e successivamente cercare tutte le strategie possibili  per correggere gli errori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ma mette in evidenza le potenzialità, i progressi, aiuta l'alunno a motivarsi, a costruire un'immagine positiva e realistica di sé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Valutare</a:t>
            </a:r>
            <a:r>
              <a:rPr b="0" i="1" lang="it-IT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it-IT" sz="4400" spc="-1" strike="noStrike">
                <a:solidFill>
                  <a:srgbClr val="04617b"/>
                </a:solidFill>
                <a:latin typeface="Calibri"/>
              </a:rPr>
              <a:t>è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un processo che assume i dati raccolti mediante le verifiche e li interpreta in base a criteri condivisi che orientano la formulazione del giudizio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mezzo efficace di accertamento del progresso, dell’apprendimento delle conoscenze e  delle abilità previste dagli obiettivi d’apprendimento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uno strumento valido di autovalutazione e di automonitoraggio</a:t>
            </a:r>
            <a:r>
              <a:rPr b="1" lang="it-IT" sz="2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un mezzo efficace per motivare e guidare l’alunno all’autovalutazion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uno strumento che permette di valutare la qualità del sistema-scuol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01:03:51Z</dcterms:created>
  <dc:creator>Jelena</dc:creator>
  <dc:description/>
  <dc:language>en-US</dc:language>
  <cp:lastModifiedBy>Miro</cp:lastModifiedBy>
  <dcterms:modified xsi:type="dcterms:W3CDTF">2009-12-01T18:21:48Z</dcterms:modified>
  <cp:revision>34</cp:revision>
  <dc:subject/>
  <dc:title>NOVI ZAKON O SVEUČILIŠTIMA, radna verzija</dc:title>
</cp:coreProperties>
</file>