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66C-CE4E-47ED-B5F7-CE30D5EE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632-57DE-4908-BA49-2DDBCCA9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BB9-D215-4B9A-9D4A-9A281D38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D4E-5F07-4290-B492-B773AC9F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CC18-39CB-4249-85A1-CB3F50D3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08BE-00C6-487C-BF12-ACB58813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E5E2-4D17-4472-85D5-51EB0073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963D-00BA-4DC7-A9B0-B73AE1B6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34B8-892D-4852-8CAB-49CF03FB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8553-7612-4806-AA52-C062532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F41D-4A6F-4B9E-875D-41A32C0D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2E7-C040-499B-AED8-706B0F15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F0C3-CBEC-4464-AE5A-BE9AE6E6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DD69-4EE1-42F0-AB89-8EC5C501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033C-4524-4E5B-AB46-4289B039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26B7-E74B-49B5-A9F2-841B345B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6D45-3407-4C79-B93C-7B164523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9DD-960A-4186-B52F-E2A949D4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3BD-FF61-4AFE-8B16-FED95EAF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DD8-F455-4BEC-9361-3A10C7A5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EB5-1EC5-4A9D-8259-35333EB1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5FC-5126-4EDE-9554-991AE9AC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9C2-ADE2-45BA-A083-BC10327F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A35-0D46-41AA-A6FD-CBE0E54F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940F-8188-4E2B-9AD3-00AF88984D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0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56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C699-28EF-4DF9-9283-1451C55234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369800"/>
            <a:ext cx="7183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Le quali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 del buon capoclass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mare le attività del capo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aurea magistrale - IV an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Umorismo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pac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di evocare sentimenti di divertimento e suscitare la ris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’umorismo in classe è utile per attrarre l’attenzione, rafforzare l’apprendimento e la creatività, superare ostacoli e conflitti, creare amicizie, allentare la ten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Intraprendenza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ffrontare ogni situazione, mantenere il sangue freddo, pensare e riflettere su quale possa essere la soluzione migliore ed agire per non farsi sorprendere dagli ev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pac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di tradurre le idee in 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pac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di assumere decisioni e raggiungere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Autostima e fiducia in se stessi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valutazione che una persona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di se st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Funziona come una lente che ingigantisce o miniaturizza le nostre risorse pers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Bassa autostima – poco sicuri del proprio valore, si evita di scegliere e agire per un eccessivo timore di sbagli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Empatia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tteggiamento verso gli altri caratterizzato da uno sforzo di comprensione intellettuale dell’altro, escludendo ogni attitudine affettiva personale (simpatia, antipatia) e ogni giudizio mo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qual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della relazione si basa sulla comprensione dei sentimenti e dei bisogni fondamentali dell’al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Capacit</a:t>
            </a:r>
            <a:r>
              <a:rPr b="0" lang="en-US" sz="4000" spc="-1" strike="noStrike">
                <a:solidFill>
                  <a:srgbClr val="30605a"/>
                </a:solidFill>
                <a:latin typeface="Arial"/>
                <a:ea typeface="Arial"/>
              </a:rPr>
              <a:t>à</a:t>
            </a:r>
            <a:r>
              <a:rPr b="0" lang="hr-HR" sz="4000" spc="-1" strike="noStrike">
                <a:solidFill>
                  <a:srgbClr val="30605a"/>
                </a:solidFill>
                <a:latin typeface="Arial"/>
                <a:ea typeface="Arial"/>
              </a:rPr>
              <a:t> organizzativ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per tradurre idee e programmi dal piano progettuale a quello operati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ianificare le attiv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a svolgere per la realizzazione del progetto predisponendone tempi e mez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equisiti di fondo: visione chiara del fine da raggiungere, distinguere con prontezza gli aspetti essenziali dai dettagli, rapportare tempi e mezzi dell’azione alle fina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che si perseguono, costanza nel perseguire i ris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Essere reali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trollare in modo consapevole i propri atteggiamenti verso gli alunni e verso lo studio, verso i genitori e i colleg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asare i propri atteggiamenti sulla conoscenza e la comprensione degli alunni e del cont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egittimare i propri atteggiamenti e comportamenti in modo pertinente e r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Professionalit</a:t>
            </a:r>
            <a:r>
              <a:rPr b="0" lang="en-US" sz="4000" spc="-1" strike="noStrike">
                <a:solidFill>
                  <a:srgbClr val="30605a"/>
                </a:solidFill>
                <a:latin typeface="Arial"/>
                <a:ea typeface="Arial"/>
              </a:rPr>
              <a:t>à</a:t>
            </a:r>
            <a:r>
              <a:rPr b="0" lang="hr-HR" sz="4000" spc="-1" strike="noStrike">
                <a:solidFill>
                  <a:srgbClr val="30605a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tteggiamento qualificato e accurato verso ogni problema educ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à di integrare e valorizzare le risorse a disposi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à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 applicare competenze nel campo della pedagogia, della psicologia, della pedagogia sociale, della comunic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per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rendo agli standards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el ruolo di capocla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garantire l’obiettività allo svolgimento del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 propr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vit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educati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Autorevolezza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412640"/>
            <a:ext cx="7386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re riconosciuti spontaneamente da chi ci circonda quale persona degna di fiducia e di essere ascolt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esercitare l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rità ma con amorevolez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dei limiti, mett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li argini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mita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enere, per aiutare a trovare la v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i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verso dall’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ere autoritar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gnifica imporre il nostro punto di vista a chi ci circonda, obbligando anche chi non lo condivide ad accettarlo sotto il peso del potere e della posizione di privilegio di cui godi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Disponibilit</a:t>
            </a:r>
            <a:r>
              <a:rPr b="0" lang="en-US" sz="4000" spc="-1" strike="noStrike">
                <a:solidFill>
                  <a:srgbClr val="30605a"/>
                </a:solidFill>
                <a:latin typeface="Arial"/>
                <a:ea typeface="Arial"/>
              </a:rPr>
              <a:t>à</a:t>
            </a:r>
            <a:r>
              <a:rPr b="0" lang="hr-HR" sz="4000" spc="-1" strike="noStrike">
                <a:solidFill>
                  <a:srgbClr val="30605a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357200"/>
            <a:ext cx="7386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s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 a tutte le esigenze d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lu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spendere le nostre attività per dedicarci ad un'altra persona con un atto volo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ar sentire ch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amo coinvolti, che c'è impegn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 attenzion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parte no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reare u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 clima accoglient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rispetto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Competenza comunicativa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765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per fare lingu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mprendere, leggere, scrivere, monologare, dialogare, tradur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per fare con la lingu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he include la dimensione sociale, pragmatica, cultur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pere i linguaggi verbali e non verbal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 comprende la competenza linguistica (morfosintattica, testuale, fonologica, p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gmat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 la competenz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n verb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estu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mbol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af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apacità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sare concretamente la lingua in situazioni per conseguire determinati scop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apacità di usare l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ingu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 accordo con le convenzioni e il conte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Coerenza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rtamento etico lineare e non contradditto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è la misura del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ius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porto fra il pensare (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l dire) e il fa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ignific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 proprio comportamento le proprie convinzioni, indipendentemente dal giudizio che si possa dare su di 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chiede di evi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rtamenti come il cambiare opinione, modificare il proprio punto di vist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po aver fatto una promessa agli alun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ene vissuta come giustizia e rispetto dei diritti di ciascuno indipendentemente dall’atteggiamento personale del capo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Sincerit</a:t>
            </a:r>
            <a:r>
              <a:rPr b="0" lang="en-US" sz="4000" spc="-1" strike="noStrike">
                <a:solidFill>
                  <a:srgbClr val="30605a"/>
                </a:solidFill>
                <a:latin typeface="Arial"/>
                <a:ea typeface="Arial"/>
              </a:rPr>
              <a:t>à</a:t>
            </a:r>
            <a:r>
              <a:rPr b="0" lang="hr-HR" sz="4000" spc="-1" strike="noStrike">
                <a:solidFill>
                  <a:srgbClr val="30605a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il non mentire, è tenere soprattutto un atteggiamento rigoroso verso noi stess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esserne esempio per gli alun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la trasparenza del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mportame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è respingere la tentazione della menzogn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n d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 sincerità comporta un attento esame dell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guenze che potrebbe provocar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re una ver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Tolleranza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lgenza e pazienza nei confronti degli al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n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à d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rispettare opinioni e credenze altr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à di vivere pacificamente con coloro che credono ed agiscono in maniera diversa dalla prop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tte una pluralità di posizioni e di opinioni in tutti i campi dove essa sia esercit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0605a"/>
                </a:solidFill>
                <a:latin typeface="Arial"/>
              </a:rPr>
              <a:t>Tatto e diplomazia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mportamento teso a smorzare eventuali punti di attrito nelle relazioni interperson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pac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di negoziare tra posizioni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i avverte in numerose situazioni di comunicazione con alunni, genitori, colleg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7:18:55Z</dcterms:created>
  <dc:creator>Miro</dc:creator>
  <dc:description/>
  <dc:language>en-US</dc:language>
  <cp:lastModifiedBy>Miro</cp:lastModifiedBy>
  <dcterms:modified xsi:type="dcterms:W3CDTF">2014-09-21T18:33:19Z</dcterms:modified>
  <cp:revision>24</cp:revision>
  <dc:subject/>
  <dc:title>Le qualità del buon capoclasse</dc:title>
</cp:coreProperties>
</file>