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BDF1-CD6B-4FDA-9057-B28409E5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07A-9760-41DB-AC5A-5C268284645E}" type="slidenum"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F6F-40E2-4994-B9AB-29B68710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F5A-7FC4-4FA4-B051-B7B5CB3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BB6-3B83-4C09-99FD-AB7075B4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757-34BC-40BD-B508-AC8D18B1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FF0-6DEC-4108-A377-06C9D485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3539-CBAD-48AB-BED0-0EB77EF0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69BF-AAF1-43CA-8068-C76C6165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6440-1675-4AE8-B385-A5302889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A858-2C75-466A-A61B-6EA884F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08F-E276-4006-B34C-FAD0AF7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46C8-0F14-4499-B2B6-BBACC38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EC3-AA65-4179-ABC2-5CD1C32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777-DF98-4334-8EBD-C6AD19C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DB49-481D-4C0C-9B27-2694C88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D4D-CF44-496F-8316-0CE6D489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090F-7DB5-48B3-B3DB-4772BFB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C6B3-19D4-45D0-9B10-E8F2FFCA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735-974C-4766-ACCA-E183C4A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480-14CF-4F52-A6E6-9FA7E8A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E0F-FC67-43FA-BA43-7FBDDD2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093-EB33-4C2F-9F69-185C480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FE6-B101-4628-A4F8-DDE1AAE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78E-4853-437C-81F0-D08B37D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60C-F3E0-4FFF-AFAE-C649267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492-A994-4DB5-AF6C-06C34C7BB8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2" name="Freeform 36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" name="Freeform 37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" name="Freeform 38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" name="Freeform 39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" name="Freeform 40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" name="Freeform 41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" name="Freeform 42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" name="Freeform 43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" name="Freeform 44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Freeform 45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Freeform 46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Freeform 47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Freeform 48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Freeform 49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Freeform 50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Freeform 51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Freeform 52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Freeform 53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Freeform 54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Freeform 55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" name="Freeform 56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4" name="Group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5" name="Freeform 59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" name="Freeform 60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" name="Freeform 61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A21-3489-4141-8F00-A91431B32AE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 gestione della 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isciplina in classe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: proposte operative 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L’ora della comuni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 di class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r.sc. Nevia Močinić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pettative degli alliev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un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docente competente nella sua materia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un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docente che sappia suscitare la curiosità verso quel sapere ch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ss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non posseggon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un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docent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ch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cci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riflettere,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sappi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r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problemi, stimol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la discussione anche se non fornisc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soluzioni facili o immedi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oter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perimentare se stess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e la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ropri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relazione al sapere in un clima di fiducia e di aspettative positiv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Errori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e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 docente 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reare eccessiva competizione fra gli alliev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desiderare troppo di essere ammirat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essere un modello troppo irraggiungibil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reare dipendenza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mostrare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un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tolleranz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eccessiv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ve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carenza di esigenz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ve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le preferenze fra gli allievi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Paure del docent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aura di essere criticato sia sul piano del sapere, sia su quello del metodo di insegnament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l timore d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 un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comportament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negativ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degli alliev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: es.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’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ggressività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aura di perdere il controllo della class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l timore delle proprie reazioni di fronte alle manifestazioni di disturb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timore di non essere considerati abbastanza "bravi" dai genitori de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gli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iev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Paure degli allievi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134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nsia di fronte alle situazioni nuove che la scuola propone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timore dell’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nsegnante sconosciuto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nsia d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dattarsi e di riusci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egli impegni scolastic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canza di un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ontatto personale continuo e approfondito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ochi punti di riferimento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n una classe numeros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e condizioni ottimali di insegnamento 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ichiedono di: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romuovere l'unità interna al grupp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ttenere la coesione e la cooperazion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iutare il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grupp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 riassestarsi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sapere risolvere i problemi umani che nascono in ogni gruppo organizzat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sviluppare positivamente le energie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degli alliev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Reazioni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alle situazioni di indisciplina 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- docenti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umenta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il controllo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utilizzando le punizion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e vari altri comportament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repress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v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trattare gli allievi in maniera anonima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o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n maniera infantile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ssumere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tteggiamenti di non considerazione, di autoritarismo, di ironia nei confront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egli alliev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Reazioni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alle situazioni di indisciplina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- allievi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- la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reciprocità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: se i docenti diventano più "cattivi", possono diventarlo anche gli alliev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sovversione per mezzo dell'ironia (es. ridicolizzare il docente), provocare risate generalizzate in classe e la "ribellione simbolica" (gli allievi rovinano o distruggono il loro lavor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- la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compensazion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: gli allievi evitano le situazioni di confronto con l'insegnante per salvaguardare la propria dignità (mutismo, assenze da scuola, disinteresse, ...).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ntratto didattico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è l'insieme delle regole che definiscono il gioco fra i diversi partners della situazione didattic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rganizza i limiti e la ripartizione delle responsabilità fra docente e alliev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recisa sia il ruolo dell'allievo, sia quello del docen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e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regole relative all'apprendimento</a:t>
            </a:r>
            <a:r>
              <a:rPr b="0" i="1" lang="hr-HR" sz="2800" spc="-1" strike="noStrike">
                <a:solidFill>
                  <a:srgbClr val="545472"/>
                </a:solidFill>
                <a:latin typeface="Tahoma"/>
              </a:rPr>
              <a:t> 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quelle relative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al comport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, alla disciplina in senso strett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vono esse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esplicitate e costantemente ricordate agli alliev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Tecniche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er mantenere la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disciplina – att. preventive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rende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la lezione partecipativa e interattiva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vor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sul contesto, sulla cornice relazional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ternare, all'interno del tempo di lezione, momenti di concentrazione con momenti di “rilassamento”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rispettare i tempi di attenzione dei ragazz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non lasciare spazi vuoti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fra le attivi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, ovvero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vorare a ritmo molto serrat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Tecniche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er mantenere la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disciplina – interventi n.1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ndividuati i ragazzi che fanno più disturb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metters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vicinissim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a lor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iss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negli occhi un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lunn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ch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i mette a disturb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e, sta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in totale silenzi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rimanere impassibile, senza essere né sorridente né severo e riman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in questa situazione per un breve tempo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arlare più piano del rumore che costituisce il disturb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Cosa vuol dire ‘GESTIRE’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28800" y="2143080"/>
            <a:ext cx="7215120" cy="4143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  <a:ea typeface="Tahoma"/>
              </a:rPr>
              <a:t>L’organizzazione e gestione della classe concerne le condizioni e le modalità adottate dall’insegnante per consentire alla classe di risultare un contesto ordinato nel quale gli allievi partecipano e sono coinvolti nelle attività di studio.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Tecniche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er mantenere la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disciplina – interventi n.2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89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ostar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i pos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gli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lunni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iù irrequieti (inventandosi una motivazione fantasiosa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chiedere all’alunno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più agita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d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l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grupp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di aiutar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a mantenere l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disciplina (da evitare con alunni che hanno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orti comportamenti narcisistic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vece di evitare ch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’alunn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chiacchieri, costrin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ger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o a tutti i costi a farlo ad alta voc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re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un perché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l disturbo,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ittizio ed inventat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pieg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l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a tutta l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classe; evitare che la causa si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una cosa poco importante nella gerarchia di valori del discen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Tecniche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er mantenere la</a:t>
            </a: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 disciplina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660066"/>
                </a:solidFill>
                <a:latin typeface="Tahoma"/>
              </a:rPr>
              <a:t>secondo</a:t>
            </a:r>
            <a:br>
              <a:rPr sz="1800"/>
            </a:br>
            <a:r>
              <a:rPr b="0" i="1" lang="hr-HR" sz="2000" spc="-1" strike="noStrike">
                <a:solidFill>
                  <a:srgbClr val="660066"/>
                </a:solidFill>
                <a:latin typeface="Tahoma"/>
              </a:rPr>
              <a:t>1-2-3 Magic</a:t>
            </a: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 di Thomas W. Phelan ed. Il grande noce, 2002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terminare se avete un problem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mett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izia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roblemi “Smetti”: Far sapere all’alunno che il suo comportamento n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 accettabile avvisandolo tre volte: Questo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 l’avvertimento 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°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1! (Importante: Evitare di discutere e mantenere la calma!)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Segue: Questo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 l’avvertimento 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°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2!; se l’alunno non smette dopo l’1 o il 2, al 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°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3 escluderlo dalle attivi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 (</a:t>
            </a:r>
            <a:r>
              <a:rPr b="0" i="1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time-ou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) o applicare qualche punizione.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unizioni possibili al posto del </a:t>
            </a:r>
            <a:r>
              <a:rPr b="0" i="1" lang="hr-HR" sz="4000" spc="-1" strike="noStrike">
                <a:solidFill>
                  <a:srgbClr val="660066"/>
                </a:solidFill>
                <a:latin typeface="Tahoma"/>
              </a:rPr>
              <a:t>time-out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erdita di determinati privileg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agamento di multe simbolich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secuzione di compiti o lavori semplic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secuzione di compiti difficili e impegnativ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nviare una lettera ai genitori o chiamarli al telefon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bbreviare attivi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 piacevoli (lavorare al computer, partecipare al gioco collettivo, limitare la partecipazione all’ora di ginnastica, ecc.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Rimanere dopo le lezion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Tahoma"/>
              </a:rPr>
              <a:t>Le tattiche per comportamenti “inizia”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Lodare comportamenti positiv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Pronunciare richieste semplici e chiar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Usare il c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ntaminut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tabilire multe o premi da assegnare (punteggi, adesivi, gettoni, biglie, ecc.)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egnalare le c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nseguenze natural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Mappatura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(segnare i comportamenti in una griglia di valutazione)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Che cosa evitiamo con</a:t>
            </a:r>
            <a:br>
              <a:rPr sz="4000"/>
            </a:b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la tecnica 1 2 3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conced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e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ciò che non vorremm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consent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gli alunn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i mancarci di rispett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 arrabbia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c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z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la voc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za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le mani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i farci manipolare (t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rmen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re,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naccia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, 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timid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re,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fare il m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rtir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e, accattivarsi le simpatie, aggredire)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Conclusione</a:t>
            </a:r>
            <a:br>
              <a:rPr sz="4000"/>
            </a:br>
            <a:r>
              <a:rPr b="0" i="1" lang="hr-HR" sz="2000" spc="-1" strike="noStrike">
                <a:solidFill>
                  <a:srgbClr val="660066"/>
                </a:solidFill>
                <a:latin typeface="Tahoma"/>
              </a:rPr>
              <a:t>1-2-3 Magic</a:t>
            </a: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 di Thomas W. Phelan ed. Il grande noce, 2002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on trascurat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’importanza di educare la volontà.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l bambino si comporterà bene solo se lo vorrà e perché troverà piacere e gratificazione nel farlo.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 vita non è fatta solo di limiti, ammonimenti e punizioni; è un gioco con la libertà di se stessi di cui unico arbitro è la volontà di ciascuno.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Necessi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  <a:ea typeface="Tahoma"/>
              </a:rPr>
              <a:t> della 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disciplina 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erv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a protegger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gli alunn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, ad insegnar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loro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convivenza, a prepararl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per le interazioni social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serve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prepar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gli alunn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 dominare sé stessi e a contribuire al vivere civile 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erv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gestire il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rtamento difficile d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 alcuni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mbin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serve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non cadere nelle trappole inevitabil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ll’essere messi alla prova e manipolati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</a:rPr>
              <a:t>Perché la disciplina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73320" y="2786040"/>
            <a:ext cx="6400800" cy="32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Con la disciplina prepariamo i nostri </a:t>
            </a:r>
            <a:r>
              <a:rPr b="1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alunni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 a dominare sé stessi e a contribuire al vivere civil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</a:rPr>
              <a:t>Gli alunni ci manipolano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6800" y="2071800"/>
            <a:ext cx="7286760" cy="40003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Se concediamo ciò che non   vorremm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Se consentiamo loro di</a:t>
            </a:r>
            <a:r>
              <a:rPr b="1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mancarci di rispett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Se ci arrabbiam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Se alziamo la voc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45472"/>
                </a:solidFill>
                <a:latin typeface="Tahoma"/>
                <a:ea typeface="Tahoma"/>
              </a:rPr>
              <a:t>Se alziamo le man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L’indisciplin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lima non più sopportabile dal docente e improduttivo per l'apprendimento degli alliev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l rumore, la disattenzione o la noia degli alliev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l'impossibilità di insegnare o la difficoltà a svolgere la lezion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mportamenti non ammessi dagli insegnanti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cchierar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o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itigar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 i compagn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ar rumore, non rispettare il materiale scolastico, girovagare per l'aula senza autorizzazione, interrompere la lezione del docente, non rispettare gli orari, utilizzare un linguaggio improprio, ecc.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Le cause dell’indisciplin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e caratteristiche e le dinamiche del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uppo class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e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 particolarità dei singoli allievi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che compongono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la class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ontesto scolast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e i valori veicolati dall'istituzion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personalità del docente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e</a:t>
            </a: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tecnich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di cui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’insegnante</a:t>
            </a: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dispone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e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di cui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 fa us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gli stili d’insegnamento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Gli ambienti e le concezioni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vocatori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gli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mbienti coercitiv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dove gli allievi sono poco coinvolti nei rapporti personali interni alla scuola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cezione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pessimista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degli allievi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pessimismo sulla natura umana, credere che gli allievi vogliono sempre evitare la fatica e il lavoro, che rifiutano l'autorità, sono ribelli e non sono credibili, che la tendenza a disturbare deve essere contenuta con l'irrigidimento delle regole e con forti punizion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Aspettative degli insegnanti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far accedere gli allievi al sap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vere di fronte allievi desiderosi di sapere, autonomi (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ma 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non troppo) nella ricerca e nello studio, che 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li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gratifichino per il 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lor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o ruolo di docent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stabilire 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un buon contatto emozionale con gli allievi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realizzare un 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lavoro di insegnamento tranquillo e gratificante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stabilire un 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rapporto docente-allievi funzionale 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da cui 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tra</a:t>
            </a: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rr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e beneficio, arricchimento emotivo ed intellettual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24:29Z</dcterms:created>
  <dc:creator>MICROSOFT</dc:creator>
  <dc:description/>
  <dc:language>en-US</dc:language>
  <cp:lastModifiedBy>Miro</cp:lastModifiedBy>
  <dcterms:modified xsi:type="dcterms:W3CDTF">2013-01-21T22:58:06Z</dcterms:modified>
  <cp:revision>36</cp:revision>
  <dc:subject/>
  <dc:title>La gestione della classe: proposte operative </dc:title>
</cp:coreProperties>
</file>