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6A72-721C-4E5F-AA38-F7B7E774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7B1-6F86-47F8-8B82-31F2E3215EDB}" type="slidenum"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77E-82C1-41F7-985C-526CB67C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FD2-1452-4175-BFA1-8F63136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5B0-108D-4C20-ACE9-CF9F4CBD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C77-254F-4B87-B071-AE8A9A3B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9901-4655-4CE7-AE50-F37838CE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8973-AA1B-41D8-8E64-A34DF733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AB5-58D5-47CB-B932-F0E49E7D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8F57-BB52-417F-9521-86BD52A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49BD-9217-4ECA-9B3D-184D39E4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374B-5453-4B75-A432-92379E02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2D6-25B7-4F67-A31D-8FCBA15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C40-3330-4883-822E-8963A90D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1DB7-5F20-4209-BB08-ED2FC0EA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CA92-9547-4059-8325-F09B6EE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E8CD-0A22-4AE0-8F35-9A5B4F2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4F4-50FB-4C38-955A-8EB9A115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7920-EB38-4A83-93F6-BCF65DDF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7F2-99C5-45B9-9CF3-ABC2D67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C19-812F-4C19-A9C6-5325C222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63F-1FBD-4F14-995C-5D708E6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D5B-0491-4DA8-8C6B-2778C73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887-EFB7-4F4B-9F9D-7146D96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9A3-9EBE-4121-9C17-02DD0F9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AE8-F2F2-427E-9F45-A3FA23F3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27F-A675-4BA0-8F24-D1BCEFEA268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A91-FF57-448E-B67B-DCC029807BD6}" type="slidenum">
              <a:rPr b="0" lang="hr-H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5717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ff"/>
                </a:solidFill>
                <a:latin typeface="Times New Roman"/>
              </a:rPr>
              <a:t>La collaborazione con i genitor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Programmare le attivit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  <a:ea typeface="Tahoma"/>
              </a:rPr>
              <a:t>à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  <a:ea typeface="Tahoma"/>
              </a:rPr>
              <a:t> del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 capoclasse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                          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Mr.sc. Nevia Močinić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Doveri dei genitori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016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non si deve tendere a stabilire una relazione amicale con il figlio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ruolo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di genitore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 non può non essere normativo e puni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consentire una guida rassicurante ma anche occasioni di trasgressione, indispensabili per una equilibrata crescita emotiv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fornire ai ragazzi una guida  nell’interpretazione e comprensione dei messaggi dei med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0066ff"/>
                </a:solidFill>
                <a:latin typeface="Times New Roman"/>
              </a:rPr>
              <a:t>Obiettivi - collaborazione scuola-famiglia 1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70160" y="135720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p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romuovere azioni che coinvolgano i genitori e che valorizzino le loro esperienze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vivere insieme esperienze di conoscenza e di crescit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diventare coscienti della dignità e della grandezza del compito educativo della famiglia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essere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consapevoli della propria genitorialità e del proprio stile educativo 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per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assumersi le 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proprie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responsabilit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ff"/>
                </a:solidFill>
                <a:latin typeface="Times New Roman"/>
              </a:rPr>
              <a:t>Obiettivi - collaborazione scuola-famiglia 2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016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o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ffrire momenti ed incontri di scambio tra genitori 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per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confrontare l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loro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esperienz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, approfondire e sperimentare metodologie concrete e attive nella relazione con i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figl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organizzare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azioni mirate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esperienze di auto-aiuto, attivazioni di Scuole dei genitori, interventi di sostegno alle famiglie di tipo anche materiale e sociale, accoglienza e impegno di integrazione delle famiglie in difficoltà, sviluppo di politiche familiar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ff"/>
                </a:solidFill>
                <a:latin typeface="Times New Roman"/>
              </a:rPr>
              <a:t>Obiettivi - collaborazione scuola-famiglia 3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70160" y="135720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sperimentare tecniche di comunicazione e modalità di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relazione efficaci, al fine di migliorare le relazioni con i figli, nella promozione della loro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autonomia, nell'accompagnamento della loro crescit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r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ompere l’isolamento delle famiglie, mobilitare le loro energie, organizzare il confronto e l’azione comune, far crescere la qualità della vit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c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ontrastare l’individualismo della societ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trasformare le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famiglie in risorse per la collettivit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Compiti della famigl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0160" y="15714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fornisce conoscenze e indicazioni rilevanti ai docenti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collabora per l’adattamento dei bambini all’ambiente scolastic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segue l’esperienza di formazione dei figli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interagisce con il </a:t>
            </a:r>
            <a:r>
              <a:rPr b="1" i="1" lang="hr-HR" sz="2400" spc="-1" strike="noStrike">
                <a:solidFill>
                  <a:srgbClr val="336699"/>
                </a:solidFill>
                <a:latin typeface="Arial"/>
              </a:rPr>
              <a:t>capoclasse 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e con </a:t>
            </a:r>
            <a:r>
              <a:rPr b="1" i="1" lang="hr-HR" sz="2400" spc="-1" strike="noStrike">
                <a:solidFill>
                  <a:srgbClr val="336699"/>
                </a:solidFill>
                <a:latin typeface="Arial"/>
              </a:rPr>
              <a:t>gli altri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 docenti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si rende consapevole delle eventuali differenze di partenza dei bambini e condivide il percorso teso a raggiungere le competenze finali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percepisce il profilo educativo e</a:t>
            </a:r>
            <a:r>
              <a:rPr b="1" i="1" lang="hr-HR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culturale al quale i bambini</a:t>
            </a:r>
            <a:r>
              <a:rPr b="1" i="1" lang="hr-HR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devono corrispondere alla fine del primo ciclo di studi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ff"/>
                </a:solidFill>
                <a:latin typeface="Times New Roman"/>
              </a:rPr>
              <a:t>Forme di collaborazione</a:t>
            </a:r>
            <a:r>
              <a:rPr b="1" lang="hr-HR" sz="44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0160" y="12142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organizzare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riunioni dei genitori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 tutte le volte che se ne ravvisi la necessità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organizzare corsi, incontri, dibattiti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 conferenze e ogni altra iniziativa che possa aiutare i genitori a maturare un’equilibrata consapevolezza del proprio ruol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p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romuovere iniziative e proposte su argomenti importanti quali la sicurezza, la salute, l’ambiente, il lavoro ecc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ff"/>
                </a:solidFill>
                <a:latin typeface="Times New Roman"/>
              </a:rPr>
              <a:t>Forme di collaborazione</a:t>
            </a:r>
            <a:r>
              <a:rPr b="1" lang="hr-HR" sz="4400" spc="-1" strike="noStrike">
                <a:solidFill>
                  <a:srgbClr val="0066ff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69800" y="1500120"/>
            <a:ext cx="7559640" cy="51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 genitori offr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ono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la propria disponibilità ad essere consultati su specifiche materie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mett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endo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a disposizione del capoclasse le proprie conoscenze, competenze e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esperienz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attività di formazione riguardo ad aspetti educativi, psicologici e della comuni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tà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niziative in ambito di educazione degli adulti, di rafforzamento delle conoscenze dei genitori con laboratori (linguistici, informatici, creativi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ff"/>
                </a:solidFill>
                <a:latin typeface="Times New Roman"/>
              </a:rPr>
              <a:t>Forme di collaborazione</a:t>
            </a:r>
            <a:r>
              <a:rPr b="1" lang="hr-HR" sz="4400" spc="-1" strike="noStrike">
                <a:solidFill>
                  <a:srgbClr val="0066ff"/>
                </a:solidFill>
                <a:latin typeface="Times New Roman"/>
              </a:rPr>
              <a:t> 3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3920" y="135720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coinvolgimento dei genitori nei momenti di preparazione e realizzazione di feste e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manifestazioni organizzate dalla scuol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cooperazione dei genitori nella realizzazione dei progetti: educazione alla salute, orientamento professionale, educazione ambientale, musicale, sportiva.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niziative delle associazioni in attività culturali e formative rivolte sia agli allievi che agli adult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uone pratiche </a:t>
            </a: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a livello europeo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0160" y="142848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progetti che valorizzino la scelta dei genitori nell’attuare la riforma scolast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esperienze di volontariato a scuola e nel territor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attività culturali e ricreative  per e con i genitori dentro e/o  fuori dalla scuol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partecipazione o allestimento di spettacoli musicali, teatrali, partecipazione a concerti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, ecc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partecipazione dei genitori con i ragazzi a a manifestazioni sportive, gare,  partite…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uone pratiche </a:t>
            </a: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a livello europeo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0160" y="135720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artecipazione a momenti decisionali interni (quali la stesura del piano dell’offerta formativa) e di autovalutazione della scuola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interventi di Educazione alla salu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artecipazione a progetti di “cittadinanza europea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partecipazione a gite, soggiorni sulla neve, campeggi estivi, scuola in natura .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La famigl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016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I genitori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rincipale punto di riferimento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er ogni bambin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ruolo centrale della famiglia come pilastro fondamentale della società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offre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stabilità affettiv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offre assistenza alle esigenze personal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sost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iene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 i propri membri nel fronteggiare i problem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I problemi della famiglia odierna 1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0160" y="128592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famiglia nucleare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 -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 composta da due membri, a volte da uno solo, con figli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p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assa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da problemi primari (mangiare, vestirsi, avere un tetto ecc.) a problemi sociali che richiedono soluzioni ben più complesse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 (esigenze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superflu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e: es. abiti di marca, un numero eccessivo di giocattoli, nuovo oggetti d’uso: cellulari, computer portatili, ecc.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I problemi della famiglia odierna 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2640" y="1357200"/>
            <a:ext cx="79995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agenzia formativa con pesanti vulnerabilità e debolezze che gravano sul </a:t>
            </a:r>
            <a:r>
              <a:rPr b="1" lang="hr-HR" sz="2400" spc="-1" strike="noStrike">
                <a:solidFill>
                  <a:srgbClr val="336699"/>
                </a:solidFill>
                <a:latin typeface="Arial"/>
              </a:rPr>
              <a:t>suo </a:t>
            </a: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ruolo educativ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genitori, spesso disorientati, demotivati ed avviliti verso il loro pur sempre indispensabile ruolo educativ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Arial"/>
              </a:rPr>
              <a:t>carenza di </a:t>
            </a: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comunicazione </a:t>
            </a:r>
            <a:r>
              <a:rPr b="1" lang="hr-HR" sz="2400" spc="-1" strike="noStrike">
                <a:solidFill>
                  <a:srgbClr val="336699"/>
                </a:solidFill>
                <a:latin typeface="Arial"/>
              </a:rPr>
              <a:t>(d</a:t>
            </a: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iscussioni continue, incomprensioni, difficoltà ad ascoltare l'altro o ad essere ascoltati, difficoltà a controllare le proprie reazioni (sbalzi di umore, chiusure, sfide, provocazioni, comportamenti oppositivi, ecc.) possono causare sofferenza e disagio psicologico per uno o più membri della famiglia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Arial"/>
              </a:rPr>
              <a:t>relazioni familiari compromesse da disagi, conflitti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L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o spazio e l’efficacia dell</a:t>
            </a: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azione educativa ridott</a:t>
            </a: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0160" y="14997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Cause: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la concorrenzialità dei massmedia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l’attrattiva di modelli culturali di riferimento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l fascino seduttivo di stili di vita s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pesso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 distorti e devianti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lo scarso riconoscimento sociale del proprio ruolo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la caduta di speranza nel vivere collettivo e nella pratica educativa in particol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I nuovi compiti della famigl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016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 compiti tradizionali della famiglia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(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la gestione della vita quotidiana, dei suoi ritmi e dei suoi bisogni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)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ridimensionati e mutati in profondit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si presenta la necessità di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ridisegnare forme, modalità e significati del rapporto educativo con i figl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indebolito il ruolo paterno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a vantaggio della funzione espressiva matern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utorità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genitoriale 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messa in discussion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ndebolimento dell’autonomia e del senso di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responsabilit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Famiglia e scuol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240" y="1571400"/>
            <a:ext cx="76294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evitare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l sovrainvestimento affettivo dei genitor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non creare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personalità incerte e poco strutturate, non abituate alla</a:t>
            </a: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frustrazione né alla fatica, prive di me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benessere: c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omprensione, accettazione, valorizzazione, cura, rispetto, amo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99"/>
                </a:solidFill>
                <a:latin typeface="Arial"/>
              </a:rPr>
              <a:t>malessere: trascuratezza, simbiosi, rifiu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più sentita l’esigenza di una partnership educativa tra scuola e famigl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uona riuscita d</a:t>
            </a: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ella 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formazione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0160" y="142884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Necessari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rapporti di fiducia e continuità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tra insegnanti e genitori,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che vanno costruiti, riconosciuti e sostenut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atto educativo” tra insegnanti, genitori e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alunni – garanzia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di apprendimenti cognitivi e di sviluppo psico-affet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riconoscimento giuridico e sociale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 delle forme di collaborazion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ff"/>
                </a:solidFill>
                <a:latin typeface="Times New Roman"/>
              </a:rPr>
              <a:t>C</a:t>
            </a:r>
            <a:r>
              <a:rPr b="0" lang="it-IT" sz="4400" spc="-1" strike="noStrike">
                <a:solidFill>
                  <a:srgbClr val="0066ff"/>
                </a:solidFill>
                <a:latin typeface="Times New Roman"/>
              </a:rPr>
              <a:t>ollaborazione con i genitori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0160" y="107136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riorità della famiglia nella scelta educativa per i propri figl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in famiglia l’alunno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costruisce un codice di valori interiore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utile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per definire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poi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le relazioni con il mondo estern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scuola </a:t>
            </a:r>
            <a:r>
              <a:rPr b="1" lang="hr-HR" sz="32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urgenza di rafforzare il patto di collaborazione con le famigli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maggiori possibilità di contrastare l’abbandono, l’apatia ed il disinteresse per la scuo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16:09Z</dcterms:created>
  <dc:creator>korisnik</dc:creator>
  <dc:description/>
  <dc:language>en-US</dc:language>
  <cp:lastModifiedBy>Miro</cp:lastModifiedBy>
  <dcterms:modified xsi:type="dcterms:W3CDTF">2012-12-10T22:17:49Z</dcterms:modified>
  <cp:revision>68</cp:revision>
  <dc:subject/>
  <dc:title>Slide 1</dc:title>
</cp:coreProperties>
</file>