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63A-031F-4D4B-9B12-63263F42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764-547F-47A4-9511-B06030AF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1D8-AC46-4F30-BD2B-4EBAEBA6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83C-E246-4E4D-A214-B71A2A0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41FA-56DA-4699-B573-BC2C999E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C93-250D-4CE0-B7C1-B4EBBD9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CF7-8C7D-446A-A154-054C4CD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08D8-F529-4DBE-A502-A0036F1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D07B-4E01-4EFA-AAF5-82744F7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337-9107-4854-8207-7438B28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26A3-99CA-47B4-A106-AF5A4EC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5DF-DF39-4E3C-8079-6E7C898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FD31-0DBD-458A-9F22-A02D449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484B-3BC6-49AA-BE86-1D9B21F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34E5-2ACD-4062-85C0-260618B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12A-649D-4088-9F24-3F522A54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3F0-3575-4A45-9EAE-D9A73300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A7F-FE52-4C41-A9CE-E65AE9E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412-BFD4-4BA9-80F7-6401EB73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7A1-98A1-4A19-AB2F-0B93CB5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0E1-8585-4F9B-A853-E048782E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183-1F41-4745-9DA3-6E3F1BF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6F2-DB6F-47AD-B678-DAFCA2C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7B7-2DFC-4C2C-A893-69C3493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C259-EA99-444D-B49F-3C4406EF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EF6-67B8-4F20-A955-0CB54528E3E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ogrammare le 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  <a:ea typeface="Tahoma"/>
              </a:rPr>
              <a:t> del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capoclas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Laurea magistrale – IV an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bblighi del capoclass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ianificare e programmare le 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della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ver cura per l’alimentazione e la salute degli alunni in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ver cura della situazione sociale del singolo alun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ssere il portavoce degli alunni nelle riunioni del Consiglio di classe e Consiglio insegna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erificare l’assolvimento degli impegni di ciascun alunno (pagamenti merenda, doposcuola, abbonamento a riviste, ec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rganizzare e realizzare le escursioni e le g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bblighi del capoclass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llaborare con i genitori dell’alunno (riunioni dei genitori, lezioni per i genitori, informazioni individual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ncordare attiv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e uscite nell’ambiente lo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Svolgere compiti amministrativi (compilare il registro dei voti, il registro di classe, il registro matricola, i libretti e le pagelle scolastiche, gli elog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ocumenti da compi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registro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1916280"/>
            <a:ext cx="32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enik"/>
          <p:cNvPicPr/>
          <p:nvPr/>
        </p:nvPicPr>
        <p:blipFill>
          <a:blip r:embed="rId2"/>
          <a:stretch/>
        </p:blipFill>
        <p:spPr>
          <a:xfrm>
            <a:off x="4716360" y="1844640"/>
            <a:ext cx="4056120" cy="26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agella"/>
          <p:cNvPicPr/>
          <p:nvPr/>
        </p:nvPicPr>
        <p:blipFill>
          <a:blip r:embed="rId3"/>
          <a:stretch/>
        </p:blipFill>
        <p:spPr>
          <a:xfrm>
            <a:off x="1979640" y="3860640"/>
            <a:ext cx="1865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Conoscenze e abil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necessarie al capoclas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noscere la legge sulla scuola elemen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noscere il regolamento sugli obblighi del maestro nel ruolo di capocla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Possedere abil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comunicative e diplomati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Possedere abil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psicologi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Essere saggio e buo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toria della funzione di capoclas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 Croazia esiste dal 19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ri i corsi universitari preparat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l corso del tempo variano le ore assegnate a questa funzione e i compiti da svolge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964 – 1 ora di Comun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di classe; 2-3 ore di lavoro pedagogico-amministrativ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991- assente l’ora del capoclasse; lavoro pedagogico-amministrativo 5% sullo stipendio mens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999 – 1 or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i Comun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di classe; 2 ore per i compiti amministrativi; 2 ore per altri lav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Legge sulla scuola elementare: 2 ore di lavoro diretto con gli alunni (1 ora di capoclasse), 2 ore per i compiti amministr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6:39:18Z</dcterms:created>
  <dc:creator>Miro</dc:creator>
  <dc:description/>
  <dc:language>en-US</dc:language>
  <cp:lastModifiedBy>Miro</cp:lastModifiedBy>
  <dcterms:modified xsi:type="dcterms:W3CDTF">2014-09-21T18:35:18Z</dcterms:modified>
  <cp:revision>4</cp:revision>
  <dc:subject/>
  <dc:title>Programmare le attività del capoclasse</dc:title>
</cp:coreProperties>
</file>