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D3EBC-8083-4555-B218-0C691F7B4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A1554-3213-4843-97A2-4479B8460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58626-1C53-4CA5-860A-86E2F7D03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C073B-2C2C-4391-8FFB-ED30551B2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169CF-D34D-4CA3-95A9-0FF545D5E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B8BB0-7006-4609-B1CF-17B12F209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3F48A-66CF-4891-8868-C481E4338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647A5-1064-4F59-A4D4-958BC87C9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83A76-2F8C-4487-83AE-4B23C9DDA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14553-D452-4E7C-9E9A-CBF3391A1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C468A-928C-489A-B064-E88ED795F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0C430-A0C1-4E09-91D0-538221950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EDE00-9582-4A9B-B042-E9A90731C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1E8F0-D8D6-423E-ADB2-0FC1642FA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0B372-78B2-4968-934B-D6EBD0374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DE2BE-F5A1-4910-B9FC-F066E2AE5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B1EC9-C148-47AC-9EB1-5361BBDC9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B9709-A7A0-4095-B391-B1E53A10F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954BC-6895-44A7-9641-AC6057860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65FA9-7452-4643-BB96-AECE07C5E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C8BE5-8385-43A6-BF67-05B42AA30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B8A68-6B22-41D2-AAA0-2DD15C656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D8E39-8805-4662-B716-BB5461DF6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21451-40B6-427E-8E70-ECA076B79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590F8-8790-40AD-BFD2-81B67EF79BF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titlemaster_med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3809A-AF5B-43F7-9022-616E3AE35BC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800" spc="-1" strike="noStrike">
                <a:solidFill>
                  <a:srgbClr val="000000"/>
                </a:solidFill>
                <a:latin typeface="Arial"/>
              </a:rPr>
              <a:t>La programmazione dell’ora della comunit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à</a:t>
            </a:r>
            <a:r>
              <a:rPr b="0" lang="hr-HR" sz="4800" spc="-1" strike="noStrike">
                <a:solidFill>
                  <a:srgbClr val="000000"/>
                </a:solidFill>
                <a:latin typeface="Arial"/>
                <a:ea typeface="Arial"/>
              </a:rPr>
              <a:t> di classe</a:t>
            </a:r>
            <a:endParaRPr b="0" lang="en-US" sz="48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362320" y="3429000"/>
            <a:ext cx="6400800" cy="14479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Mr.sc. Nevia Močini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8c0039"/>
                </a:solidFill>
                <a:latin typeface="Arial"/>
              </a:rPr>
              <a:t>Risorse dell’ambiente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38280" y="1599840"/>
            <a:ext cx="64008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Disponibili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à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  <a:ea typeface="Arial"/>
              </a:rPr>
              <a:t> di istituzioni e ambienti per trascorrere il tempo libero: biblioteche, musei, campi sportivi, campi gioco, oratori, ec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  <a:ea typeface="Arial"/>
              </a:rPr>
              <a:t>Attivi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à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  <a:ea typeface="Arial"/>
              </a:rPr>
              <a:t> extrascolastiche organizzate dalla scu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  <a:ea typeface="Arial"/>
              </a:rPr>
              <a:t>Accertare eventuali comportamenti asociali degli alunni (ladri, tossicodipendent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8c0039"/>
                </a:solidFill>
                <a:latin typeface="Arial"/>
              </a:rPr>
              <a:t>Programma 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438280" y="1267920"/>
            <a:ext cx="64008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La vita e il lavoro a scuo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L’atteggiamento verso lo stud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La cura per la sal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Le caratteristiche dello sviluppo fisico e psich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Gli interventi di pronto soccor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La creativi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à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 e l’autorealizzaz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Le relazione interpersonali e la vita nella comuni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à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 soci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L’identi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à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 nazionale e l’amore verso la pat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La vita in natura e con la natu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I fenomeni negativi dei tempi moder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8c0039"/>
                </a:solidFill>
                <a:latin typeface="Arial"/>
              </a:rPr>
              <a:t>La programmazione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438280" y="1599840"/>
            <a:ext cx="64008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Il programma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è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 orientativo e va adattato all’e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à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 degli alunni e alle esigenze della clas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La programmazione dall’anno 2006/07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è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 mensile e va fatta cercando di collegare i contenuti con le altre mater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Comprende le attivi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à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 educative, mentre quelle amministrative sono stabilite dal calendario degli obblighi del capoclas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8c0039"/>
                </a:solidFill>
                <a:latin typeface="Arial"/>
              </a:rPr>
              <a:t>I nuclei tematici e le unit</a:t>
            </a:r>
            <a:r>
              <a:rPr b="0" lang="en-US" sz="3600" spc="-1" strike="noStrike">
                <a:solidFill>
                  <a:srgbClr val="8c0039"/>
                </a:solidFill>
                <a:latin typeface="Arial"/>
                <a:ea typeface="Arial"/>
              </a:rPr>
              <a:t>à</a:t>
            </a:r>
            <a:r>
              <a:rPr b="0" lang="hr-HR" sz="3600" spc="-1" strike="noStrike">
                <a:solidFill>
                  <a:srgbClr val="8c0039"/>
                </a:solidFill>
                <a:latin typeface="Arial"/>
                <a:ea typeface="Arial"/>
              </a:rPr>
              <a:t> didattiche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La vita e il lavoro a scuol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I diritti e i doveri degli alun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I compiti dell’alunno di serviz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Le norme di comportamento a scuol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Le attivi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à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  <a:ea typeface="Arial"/>
              </a:rPr>
              <a:t> extradidattiche ed extrascolastiche della scuola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8c0039"/>
                </a:solidFill>
                <a:latin typeface="Arial"/>
              </a:rPr>
              <a:t>La cura per la salute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I nostri bisogni (sopravvivenza, amore e appartenenza, potere, liber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à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  <a:ea typeface="Arial"/>
              </a:rPr>
              <a:t>, divertiment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  <a:ea typeface="Arial"/>
              </a:rPr>
              <a:t>La salute e il benessere fisico e psich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  <a:ea typeface="Arial"/>
              </a:rPr>
              <a:t>L’alimentazione e la salu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  <a:ea typeface="Arial"/>
              </a:rPr>
              <a:t>L’importanza dell’attivi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à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  <a:ea typeface="Arial"/>
              </a:rPr>
              <a:t> moto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  <a:ea typeface="Arial"/>
              </a:rPr>
              <a:t>Come trascorrere il tempo libe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8c0039"/>
                </a:solidFill>
                <a:latin typeface="Arial"/>
              </a:rPr>
              <a:t>L’atteggiamento verso lo studio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438280" y="1773000"/>
            <a:ext cx="6400800" cy="432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Apprendere come apprend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Gli stili di apprendim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Le strategie attive di apprendim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La creativi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à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  <a:ea typeface="Arial"/>
              </a:rPr>
              <a:t> e l’autorealizzazi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8c0039"/>
                </a:solidFill>
                <a:latin typeface="Arial"/>
              </a:rPr>
              <a:t>Le relazioni interpersonali e la vita nella comunit</a:t>
            </a:r>
            <a:r>
              <a:rPr b="0" lang="en-US" sz="3600" spc="-1" strike="noStrike">
                <a:solidFill>
                  <a:srgbClr val="8c0039"/>
                </a:solidFill>
                <a:latin typeface="Arial"/>
                <a:ea typeface="Arial"/>
              </a:rPr>
              <a:t>à</a:t>
            </a:r>
            <a:r>
              <a:rPr b="0" lang="hr-HR" sz="3600" spc="-1" strike="noStrike">
                <a:solidFill>
                  <a:srgbClr val="8c0039"/>
                </a:solidFill>
                <a:latin typeface="Arial"/>
                <a:ea typeface="Arial"/>
              </a:rPr>
              <a:t> di classe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Il senso di responsabili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à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  <a:ea typeface="Arial"/>
              </a:rPr>
              <a:t> delle proprie azio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  <a:ea typeface="Arial"/>
              </a:rPr>
              <a:t>La collaborazione con gli altr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  <a:ea typeface="Arial"/>
              </a:rPr>
              <a:t>L’assertivi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à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  <a:ea typeface="Arial"/>
              </a:rPr>
              <a:t> e il comportamento prosoci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  <a:ea typeface="Arial"/>
              </a:rPr>
              <a:t>L’integrazione dei bambini con esigenze special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8c0039"/>
                </a:solidFill>
                <a:latin typeface="Arial"/>
              </a:rPr>
              <a:t>L’identit</a:t>
            </a:r>
            <a:r>
              <a:rPr b="0" lang="en-US" sz="3600" spc="-1" strike="noStrike">
                <a:solidFill>
                  <a:srgbClr val="8c0039"/>
                </a:solidFill>
                <a:latin typeface="Arial"/>
                <a:ea typeface="Arial"/>
              </a:rPr>
              <a:t>à</a:t>
            </a:r>
            <a:r>
              <a:rPr b="0" lang="hr-HR" sz="3600" spc="-1" strike="noStrike">
                <a:solidFill>
                  <a:srgbClr val="8c0039"/>
                </a:solidFill>
                <a:latin typeface="Arial"/>
                <a:ea typeface="Arial"/>
              </a:rPr>
              <a:t> nazionale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438280" y="1599840"/>
            <a:ext cx="64008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La lingua/dialetto parlate in famigl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Gli usi e i costumi dei nostri antenati (costumi nazionali, forme di espressione musicale, cibi tradizionali..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La tolleranza verso gli altri, diversi da no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8c0039"/>
                </a:solidFill>
                <a:latin typeface="Arial"/>
                <a:ea typeface="Arial"/>
              </a:rPr>
              <a:t>La vita in natura e con la natura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L’atteggiamento verso l’inquinamento della natu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Lo sviluppo sostenib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La raccolta differenziata dei rifiu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Le azioni di protezione e salvaguardia della natu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8c0039"/>
                </a:solidFill>
                <a:latin typeface="Arial"/>
                <a:ea typeface="Arial"/>
              </a:rPr>
              <a:t>I fenomeni negativi dei tempi moderni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I bambini e l’uso dell’inter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Il bullismo a scu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Uso del cellulare: rischi e pericol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Il fumo, l’uso dell’alcol, della droga e la dipendenza da ess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8c0039"/>
                </a:solidFill>
                <a:latin typeface="Arial"/>
              </a:rPr>
              <a:t>L’ora della comunit</a:t>
            </a:r>
            <a:r>
              <a:rPr b="0" lang="en-US" sz="3600" spc="-1" strike="noStrike">
                <a:solidFill>
                  <a:srgbClr val="8c0039"/>
                </a:solidFill>
                <a:latin typeface="Arial"/>
                <a:ea typeface="Arial"/>
              </a:rPr>
              <a:t>à</a:t>
            </a:r>
            <a:r>
              <a:rPr b="0" lang="hr-HR" sz="3600" spc="-1" strike="noStrike">
                <a:solidFill>
                  <a:srgbClr val="8c0039"/>
                </a:solidFill>
                <a:latin typeface="Arial"/>
                <a:ea typeface="Arial"/>
              </a:rPr>
              <a:t> di classe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438280" y="1412640"/>
            <a:ext cx="64008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Funzione essenzialmente educativ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Comprendere, incoraggiare e indirizzare gli alunni e aiutarli 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approfondire la conoscenza di se stessi e dei propri bisog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imparare a gestire le relazioni interpersonal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riconoscere i propri problem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curarsi della propria salu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8c0039"/>
                </a:solidFill>
                <a:latin typeface="Arial"/>
              </a:rPr>
              <a:t>Gli interventi di pronto soccorso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268360" y="1483920"/>
            <a:ext cx="6570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 presenza di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 infortunio, di un malore, di un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ergenza sanitaria chi assiste all’evento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ta il primo soccorso;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egli deve accertare 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tratta un lieve malore o infortunio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solvibile con i mezzi a propria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posiz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tratta di una urgenza che richiede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’intervento di un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ico ma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 ha i requisiti dell’emergenza e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oltre l’infortunato è trasportab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tratta di un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ergenza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(es. arresto cardiaco e respiratorio, perdita di coscienza, coma, gravi emorragie arteriose, gravi traumi, l’intrasportabilità, ecc.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 richiede l’immediato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vento medic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8c0039"/>
                </a:solidFill>
                <a:latin typeface="Arial"/>
              </a:rPr>
              <a:t>I rischi per la salute a scuola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tilizzo di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ideoterminal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vim</a:t>
            </a: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ento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manuale carich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ture incongr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tilizzo di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stanze chimi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umorosità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 macchinari ed attrezza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za di manufatti contenenti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mia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8c0039"/>
                </a:solidFill>
                <a:latin typeface="Arial"/>
              </a:rPr>
              <a:t>L’analisi della situazione educativa della classe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Indicatori chiav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il profitto degli alun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le assen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il rispetto del regolam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la struttura sociale della clas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la dinamica dei comportamenti sociali in clas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l’atteggiamento verso l’insegnamento e gli insegnan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la collaborazione con i genito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le risorse dell’ambiente soci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8c0039"/>
                </a:solidFill>
                <a:latin typeface="Arial"/>
              </a:rPr>
              <a:t>Il profitto degli alunni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438280" y="1599840"/>
            <a:ext cx="64008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Si valuta collettivamente e individualm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Si seguono i risultati individuali nelle varie materie, l’interesse per ciascuna materia, la quali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à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 del sapere, l’interesse per lo stud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Si accertano i motivi degli insuccessi, il livello delle abitudini lavorative, la motivazione ad apprendere, le ragioni del regres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8c0039"/>
                </a:solidFill>
                <a:latin typeface="Arial"/>
              </a:rPr>
              <a:t>Le assenze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Si analizzano individualmente, accertandone i moti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Si verifica la coincidenza con verifiche scritte del sap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Nel caso di assenze per malattia si invita i compagni a tener informato l’alunno assente (lezioni, compit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8c0039"/>
                </a:solidFill>
                <a:latin typeface="Arial"/>
              </a:rPr>
              <a:t>La dinamica sociale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38280" y="1341360"/>
            <a:ext cx="64008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Si accerta mediante il test sociometrico di Jacob Levy More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Ciascun alunno viene invitato a esprimere i propri atteggiamenti di scelta, rifiuto o indifferenza nei confronti degli alt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Si costruisce la rete dei rapporti di attrazione e repuls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Si ottiene co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ì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 il livello di coesione della classe, gli alunni leader, gli eventuali alunni esclusi dal grupp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l’atmosfera in classe p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ò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 essere di  collaborazione, di concorrenza, di individualis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8c0039"/>
                </a:solidFill>
                <a:latin typeface="Arial"/>
              </a:rPr>
              <a:t>Rispetto delle norme di comportamento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438280" y="1599840"/>
            <a:ext cx="64008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Valutare l’atteggiamento verso l’arredamento e i mezzi didattic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Verificare lo svolgimento dei compiti di alunno di serviz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Seguire il comportamento durante i ripos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Seguire il comportamento in cucina, in biblioteca e in altri ambienti scolastic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8c0039"/>
                </a:solidFill>
                <a:latin typeface="Arial"/>
              </a:rPr>
              <a:t>L’atteggiamento verso l’apprendimento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340000" y="1557360"/>
            <a:ext cx="6616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Seguire il profitto espresso con i voti numerici e le osservazioni verbal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Classificare gli alunni in diligenti, laboriosi, attenti, negligenti, aggressivi, disubbidienti, distratti, superficiali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Verificare gli stili di apprendimento degli alun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8c0039"/>
                </a:solidFill>
                <a:latin typeface="Arial"/>
              </a:rPr>
              <a:t>La collaborazione con i genitori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438280" y="1599840"/>
            <a:ext cx="64008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Accertare la presenza alle riunioni dei genitor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Verificare la disponibili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à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  <a:ea typeface="Arial"/>
              </a:rPr>
              <a:t> a collaborare con la scu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  <a:ea typeface="Arial"/>
              </a:rPr>
              <a:t>Accertare eventuali problemi in famiglia, situazioni disagiate, bambini trascurati, genitori divorziati o separati, famiglie pov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7T18:23:32Z</dcterms:created>
  <dc:creator>Miro</dc:creator>
  <dc:description/>
  <dc:language>en-US</dc:language>
  <cp:lastModifiedBy>Miro</cp:lastModifiedBy>
  <dcterms:modified xsi:type="dcterms:W3CDTF">2014-09-21T18:37:42Z</dcterms:modified>
  <cp:revision>5</cp:revision>
  <dc:subject/>
  <dc:title>La programmazione dell’ora della comunità di classe</dc:title>
</cp:coreProperties>
</file>