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4685-4BF5-4DA7-B252-E8917B59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6B6A-E5E7-4725-8BA0-C6698A8A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8866-DCC3-4A0A-99E6-88FD40BE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6733-814A-4285-875A-1B84967F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B31E-51DF-403F-BF8E-969B271A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10FB-8E8E-4416-83FF-7A53558E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53D3-BC0E-4811-AD6B-7976C722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0921-899D-4783-AC4C-CC61BDB5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095A-CA0E-4071-8EB8-A5DC0D72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EC7A-C13E-4F01-9979-B6E2D25A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D005-B34F-4029-91FA-223D6A4D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FB64-F220-4224-8D9C-7AECB0C2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63EF-2D46-4328-99AF-F1CD7978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4BCE-3169-4A26-9862-7E64896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5A9D-CED3-4A41-A81C-7AE793A5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792A-661C-4779-957E-D10F35A9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5F3F-C932-4EA6-AE9E-6D770BD9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DC85-FAB9-4524-AEAA-D9EAC473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CC50-B13B-4EB3-95E5-D3927305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E1EB-311F-459C-B8CB-8354EFC0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7EEA-E121-4C38-8B0A-DEBFB9AC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06309-FB20-4EE8-865C-14B84343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8081-3E5B-4684-B65B-07EBDFC0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4857-6582-40D1-AFA6-1082419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E9C5-EBEA-4A7A-9429-5E9E8D93C9BA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6B60-72C7-44EB-B6CB-1843300AC55C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1752120"/>
            <a:ext cx="60195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Arial"/>
              </a:rPr>
              <a:t>Scelta dei contenuti matematici nella scuola materna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267080" y="5486400"/>
            <a:ext cx="419112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3333cc"/>
                </a:solidFill>
                <a:latin typeface="Arial"/>
              </a:rPr>
              <a:t>Mr.sc. Nevia Močini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cc"/>
                </a:solidFill>
                <a:latin typeface="Arial"/>
              </a:rPr>
              <a:t>Progettare e inven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reare progetti e forme derivati dalla realt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 o inventati (es. costruzioni con materiale di recupero, mattoncini, ec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Ideare storie (struttura logica, ordine di successione, rappresentazione con vignet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Realizzare giochi con reg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struire un sistema di si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cc"/>
                </a:solidFill>
                <a:latin typeface="Arial"/>
              </a:rPr>
              <a:t>I contenuti matematici secondo Bruno D’Amore</a:t>
            </a:r>
            <a:r>
              <a:rPr b="1" lang="hr-HR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Aree matematic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Geometria (topologia, misura, forme, enunci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Aritmetica (insiemi, relazio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Probabilit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 (eventi e loro probabilit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Statistica (raccolta di dati e grafi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167652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La grandezza degli ogg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La percezione e la rappresentazione dello sp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La percezione del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Le quantit</a:t>
            </a:r>
            <a:r>
              <a:rPr b="1" lang="hr-HR" sz="32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 (i nume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I corpi e le figure geometr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cc"/>
                </a:solidFill>
                <a:latin typeface="Arial"/>
              </a:rPr>
              <a:t>Le misure e la misu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143000" y="3808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cc"/>
                </a:solidFill>
                <a:latin typeface="Arial"/>
              </a:rPr>
              <a:t>Secondo i programmi croati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cc"/>
                </a:solidFill>
                <a:latin typeface="Arial"/>
              </a:rPr>
              <a:t>del 197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apitolo: Lo spazio, l’ordine e la mis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ntenu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Raggrup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Ordin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Misur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Localizz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apacit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 da svilupp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Porre in rel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Progettare e inven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33520" y="609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cc"/>
                </a:solidFill>
                <a:latin typeface="Arial"/>
              </a:rPr>
              <a:t>I Nuovi Orientamenti Italiani - 199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9900"/>
                </a:solidFill>
                <a:latin typeface="Arial"/>
              </a:rPr>
              <a:t>Raggruppare e ordin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nfronto di oggetti o persone secondo la posizione nello sp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nfronto di azioni o fenomeni secondo la successione nel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nfronto di oggetti o persone secondo altezza, peso, colore numero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Quantificare, numerare e confron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Registrare gli oggetti o le persone contate usando altri oggetti o si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90560" y="1752120"/>
            <a:ext cx="7972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Impiego di strumenti di misura </a:t>
            </a:r>
            <a:r>
              <a:rPr b="0" lang="hr-HR" sz="3200" spc="-1" strike="noStrike" u="sng">
                <a:solidFill>
                  <a:srgbClr val="3333cc"/>
                </a:solidFill>
                <a:uFillTx/>
                <a:latin typeface="Arial"/>
              </a:rPr>
              <a:t>standardizzati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 (metri, bilance, orologi, calendari, brocche e biberon graduati, termometri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Impiego di strumenti di misura </a:t>
            </a:r>
            <a:r>
              <a:rPr b="0" lang="hr-HR" sz="3200" spc="-1" strike="noStrike" u="sng">
                <a:solidFill>
                  <a:srgbClr val="3333cc"/>
                </a:solidFill>
                <a:uFillTx/>
                <a:latin typeface="Arial"/>
              </a:rPr>
              <a:t>non standardizzati</a:t>
            </a: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 (clessidra, pendolo, orologio ad acqua, bastone, piede, palmo della mano, graffetta, ec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762120" y="72216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cc"/>
                </a:solidFill>
                <a:latin typeface="Arial"/>
              </a:rPr>
              <a:t>Misurar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4920" y="1294920"/>
            <a:ext cx="8139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3333cc"/>
                </a:solidFill>
                <a:latin typeface="Arial"/>
              </a:rPr>
              <a:t>Modi di esplorare, vivere, percorrere, occupare, osservare e rappresentare lo spaz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cc"/>
                </a:solidFill>
                <a:latin typeface="Arial"/>
              </a:rPr>
              <a:t>microspazio (es. tavolo, schermo computer, foglio di ca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cc"/>
                </a:solidFill>
                <a:latin typeface="Arial"/>
              </a:rPr>
              <a:t>macrospazio (es. il giardino della scuola, la strada da casa a scuo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cc"/>
                </a:solidFill>
                <a:latin typeface="Arial"/>
              </a:rPr>
              <a:t>spazio immaginario (evocato nella narrazione – bosco, castello della fia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cc"/>
                </a:solidFill>
                <a:latin typeface="Arial"/>
              </a:rPr>
              <a:t>spazio da esplorare con il corpo (es. percorso di una gimk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838080" y="3808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cc"/>
                </a:solidFill>
                <a:latin typeface="Arial"/>
              </a:rPr>
              <a:t>Localizzar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19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Ricorso a parole, costruzioni, modelli, schemi, disegni per rappresentare lo spazio (es. racconti, modellini, piant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Costruzione di sistemi di riferimento per facilitare l’orientamento nello spaz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egocentrici – centrati sul s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allocentrici – centrati sull’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cc"/>
                </a:solidFill>
                <a:latin typeface="Arial"/>
              </a:rPr>
              <a:t>geocentrici – basati su convenzioni astra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762120" y="685800"/>
            <a:ext cx="44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cc"/>
                </a:solidFill>
                <a:latin typeface="Arial"/>
              </a:rPr>
              <a:t>Localizz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cc"/>
                </a:solidFill>
                <a:latin typeface="Arial"/>
              </a:rPr>
              <a:t>Capacit</a:t>
            </a:r>
            <a:r>
              <a:rPr b="0" lang="hr-HR" sz="4000" spc="-1" strike="noStrike">
                <a:solidFill>
                  <a:srgbClr val="3333cc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3333cc"/>
                </a:solidFill>
                <a:latin typeface="Arial"/>
              </a:rPr>
              <a:t> da sviluppare: </a:t>
            </a:r>
            <a:br>
              <a:rPr sz="4000"/>
            </a:br>
            <a:r>
              <a:rPr b="0" lang="hr-HR" sz="4000" spc="-1" strike="noStrike">
                <a:solidFill>
                  <a:srgbClr val="3333cc"/>
                </a:solidFill>
                <a:latin typeface="Arial"/>
              </a:rPr>
              <a:t>Porre in rel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Formulare previsioni e prime ipo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Individuare, costruire e utilizzare relazioni e classif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Costruire corrispondenze e rapporti di complementazione, unione, intersezione e inclusione tra insi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Riconoscere invarianti (elementi costa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Utilizzare strumenti di rappresen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Operare riflessioni e spieg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8:29:57Z</dcterms:created>
  <dc:creator>korisnik</dc:creator>
  <dc:description/>
  <dc:language>en-US</dc:language>
  <cp:lastModifiedBy>Miro</cp:lastModifiedBy>
  <dcterms:modified xsi:type="dcterms:W3CDTF">2014-03-18T19:32:27Z</dcterms:modified>
  <cp:revision>6</cp:revision>
  <dc:subject/>
  <dc:title>LO STUDIO, IL GIOCO E L’ATTIVITA’ PRATICA NELLO SVOLGIMENTO DEI CONTENUTI DI NATURA E SOCIETA’</dc:title>
</cp:coreProperties>
</file>