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71E-454A-4290-8A43-508541C0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59F-C5BE-4D7D-8693-6BCBD219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7E7-7BF7-45D0-AF82-30F7CA01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951-4040-4159-95FD-9913435A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E899-27F1-4904-912B-5C9DD027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518-E074-40A7-AC25-4B0FAEEF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2373-FA1B-4657-B5C1-0666C684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8B4-7140-4C42-9B78-6787A5B3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1FFE-8F90-4199-9F1E-A9780392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071-E748-4669-9B6A-E8A335B1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699-E3A4-4221-8DF1-90565ED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415-5F6F-46A4-8D68-865F4996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39BE-0204-4DB9-A559-75C4DDB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0F3B-42AC-496E-8842-AFCE5B7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9F0E-FBFC-4F56-8B68-58608FC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24B9-FBA5-440C-9CFA-15A31DF3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9A22-40AA-4252-8EF5-EA184773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86E-7779-45FE-A7B6-72BB4908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A7E-E130-423A-AC22-1826E13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104-AE98-4500-8455-B4B40EFD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A7A-1EDA-4BAB-AB3E-F44F061E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A44-0E1E-4BC5-93FF-6A5D066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8FE-B479-4AF4-B6C3-EDB64A2B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923-B1A5-4987-9541-EC69E98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1C8C-9C41-4E84-8FF8-A33B390586D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473-053B-4594-BFAB-2EEFDB6834EA}" type="slidenum">
              <a:rPr b="0" lang="hr-H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66cc"/>
                </a:solidFill>
                <a:latin typeface="Comic Sans MS"/>
              </a:rPr>
              <a:t>Alcuni teorici dell’apprendimento matematic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72556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nno acc. 2013/14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Stadi dello sviluppo cognitivo secondo Dienes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adio del gioco liber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adio delle regol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nalogia strutturale tra gioch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appresentazione grafica della struttura del gioc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appresentazione verbale della real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ensiero form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KENNETH LOVELL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sicologo inglese – si riallaccia a Piaget di cui continua le ricerch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rocesso di sviluppo concetti matematici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olto lento e complesso e tutt’oggi non del tutto compres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rimi concetti vaghi e confus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gradualmente pi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chiari e profond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Sviluppo concetti matematici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econdo Lovell dipende da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quali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di meccanismi cerebral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otivazione ad apprende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imoli dell’ambiente cultural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Pensiero logico = lo strumento pi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potente di cui l’uomo dispong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Gli uomini – gradi molto diversi di capaci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cognitiv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perazioni mentali – risultato dell’azione e dell’esperienz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Conclusione</a:t>
            </a:r>
            <a:br>
              <a:rPr sz="4400"/>
            </a:b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Nella scuola dell’infanzia...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si gettano le basi cognitive e linguistich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non si richiede l’acquisizione di concetti formali n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  <a:ea typeface="Arial"/>
              </a:rPr>
              <a:t>è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 concreti n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  <a:ea typeface="Arial"/>
              </a:rPr>
              <a:t>è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 astrat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Si deve curare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l’organizzazione di numerose esperienze concre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la verbalizzazione delle esperienze compiu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80"/>
                </a:solidFill>
                <a:latin typeface="Arial"/>
              </a:rPr>
              <a:t>lo sviluppo cognitivo in generale e il pensiero divergente in particol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3502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Percezione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– interpretazione di eventi sensorial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Memoria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– registrazione dei dati e loro riestrazione al momento opportu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Generazione di idee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– rielaborazione dei dati per creare nuove ide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Ragionamento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– manipolazione dei dati nella ricerca di rapporti, relazioni, strutture e sistem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80"/>
                </a:solidFill>
                <a:uFillTx/>
                <a:latin typeface="Arial"/>
              </a:rPr>
              <a:t>Valutazione e creazion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80"/>
                </a:solidFill>
                <a:latin typeface="Arial"/>
              </a:rPr>
              <a:t>Attivit</a:t>
            </a:r>
            <a:r>
              <a:rPr b="0" lang="hr-HR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à</a:t>
            </a:r>
            <a:r>
              <a:rPr b="0" lang="hr-HR" sz="4400" spc="-1" strike="noStrike">
                <a:solidFill>
                  <a:srgbClr val="000080"/>
                </a:solidFill>
                <a:latin typeface="Arial"/>
              </a:rPr>
              <a:t> cognitiva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3" name="Picture 5" descr="j0089038[1]"/>
          <p:cNvPicPr/>
          <p:nvPr/>
        </p:nvPicPr>
        <p:blipFill>
          <a:blip r:embed="rId1"/>
          <a:stretch/>
        </p:blipFill>
        <p:spPr>
          <a:xfrm>
            <a:off x="7162920" y="0"/>
            <a:ext cx="1465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adi dello sviluppo mentale secondo Piaget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senso-motoria 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preoperatoria (intuitiva, preoperatoria vera e propria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del pensiero operatorio-concret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formale operativ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Fase logico-astratta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295280" y="6094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80"/>
                </a:solidFill>
                <a:latin typeface="Arial"/>
              </a:rPr>
              <a:t>Stadi dello sviluppo mental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6" name="Picture 6" descr="Piaget"/>
          <p:cNvPicPr/>
          <p:nvPr/>
        </p:nvPicPr>
        <p:blipFill>
          <a:blip r:embed="rId1"/>
          <a:stretch/>
        </p:blipFill>
        <p:spPr>
          <a:xfrm>
            <a:off x="7467480" y="2286000"/>
            <a:ext cx="10875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66cc"/>
                </a:solidFill>
                <a:latin typeface="Arial Black"/>
              </a:rPr>
              <a:t>Processo di apprendimento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71360" y="1642680"/>
            <a:ext cx="7995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terazione attiva con l’ambien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correlazione stretta tra sviluppo fisico e ment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viluppo = adattamento all’ambien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pprendimento – consiste nei processi di 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</a:rPr>
              <a:t>assimilazione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(adattamento agli schemi mentali e di comportamento esistenti) e 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</a:rPr>
              <a:t>accomodamento 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(modifiche degli sch. mentali e di comportamento esistenti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 Black"/>
              </a:rPr>
              <a:t>Periodo pre-operatorio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28440" y="1642680"/>
            <a:ext cx="798660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Caratteristiche: egocentrismo, concentrazione su un aspetto alla volta, irreversibilità del pensiero, ragionamento primitivo, identità dell’oggetto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Operazioni mentali specifiche: realismo, pensiero intuitivo (incapace di ricostruire la sequenza del proprio ragionamento), pensiero magico, animismo, artificialismo (le cose esistono per servire l’uomo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Capace di formulare pre-concetti o protoconcetti, concetti intuitivi e non astratt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7724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- la conoscenza del mondo si sviluppa attraverso azioni mentali e non attraverso i sens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e conoscenze nuove sono costruite sulla base di quelle precedent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e le conoscenze nuove sono in conflitto con le vecchie, bisogna modificare il modo di pens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600200" y="304920"/>
            <a:ext cx="64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80"/>
                </a:solidFill>
                <a:latin typeface="Arial"/>
              </a:rPr>
              <a:t>Teoria del costruttivism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3" name="Picture 5" descr="MCj00889420000[1]"/>
          <p:cNvPicPr/>
          <p:nvPr/>
        </p:nvPicPr>
        <p:blipFill>
          <a:blip r:embed="rId1"/>
          <a:stretch/>
        </p:blipFill>
        <p:spPr>
          <a:xfrm>
            <a:off x="7315200" y="4800600"/>
            <a:ext cx="15271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Lev Vygotskij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6426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trumenti di strutturazione del pensiero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ipetute esperienze attiv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gioco d’immaginazion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linguaggio verb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l clima positiv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terazione soci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o sviluppo della metacognizio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la zona di sviluppo prossim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6" name="Picture 4" descr="Vygotskij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162920" y="2895480"/>
            <a:ext cx="167328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66cc"/>
                </a:solidFill>
                <a:latin typeface="Arial"/>
              </a:rPr>
              <a:t>Zoltan P. Dienes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Matematico di origine ungheres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nventore dei blocchi logic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Idee base di Diene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sfruttare la naturale curiosit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 del bambi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organizzare la conoscenza matematica per scopert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ruolo fondamentale del gioc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80"/>
                </a:solidFill>
                <a:latin typeface="Arial"/>
              </a:rPr>
              <a:t>apprendere – passaggio a forme di comportamento che rispondono meglio ai bisogni del bambin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9" name="Picture 4" descr="Zoltan Dienes"/>
          <p:cNvPicPr/>
          <p:nvPr/>
        </p:nvPicPr>
        <p:blipFill>
          <a:blip r:embed="rId1"/>
          <a:srcRect l="15748" t="19685" r="15748" b="0"/>
          <a:stretch/>
        </p:blipFill>
        <p:spPr>
          <a:xfrm>
            <a:off x="7264440" y="457200"/>
            <a:ext cx="1879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80"/>
                </a:solidFill>
                <a:latin typeface="Arial"/>
              </a:rPr>
              <a:t>La proposta di Dienes</a:t>
            </a:r>
            <a:r>
              <a:rPr b="0" lang="hr-HR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80"/>
                </a:solidFill>
                <a:latin typeface="Arial"/>
              </a:rPr>
              <a:t>(i quattro principi di riferimento)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56800" y="1500120"/>
            <a:ext cx="821052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inamico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la matematica non va insegnata ma “scoperta”, in una continua evoluzione di situazioni psicologiche ambientali (attività in gruppo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ella costruttività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hr-HR" sz="2800" spc="-1" strike="noStrike">
                <a:solidFill>
                  <a:srgbClr val="000080"/>
                </a:solidFill>
                <a:latin typeface="Arial"/>
              </a:rPr>
              <a:t>un concetto si costruisce per tappe successive attraverso le fasi attiva-iconica-simbolica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ella variabilità percettiva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ogni struttura matematica deve essere incontrata in situazioni 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concrete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variate e diverse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er essere astratta veram</a:t>
            </a:r>
            <a:r>
              <a:rPr b="0" lang="hr-HR" sz="24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incipio della variabilità matematica</a:t>
            </a: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: si devono adottare criteri di gradualità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8:16:54Z</dcterms:created>
  <dc:creator>korisnik</dc:creator>
  <dc:description/>
  <dc:language>en-US</dc:language>
  <cp:lastModifiedBy>Miro</cp:lastModifiedBy>
  <dcterms:modified xsi:type="dcterms:W3CDTF">2014-04-01T21:10:59Z</dcterms:modified>
  <cp:revision>30</cp:revision>
  <dc:subject/>
  <dc:title>IL METODO DEL LAVORO SUL TESTO</dc:title>
</cp:coreProperties>
</file>