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FFE-07D2-4C18-A027-91A77C42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877-AC5C-44DB-8C63-24001FD2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0CD-1910-4143-A0DF-75C0170F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D1E-3384-4081-A365-F41B35B1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A90-F5CC-4B07-A98B-647CD24C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0C3-F84E-472D-A475-EA44A37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856-EAA2-4750-9481-70F6135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55C6-0858-4249-B4F8-9BE4E12F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EFA4-6D02-45FF-9349-EC3267A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1E71-B3ED-4037-8EE2-F935395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9EAD-8EFC-4E03-9725-851DADA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4A3-56EC-495D-A3FB-DEB0904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FA83-D897-424B-B4E1-68A434F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8191-1B3F-47D5-909A-8F79DD0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E04A-6C70-4617-85F1-E664990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D785-AA8E-4AD4-8D57-06D1FA15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221-A9C2-43F4-ADD9-F4EF55B7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80C-186E-4014-9B35-2D866C93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EA7-73FE-4716-9796-4E3B526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516-81E7-4547-A130-29AD13A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513-3629-4FF7-B3ED-0D12F5D0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751-BBF0-46DF-A69C-E16C8DF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806-ACC7-4ABE-A42F-417B0E3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B1E-7CE9-4179-8761-70A2D1A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5104-9820-4C81-8006-E4BAC7A709B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26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FAF-C04F-4E10-938F-B933AE5CB4B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400" cy="183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Gli aspetti del numero naturale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0560" y="4800240"/>
            <a:ext cx="453708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perienze ed attiv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util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0666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finire la posizione nello spazio di coppie di persone o ogg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ccessione nel tempo di azioni o fenom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fronto di oggetti in base al colore, all’altezza, alla lunghezza, al peso, alla grand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dinare oggetti utilizzando strategie lib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dinare insiemi secondo la quanti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onoscere l’ordinale che compete ad un oggetto (Mario è arrivato terz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conoscere l’oggetto a cui compete un ordinale (Chi è arrivato terz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spetto ricorsivo del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i numeri che servono per con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siamo distinguere due aspetti: quello puramente linguistico o sequenza delle parole numero e quello transitivo utilizzato per contare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oscere le parole numero nell’ordine convenzional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ndispensabile per co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morizzazione iniziale della sequenza delle parole numero viene pronunciata con sforzo e senza costanza nel risul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e difficol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nell’apprendere a contare oggetti dipende d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assimilazione e recita automatica delle parole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manipolab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gli oggetti (es. gesti o eventi scanditi nel t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stabilire due corrispondenze biunivo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pronuncia del numero e gesto della 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il gesto abbinato all’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util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morizzazione di filastrocche, conte, ritmi musicali, filastrocche dei 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ggio” di oggetti, persone, gesti con filastrocche e conte di vario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inguere il nome dell’oggetto o il numero che gli compete in un conte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scolare gli oggetti e contarli nuo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ggi di insiemi a cui viene aggiunto o tolto un el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ividuazione del successivo o del precedente di un num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Filastrocche e con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38280" y="1213920"/>
            <a:ext cx="6400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, 2, 3 va a passeggio con il 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, 5, 6 guarda bene se ci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7, 8, 9 sei arrivato fino a d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llo tu, io non l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rà 10, sì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L’uccellin che vien dal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quante penne può por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può portare solo tre, 1, 2, 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e0dff"/>
                </a:solidFill>
                <a:latin typeface="Arial"/>
              </a:rPr>
              <a:t>a star sotto tocca a 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L’aspetto di mis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finizione: 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i campioni di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 in cu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uddivisa una data grand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numero solo, ma un numero dimensionato, ci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ccompagnato dall’indicazione dell’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: es. 1 m, 3 kg, 2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ta all’estensione dell’insieme dei numeri naturali ai numer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04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fronto e ordinamento di oggetti rispetto a criteri diversi (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ung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ort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iccolo,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ran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campioni diversi (es. gioco “Regina reginella, quanti passi mi dai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un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isura inventate e strumenti non standardizz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 misura con strumenti di misura standard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empi di sche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esante leggero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cheda peso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numeri cod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29492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numeri usati come indicatori o etichette: es. il numero del telefono fisso o del cellulare, il numero anagrafico, il numero del conto in banca, il numero civico della cas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corrispondenza p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ssere defin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n modo sequenziale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arghe delle macchine, prefisso telefonico, codice di avviamento posta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n modo arbitrario o casual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il numero del pettorale nella gara di corsa, il numero dell’autobus citta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Introduzione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quenza convenzionale delle parole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eggio di og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c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cazione della misura di grand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 occupato in un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i co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i simb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400" y="1428840"/>
            <a:ext cx="6781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o esplicito di simboli, diversi dalle parole, per comunicare: es. ombrello – tempo piovoso, sereno – sole, bambino – contrasseg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imento nell’ambiente di usi dei numeri come co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venziona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l codice (discussioni: Possiamo cambiare la targa? O il numero del telefono? Che cosa succedereb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 numeri simbolo (cifra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295280"/>
            <a:ext cx="6705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imboli convenzionali usati dagli adulti per rappresentare 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screta – le cifre arabe, le cifre romane, le cifre cin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numeri cinesi card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590920" y="3733920"/>
            <a:ext cx="1073160" cy="277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numeri cinesi ord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3962520" y="3657600"/>
            <a:ext cx="10652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numeri egiziani"/>
          <p:cNvPicPr/>
          <p:nvPr/>
        </p:nvPicPr>
        <p:blipFill>
          <a:blip r:embed="rId3">
            <a:lum bright="6000"/>
          </a:blip>
          <a:srcRect l="0" t="0" r="17828" b="0"/>
          <a:stretch/>
        </p:blipFill>
        <p:spPr>
          <a:xfrm>
            <a:off x="5410080" y="4572000"/>
            <a:ext cx="33530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Fasi di apprendimento dei numeri simbol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se di ricerca – produzioni verbali o grafiche “spontanee” de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ase di progettazione educativa – intervento intenzional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ttofasi della fase di ricer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scarabocc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rappresentazione pittogra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rappresentazione ic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rappresentazione simb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l nostro sistema di notazione posizion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o di dieci segni (cifre) diversi (0, 1, 2, 3, 4, 5 ,6, 7, 8,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ribuzione di valori numerici diversi ad una stessa cifra a seconda della posizione nella scri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ggruppamento per dieci per definire il passaggio ad una un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ordine successivo e lo spostamento di un posto a sinistra nella scrittura: 10 un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= 1 decina, 10 decine = 1 centinaio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62320" y="152352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videnziare i numeri scritti nell’ambiente (orologi, calendari, numeri civici, numeri di autob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inguere i segni dei numeri dai segni delle le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conoscere e leggere le cifre a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conoscere e leggere alcuni numeri formati da due cif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are il numero scritto nella codifica e decodifica di semplici messaggi (la data, l’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il numero dei pres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80720" y="0"/>
            <a:ext cx="7162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o della linea numerica per collegare l’aspetto ricorsivo con l’aspetto card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ovina che cosa appari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? - Collegare le cifre in ordine per ottenere immagini di oggetti, animali o p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re il dado con le cifre al posto dei punt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re giochi motori e sociali che comprendano l’uso delle cifre: es. gioco della “tria”, gioco del rubabandiera, la tombola semplificata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c0039"/>
                </a:solidFill>
                <a:latin typeface="Arial"/>
              </a:rPr>
              <a:t>Cerchia la cifra che indica la quantità di oggetti in ogni casella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1" name="Content Placeholder 3" descr="scheda-numeri.jpg"/>
          <p:cNvPicPr/>
          <p:nvPr/>
        </p:nvPicPr>
        <p:blipFill>
          <a:blip r:embed="rId1"/>
          <a:stretch/>
        </p:blipFill>
        <p:spPr>
          <a:xfrm>
            <a:off x="3633840" y="1600200"/>
            <a:ext cx="41101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serciz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38280" y="1356840"/>
            <a:ext cx="6400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rivi tutti gli aspetti del numero che possono essere inseriti nel gioco del mercat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rivi tutti gli aspetti del numero che possono essere inseriti nel gioco dell’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venta un gioco che eserciti almeno un aspetto del 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perazioni con i nume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fronto dei numeri: dapprima con oggetti concreti (scatole sovrapposte, sagome di bambini accostate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grafica schematica (disegno oggetti accostati o  sovrapp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blemi a parole concreti e vicini all’esperienza del bamb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ggiungere uno e togliere uno con oggetti concr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Conservazione del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33720" y="1599840"/>
            <a:ext cx="6705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lineare 8 tazzine e mettere in ogni tazzina un cucchiaino. Chiedere se c’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tesso numero di tazzine e cucchiaini. Togliere i cucchiaini e raggrup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llineare 5 matite, farle contare, poi raggrupparle e chiedere nuovamente quante so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erire le monete nel salvadanaio e alla fine chiedere quante s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Usi delle parole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14360" y="857160"/>
            <a:ext cx="66243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lvia (5 anni): I numeri sono delle cose che quando uno compie gli anni, se uno ne compie sei si mettono sei cand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drea (5 anni): Nelle marce delle macchine si mette la prima, la seconda, la terza o la qu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uca (5 anni): Mentre andavo nell’autobus vedevo delle case con delle porte e sopra ci vedevo dei quadretti con dei num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ra (5 anni): Ho visto sulla stufa che c’erano dei numeri che servivano per il fuoco. Quando volevano che faceva forte, mettevano a cinque. Anche dentro il f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na (4 anni): Posso fare su un foglio tutti i numeri in f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Materiale necessario per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gli eserciz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dadi e i giochi per usar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e scatole dei fiammiferi vu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alvadanai e le monete (vere o 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umerosi oggetti di piccole dimensioni e frequenti nell’uso quotid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linea numerica fino a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Aspetti principali del </a:t>
            </a:r>
            <a:br>
              <a:rPr sz="4000"/>
            </a:b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360" y="1557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Nonostante si usino gli stessi termini linguistici, il numero presen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ricors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cardin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l’aspetto ordin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misu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cod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numeri cif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L’aspetto cardinale dei numeri natura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l’astratto comune ad una classe di insiemi equivalenti rispetto alla relazione di equipot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rmini della lingua italiana usati per indicare la cardin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olo, duo o duetto, terzetto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mbo, terna, quaterna, cin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ppia, paio, dozz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rzina, quartina,… settenario, otto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ppio, triplo, decuplo…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ott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Content Placeholder 3" descr="numero-otto.jpg"/>
          <p:cNvPicPr/>
          <p:nvPr/>
        </p:nvPicPr>
        <p:blipFill>
          <a:blip r:embed="rId1"/>
          <a:stretch/>
        </p:blipFill>
        <p:spPr>
          <a:xfrm>
            <a:off x="3613320" y="1600200"/>
            <a:ext cx="42814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Conquista della cardinalit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el numer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rce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egata ad aspetti concreti della real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erienze disparate canalizzate verso l’astrazione del num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erazioni logiche con gli insi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cquisizione della conserv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della quant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con le cif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Esperienze e attivit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  <a:ea typeface="Arial"/>
              </a:rPr>
              <a:t>à</a:t>
            </a: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hr-HR" sz="4000" spc="-1" strike="noStrike">
                <a:solidFill>
                  <a:srgbClr val="8c0039"/>
                </a:solidFill>
                <a:latin typeface="Arial"/>
              </a:rPr>
              <a:t>utili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341360"/>
            <a:ext cx="7086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rmazione di insiemi con attributi assegnati (tre mattoncini ros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i insiemi con quant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assegnata (insiemi di tre ogget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fronto di due insiemi relativamente alla loro cardin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struzione di corrispondenze biunivoche attraverso l’accostamento di elementi, schemi grafici, confronto a grupp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ssociazione di cifre a insiemi di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Aspetto ordinale del </a:t>
            </a:r>
            <a:br>
              <a:rPr sz="3600"/>
            </a:b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numero natura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finizione: il numero ordinale indica il posto occupato in un ord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istono termini linguistici speciali: primo, secondo, terzo, quarto, sedicesimo, diciassettesimo, diciannove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umeri poco conosciuti dai bambini per frammentari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di esperi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ell’apprendimento legate all’uso della propri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tran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sti in cui vengono usati: gare di corsa, piani delle case, gradini di una scala, vignette di una storia, e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8:30:04Z</dcterms:created>
  <dc:creator>User</dc:creator>
  <dc:description/>
  <dc:language>en-US</dc:language>
  <cp:lastModifiedBy>Miro</cp:lastModifiedBy>
  <dcterms:modified xsi:type="dcterms:W3CDTF">2014-04-22T19:52:51Z</dcterms:modified>
  <cp:revision>44</cp:revision>
  <dc:subject/>
  <dc:title>Il gioco</dc:title>
</cp:coreProperties>
</file>