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782-664D-4D12-A880-0A4AA225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006-1C80-4BC5-8B83-D2A13E17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539-2B57-46F1-8A13-81E30B99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148-1E98-44EE-B071-E39087B7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5BAA-70D3-42EE-9092-A65CA140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B9BF-AB25-45E5-AB7A-9A8670E9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25C0-6A81-4CBF-B6A5-93D1D7B3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CECA-5C15-4B43-BB65-277BF4B5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43C3-A3F3-4F11-9CCF-4E9D8979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407A-AB74-4F77-A0BD-66D0C5C3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441C-8AAA-44DB-A4AA-60513EF0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82D-0D44-490C-B6DE-A5A7335A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1304-BF29-425C-80C0-7CCBC450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7265-DC31-474A-B6AB-9EEEE7E0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A096-525E-4013-B997-A7ADEAC7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69D4-1AEF-440B-A3AA-950B8537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DD48-03B8-4E95-9BCF-E6730863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2027-DF83-4D75-813D-2B861E1A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CC4-88E2-469B-BE44-32B70257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0B8-767D-492E-9405-775A1D1F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807-E770-4971-B9C1-AD138FCD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457-CC46-4EFA-947E-11130D8B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5B0-8C18-405D-80AC-657542BD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9FE-8E7B-4362-8F96-86A3A59E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1027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1028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1029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1032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1033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34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039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040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041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042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043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1044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1047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1048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1049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1050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1051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1052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1053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1054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1055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1056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1057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1058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1059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1060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1061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1062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1063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1064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1065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1066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1067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1068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F138-F391-415D-A377-A109AFBC730A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D1DF-7C31-4DB9-9ACC-F5829D6B7F03}" type="slidenum">
              <a:rPr b="0" lang="hr-HR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6497640" cy="286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200" spc="-1" strike="noStrike">
                <a:solidFill>
                  <a:srgbClr val="3333cc"/>
                </a:solidFill>
                <a:latin typeface="Verdana"/>
              </a:rPr>
              <a:t>Verso il concetto di tempo</a:t>
            </a:r>
            <a:endParaRPr b="0" lang="en-US" sz="5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Verdana"/>
              </a:rPr>
              <a:t>Mr.sc. Nevia Močinić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4400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Il tempo come successione lineare richiede di: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Ordinare gli eventi secondo la </a:t>
            </a:r>
            <a:r>
              <a:rPr b="0" lang="hr-HR" sz="3200" spc="-1" strike="noStrike">
                <a:solidFill>
                  <a:srgbClr val="ff3300"/>
                </a:solidFill>
                <a:latin typeface="Verdana"/>
              </a:rPr>
              <a:t>durata</a:t>
            </a: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 degli intervall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Ordinare gli eventi secondo il loro </a:t>
            </a:r>
            <a:r>
              <a:rPr b="0" lang="hr-HR" sz="3200" spc="-1" strike="noStrike">
                <a:solidFill>
                  <a:srgbClr val="ff3300"/>
                </a:solidFill>
                <a:latin typeface="Verdana"/>
              </a:rPr>
              <a:t>susseguirsi nel temp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La padronanza di queste capacità presuppone l’uso della proprietà transitiv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19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Nel definire la successione lineare è necessari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Stabilire l’ordine di successione degli eventi: es. </a:t>
            </a:r>
            <a:r>
              <a:rPr b="0" i="1" lang="hr-HR" sz="3200" spc="-1" strike="noStrike">
                <a:solidFill>
                  <a:srgbClr val="000066"/>
                </a:solidFill>
                <a:latin typeface="Verdana"/>
              </a:rPr>
              <a:t>eventi della vita familiar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iconoscere la contemporaneità nel presente, nel passato, nel futuro: es. </a:t>
            </a:r>
            <a:r>
              <a:rPr b="0" i="1" lang="hr-HR" sz="3200" spc="-1" strike="noStrike">
                <a:solidFill>
                  <a:srgbClr val="000066"/>
                </a:solidFill>
                <a:latin typeface="Verdana"/>
              </a:rPr>
              <a:t>Mentre i bambini giocano a palla, le bambine saltano la corda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iconoscere eventi reversibili e irreversibili: es. </a:t>
            </a:r>
            <a:r>
              <a:rPr b="0" i="1" lang="hr-HR" sz="3200" spc="-1" strike="noStrike">
                <a:solidFill>
                  <a:srgbClr val="000066"/>
                </a:solidFill>
                <a:latin typeface="Verdana"/>
              </a:rPr>
              <a:t>mescolare bottoni, bruciare la legna, rompere la tazzina, spostare le lancette dell’orologi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142560"/>
            <a:ext cx="84582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66"/>
                </a:solidFill>
                <a:latin typeface="Verdana"/>
              </a:rPr>
              <a:t>Come superare le difficoltà nello stabilire il coordinamento di successioni</a:t>
            </a: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856880"/>
            <a:ext cx="88390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ttraverso il ricorso a illustrazioni, fotografie, disegn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ttraverso il ricorso a immagini mentali concretizzate con opportune rappresentazioni grafich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ttraverso il riordinamento di azioni o eventi compiuto dai bambini stessi: es. vestirsi, lavarsi, usare oggetti comuni, ecc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Tipi di esperienze utili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Osservazione e verbalizzazione di successioni di azioni compiute dal bambino o di eventi esterni;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Esecuzione di attività assegnate in successione (giochi con regole, costruzioni, percorsi, ricette, ….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Codifica di successioni di event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Decodifica di successioni di event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iordinamento di sequenze di event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Esperienze utili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iconoscere la simultaneità e la contemporaneità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iconoscere la reversibilità e l’irreversibilità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iflettere sulle parole (prima, oggi, domani, mentre,…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Correlare successioni diverse di eventi eterogenei: es. parti di una storia e l’accompagnamento musical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Il tempo come durata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ffrontare il problema della durata del tempo significa dare significato a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ll’uguaglianza degli intervalli di temp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l confronto e all’ordinamento degli intervalli di temp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ll’addizione (o congiunzione) di intervalli di temp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Misura del temp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Esperienze precedenti: valutazioni soggettive sui tempi lunghi e tempi corti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Confronti motivati di durate relative a esperienze familiari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Codifica di durate grossolanamente diverse (es., ºººººº, ///////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Riproduzione di intervalli di tempo di durata assegnata (es, disegnare, stare in piedi, stare ad occhi chiusi, ecc.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66"/>
                </a:solidFill>
                <a:latin typeface="Verdana"/>
              </a:rPr>
              <a:t>L’orologio – strumento per la misura del tempo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Costruzione degli orologi- basata sull’osservazione di un fenomeno periodico natural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ssunzione come unità di misura dell’intervallo fra due successive fasi del fenomen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Suddivisione dell’intervallo fra due successive fasi del fenomeno in sottomultipli opportun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Uso dell’orologi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Condiziona la vita di adulti e bambin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Conosciuto dai bambini sia per le modalità d’uso che per il vocabolario ad esso relativo (numeri – nomi delle ore, parti dell’orologio, tipi di orologi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Importante per costruirsi sistemi di riferimento temporali propri degli adult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Esperienze temporali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Esperienze temporali molto più complesse delle altre grandezze (grandezza, peso, volume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iflessione: Si può misurare il tempo? Con che cosa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Orologi analogici soppiantati dagli orologi digital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3" name="Picture 4" descr="or-analogico"/>
          <p:cNvPicPr/>
          <p:nvPr/>
        </p:nvPicPr>
        <p:blipFill>
          <a:blip r:embed="rId1"/>
          <a:stretch/>
        </p:blipFill>
        <p:spPr>
          <a:xfrm>
            <a:off x="2133720" y="480060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or-digitale"/>
          <p:cNvPicPr/>
          <p:nvPr/>
        </p:nvPicPr>
        <p:blipFill>
          <a:blip r:embed="rId2"/>
          <a:stretch/>
        </p:blipFill>
        <p:spPr>
          <a:xfrm>
            <a:off x="4800600" y="4648320"/>
            <a:ext cx="2436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Concetti matematici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Il concetto di tempo – oggetto di indagine di filosofi, biologi, fisici, antropologi, epistemologi, ecc.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Ci sono elementi matematici nel concetto di tempo?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spetti del tempo studiati dalla protomatematica: </a:t>
            </a:r>
            <a:r>
              <a:rPr b="0" lang="hr-HR" sz="3200" spc="-1" strike="noStrike">
                <a:solidFill>
                  <a:srgbClr val="ff3300"/>
                </a:solidFill>
                <a:latin typeface="Verdana"/>
              </a:rPr>
              <a:t>a)</a:t>
            </a: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ff3300"/>
                </a:solidFill>
                <a:latin typeface="Verdana"/>
              </a:rPr>
              <a:t>durate temporali; b) successioni temporal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Durate t. (misura), successioni t. (attività logica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Vantaggi orologio digital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Maggiore facilità di lettura delle or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In accordo con le locuzioni interessanti per i bambin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apido alternarsi dei numeri - rende percettivamente evidente lo scorrere del temp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7" name="Picture 4" descr="or-digitale"/>
          <p:cNvPicPr/>
          <p:nvPr/>
        </p:nvPicPr>
        <p:blipFill>
          <a:blip r:embed="rId1"/>
          <a:stretch/>
        </p:blipFill>
        <p:spPr>
          <a:xfrm>
            <a:off x="3352680" y="1219320"/>
            <a:ext cx="24368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Vantaggi orologio analogic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bitua ad identificare il tempo di un evento in riferimento alle varie ore della giornat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Sottolinea la periodicità di certi event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Stima dell’ora più significativa della lettura precisa sull’orologio digital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0" name="Picture 4" descr="or-analogico"/>
          <p:cNvPicPr/>
          <p:nvPr/>
        </p:nvPicPr>
        <p:blipFill>
          <a:blip r:embed="rId1"/>
          <a:stretch/>
        </p:blipFill>
        <p:spPr>
          <a:xfrm>
            <a:off x="3581280" y="1295280"/>
            <a:ext cx="18288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Esperienze utili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Osservare e descrivere vari tipi di orologi analogici: sveglie, pendole, orologi da cucina…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Fare ipotesi sul loro uso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Fare ipotesi sul loro funzionamento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Disegno della posizione delle lancette in vari momenti significativi della giornata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Associazione di alcune ore con attività significative della giornata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Avvio alla lettura e alla messa a punto dell’orologio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Uso e descrizione di altri strumenti: clessidre, cronometri, meridiane, ecc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Uso del calendari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Uso e riflessione sul calendario mensile delle presenze: appello, lettura della data. Che giorno era ieri? Che giorno sarà domani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Uso del calendario settimanale (le attività programmate) e giornaliero (le attività quotidiane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Uso del calendario “circolare” dell’anno: i mesi, le stagioni, i compleanni divisi per mes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66"/>
                </a:solidFill>
                <a:latin typeface="Verdana"/>
              </a:rPr>
              <a:t>Uso del calendario nell’educazione ambiental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egistrazione del tempo meteorologico sul calendario settimanal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Osservazione e registrazione dei cambiamenti nella vita di un animaletto (es. chiocciola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Osservazione e registrazione della metamorfosi da girino in ran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Osservazione e registrazione dello sviluppo di una pianta – dal seme alla pianta con frutt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66"/>
                </a:solidFill>
                <a:latin typeface="Verdana"/>
              </a:rPr>
              <a:t>Costruzione dell’orizzonte temporal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appresentazione del tempo in cui inserire gli event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Dominio graduale del passato, del presente e del futur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La capacità di localizzare avvenimenti cresce con l’età e si sviluppa contemporaneamente nei due sens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Iniziare la riflessione sull’orizzonte temporale nella scuola matern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Passato, presente, futur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iflessione sul trascorrere del tempo: come ci accorgiamo del tempo che passa? Siamo cambiati dall’anno scorso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Presente – come coscienza degli avvenimenti attual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Passato – come memoria (ricordi individuali, familiari, collettivi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Futuro – come anticipazione di eventi (a breve, a medio, a lungo termine)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4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Percezione del trascorrere del temp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Verdana"/>
              </a:rPr>
              <a:t>La percezione del "tempo" è la presa di coscienza che la realtà di cui siamo parte si è materialmente modificata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Verdana"/>
              </a:rPr>
              <a:t>Se osservo una formica che si muove</a:t>
            </a: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 le diverse posizioni da lei occupate </a:t>
            </a:r>
            <a:r>
              <a:rPr b="0" lang="it-IT" sz="3200" spc="-1" strike="noStrike">
                <a:solidFill>
                  <a:srgbClr val="000066"/>
                </a:solidFill>
                <a:latin typeface="Verdana"/>
              </a:rPr>
              <a:t>certifica</a:t>
            </a: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no</a:t>
            </a:r>
            <a:r>
              <a:rPr b="0" lang="it-IT" sz="3200" spc="-1" strike="noStrike">
                <a:solidFill>
                  <a:srgbClr val="000066"/>
                </a:solidFill>
                <a:latin typeface="Verdana"/>
              </a:rPr>
              <a:t> che è trascorso un intervallo di tempo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Il concetto di tempo nella nostra cultura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Definizione: a) successione illimitata di istanti in cui avvengono gli eventi; b) tempo atmosferic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Lingua inglese – termini separati per i due significati (time, weather)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Bambini – frequente confusione tra i due aspetti del temp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Spiegazione probabile – stretto legame tra aspetti della natura, tempo atmosferico e scorrere del temp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Rappresentazione del temp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) Attraverso il linguaggio: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i termini temporali: nomi dei giorni e dei mesi, termini legati alla misura del tempo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gli avverbi temporali: prima, ora, dopo, adesso, ieri, oggi, sempre, mai, subito, presto, spesso…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le congiunzioni temporali: quando, che allora, finché, mentre, allorché…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le costruzioni sintattiche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i tempi dei verb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66"/>
                </a:solidFill>
                <a:latin typeface="Verdana"/>
              </a:rPr>
              <a:t>Attraverso sistemi simbolici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rappresentazioni grafiche circolari o a spirale: es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                    </a:t>
            </a: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invern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autunno                       primaver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                   </a:t>
            </a: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estat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2057400" y="2971800"/>
            <a:ext cx="814320" cy="6094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AutoShape 13"/>
          <p:cNvSpPr/>
          <p:nvPr/>
        </p:nvSpPr>
        <p:spPr>
          <a:xfrm rot="5400000">
            <a:off x="5676840" y="2857320"/>
            <a:ext cx="60948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AutoShape 14"/>
          <p:cNvSpPr/>
          <p:nvPr/>
        </p:nvSpPr>
        <p:spPr>
          <a:xfrm rot="10800000">
            <a:off x="5562720" y="4114440"/>
            <a:ext cx="814320" cy="6094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AutoShape 15"/>
          <p:cNvSpPr/>
          <p:nvPr/>
        </p:nvSpPr>
        <p:spPr>
          <a:xfrm rot="16200000">
            <a:off x="2196000" y="3899520"/>
            <a:ext cx="533520" cy="9637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66"/>
                </a:solidFill>
                <a:latin typeface="Verdana"/>
              </a:rPr>
              <a:t>Rappresentazioni grafiche lineari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2101320"/>
            <a:ext cx="853416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Verdana"/>
              </a:rPr>
              <a:t>Successioni temporali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5" name="Picture 9" descr="bulbi"/>
          <p:cNvPicPr/>
          <p:nvPr/>
        </p:nvPicPr>
        <p:blipFill>
          <a:blip r:embed="rId1"/>
          <a:srcRect l="66673" t="25006" r="0" b="13643"/>
          <a:stretch/>
        </p:blipFill>
        <p:spPr>
          <a:xfrm>
            <a:off x="533520" y="3809880"/>
            <a:ext cx="1523880" cy="2057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germoglio"/>
          <p:cNvPicPr/>
          <p:nvPr/>
        </p:nvPicPr>
        <p:blipFill>
          <a:blip r:embed="rId2"/>
          <a:stretch/>
        </p:blipFill>
        <p:spPr>
          <a:xfrm>
            <a:off x="2514600" y="3429000"/>
            <a:ext cx="1730520" cy="241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tulipano"/>
          <p:cNvPicPr/>
          <p:nvPr/>
        </p:nvPicPr>
        <p:blipFill>
          <a:blip r:embed="rId3"/>
          <a:srcRect l="6605" t="0" r="14225" b="0"/>
          <a:stretch/>
        </p:blipFill>
        <p:spPr>
          <a:xfrm>
            <a:off x="6781680" y="3124080"/>
            <a:ext cx="1828800" cy="2729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bocciolo"/>
          <p:cNvPicPr/>
          <p:nvPr/>
        </p:nvPicPr>
        <p:blipFill>
          <a:blip r:embed="rId4"/>
          <a:stretch/>
        </p:blipFill>
        <p:spPr>
          <a:xfrm>
            <a:off x="4495680" y="3429000"/>
            <a:ext cx="20113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Costruzione del senso </a:t>
            </a:r>
            <a:br>
              <a:rPr sz="4400"/>
            </a:br>
            <a:r>
              <a:rPr b="0" lang="hr-HR" sz="4400" spc="-1" strike="noStrike">
                <a:solidFill>
                  <a:srgbClr val="000066"/>
                </a:solidFill>
                <a:latin typeface="Verdana"/>
              </a:rPr>
              <a:t>del tempo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66"/>
                </a:solidFill>
                <a:latin typeface="Verdana"/>
              </a:rPr>
              <a:t>Il tempo come successione periodica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66"/>
                </a:solidFill>
                <a:latin typeface="Verdana"/>
              </a:rPr>
              <a:t>Il tempo come successione linear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66"/>
                </a:solidFill>
                <a:latin typeface="Verdana"/>
              </a:rPr>
              <a:t>Il tempo come durata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66"/>
                </a:solidFill>
                <a:latin typeface="Verdana"/>
              </a:rPr>
              <a:t>La misura del tempo 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66"/>
                </a:solidFill>
                <a:latin typeface="Verdana"/>
              </a:rPr>
              <a:t>La costruzione dell’orizzonte temporal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66"/>
                </a:solidFill>
                <a:latin typeface="Verdana"/>
              </a:rPr>
              <a:t>Il tempo come successione periodica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Trae origine dalla presa di coscienza dei ritmi corporei, dall’adattamento ai ritmi dell’ambiente: es. giorno e nott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Esperienze:osservazione e verbalizzazione di fenomeni naturali che si ripetono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Esecuzione di attività periodiche assegnate verbalmente, graficamente, per imitazion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Codifica di fenomeni periodici (convenzioni personali, di gruppo, comuni alla maggioranza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Verdana"/>
              </a:rPr>
              <a:t>Decodifica di schemi grafici di fenomeni periodici (propri o altrui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7:37:59Z</dcterms:created>
  <dc:creator>miro</dc:creator>
  <dc:description/>
  <dc:language>en-US</dc:language>
  <cp:lastModifiedBy>Miro</cp:lastModifiedBy>
  <dcterms:modified xsi:type="dcterms:W3CDTF">2013-10-08T20:26:22Z</dcterms:modified>
  <cp:revision>48</cp:revision>
  <dc:subject/>
  <dc:title>La formazione dei concetti</dc:title>
</cp:coreProperties>
</file>