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AB21-09D9-45E6-BF6C-855F92E9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1E5-C707-4596-B047-5C933FC9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741D-BBA5-45AB-96D2-13794692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D24-150A-4DBA-B048-B58F248A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E2A9-0935-4EE6-A0F4-7D6D049C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D592-59F8-4CBE-8769-B42EBB7E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56FB-D924-4603-9A45-C34E2B7B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C09F-13F5-4A06-BEEE-99AFB283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4B60-B7C6-4E1F-9E61-DDF5FA30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2B4B-3550-48CF-9E55-6759D5B3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2917-098F-46F1-806B-23E84997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70B9-CC63-4E97-B876-CCBAF76A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1DEF-F3C3-4C8B-8FA0-6B0A8812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5E5C-CAFE-4351-A773-DF7CB3F1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4BCF-5FFA-40E5-AECC-A44B65CF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0A95-3405-4D3D-A52F-1ECD29CE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D07A-D0C6-48DF-9184-9BD320C9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5693-80A6-4665-8FF8-F12E2C90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C9C-E157-4096-83B0-A98475FF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E43-90EB-469C-8847-3DE28D60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AE2-9808-42BD-A88A-8F5CD2C6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E573-1133-48BD-8CF0-02615397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D7D-58F2-41E5-BAB6-06638546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6DE-6C0E-43B7-87F3-51A6E637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B8AE-5C7B-426E-8BBA-0F6D6DAC2096}" type="slidenum">
              <a:rPr b="1" lang="hr-H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60D6-38C7-458D-820B-AA86A7C74AEC}" type="slidenum">
              <a:rPr b="1" lang="hr-H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66"/>
                </a:solidFill>
                <a:latin typeface="Arial"/>
              </a:rPr>
              <a:t>La misura e le misurazion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66"/>
                </a:solidFill>
                <a:latin typeface="Arial"/>
              </a:rPr>
              <a:t>Mr.sc. Nevia Močini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Problema della conserva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tudi sulla comprensione delle grandezze fisiche e geometriche nell’et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prescol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ncapacit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di riconoscere la conservazione della quantit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dopo trasformazioni apparenti (tagliare a pezzetti, schiacciare, versare in contenitori di forma divers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ntuizioni suggerite dalla variabile percettiva pi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ù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evid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Concetto di conservazione = prerequisito per l’attivit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di misura               esclude le esperienze di mis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2743200" y="5943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Misura = area di sviluppo prossima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Esperienze non pienamente comprese dal bambi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Utili per una successiva integrazione nella rete delle concettualizzazi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Conservazione = non condizione a priori dell’esperienza di misura, ma la misura facilita la conquista del concetto di conserv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4" descr="C:\Program Files\Common Files\Microsoft Shared\Clipart\cagcat50\pe01931_.wmf"/>
          <p:cNvPicPr/>
          <p:nvPr/>
        </p:nvPicPr>
        <p:blipFill>
          <a:blip r:embed="rId1"/>
          <a:stretch/>
        </p:blipFill>
        <p:spPr>
          <a:xfrm>
            <a:off x="4114800" y="5715000"/>
            <a:ext cx="13032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Misurare e ordina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Ordinare – esperienza necessaria e indispensabile prima delle misurazi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Scale ordinali – presenti in numerosi settori della scienza e della tecnica: es. scala Richter, scala Mohs, indice forza del m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Ordinare – sistemare in ordine secondo la lunghezza, secondo il peso, o la durata del tempo, ecc.- gradino intermedio verso la misura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Confrontare gli oggetti sistemati in un ordinament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Itinerari per l’approccio alla mis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</a:rPr>
              <a:t>Misura diretta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– senza strumenti = confronto diretto con un camp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3366"/>
                </a:solidFill>
                <a:uFillTx/>
                <a:latin typeface="Arial"/>
              </a:rPr>
              <a:t>Misura indiretta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– con l’uso di strumenti standardizzati = confronto con uno strumento usato dagli adul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La misura diretta – risponde meglio all’esigenza del bambino di scoprire da s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strategie di soluzione dei problemi di misura e di individuare procedure adegu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Misura diretta - proced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Osservazione degli oggetti da misur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ndividuazione di propriet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da misur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ndividuazione di unit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di mis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Descrizione dei procedimenti d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congiunzione dei campioni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replicazione dei campion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Conteggio dei campioni (grandezze frazionabili) o dei gesti (grandezze non frazionabil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ndicazione della misura (numero e unit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di misur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Misura indiretta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Osservazione degli strumenti standardizzati di misura: orologi, calendari, contenitori graduati, metri, righelli, ruote, bilance, termometri, ec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ndividuazione degli oggetti da misur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ndividuazione delle propriet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osservabili con tali strumen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Descrizione dei procedimenti di uso degli strumenti (a lettura diretta, con scala numeric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Lettura dei risulta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ndicazione della misura (numero e unit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 di misur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5:52:38Z</dcterms:created>
  <dc:creator>miro</dc:creator>
  <dc:description/>
  <dc:language>en-US</dc:language>
  <cp:lastModifiedBy>Miro</cp:lastModifiedBy>
  <dcterms:modified xsi:type="dcterms:W3CDTF">2014-06-03T19:00:51Z</dcterms:modified>
  <cp:revision>4</cp:revision>
  <dc:subject/>
  <dc:title>La misura e le misurazioni</dc:title>
</cp:coreProperties>
</file>