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EE6-BFDB-4A43-9E89-390DB5DE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8B1-7864-4B72-A9CA-C76E6C8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29C-CE43-4F08-BDF3-43F1B2EA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E8A-DEC3-4771-9DED-A9A239DB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E1A-EB78-41A2-9C8E-8F4EE517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E808-5055-4299-8DEA-2B80C9F3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E11-CFF8-4922-90F3-287E312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140-FA7A-49B3-A248-1EE9BAC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4A4A-B4C8-4EF5-B54E-C776E8F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6B1-A68C-4D68-A857-F9FEC63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6D0F-F4D6-442F-A6A0-3819F22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328-E6B1-4FEB-BA71-5E8C127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363B-7A8B-43F2-A9DB-D6A2736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2CE-0795-4333-9D82-9F1FC78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E3F0-DEEF-44EA-87FE-9D265DE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A0F5-2592-43EE-8E3E-23FC676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468-2B87-421C-BBFC-E68DAAFD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F91-CF68-4FC8-A400-324E6449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A49-791F-4C24-8319-4527223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EB3-3FE8-4ED7-87EF-2F6BAEA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F5E-1CFB-45F1-8331-0BD872C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024-BDA9-4ECC-AC20-DE87F9E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758-129E-4DA1-9936-74437B8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14E-BA4C-4C3E-853B-E6179B7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25A6-6C37-4460-A31B-D11EF041A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8F5-966E-4845-8029-90839C2943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ntroduzione alla protomatema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troduzione alla didattica ambientale e protomatemat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Educazione Prescola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II ann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7d47d"/>
                </a:solidFill>
                <a:latin typeface="Arial"/>
              </a:rPr>
              <a:t>I contenuti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 del program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ormativi: sollecitare lo sviluppo delle capac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intellettua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Di conseguenza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necessario sape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quali sono i processi cognitivi in formazione a quest’e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quali apprendimenti sono in grado di acquisire i bambi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tra quali conoscenze della matematica attinge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E’ necessario attivare la connessione tra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ente in svilupp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organizzate nella scuola mater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siderazioni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non trasmettere conoscenz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non insegnare formalismi vuo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rmulare precisi obiettivi cognitiv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dividuare congruenti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educat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cegliere contenuti che diano forma a obiettivi e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l concetto di protomatema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2f1311"/>
                </a:solidFill>
                <a:uFillTx/>
                <a:latin typeface="Arial"/>
              </a:rPr>
              <a:t>La protomatematica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=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un modo pratico di rapportarsi nei confronti dei dati della real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fisica, dei pensieri, delle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complesse. Non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la matematica astratta delle formule, delle operazioni complic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l</a:t>
            </a:r>
            <a:r>
              <a:rPr b="0" lang="hr-HR" sz="3200" spc="-1" strike="noStrike" u="sng">
                <a:solidFill>
                  <a:srgbClr val="2f1311"/>
                </a:solidFill>
                <a:uFillTx/>
                <a:latin typeface="Arial"/>
              </a:rPr>
              <a:t> protoconcetto –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orma intuitiva di concetto, idea intuitiva di qualcosa che si forma in vir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di precise capac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cognitiv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Il processo di matematizzazione del bambin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esa di coscienza di relazioni costanti col mutare delle situa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ocesso di natura intuitiva in e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prescol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isvolto didattic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ilotare il bambino a intuire le rela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Picture 3" descr="uovo-pulcino.jpg"/>
          <p:cNvPicPr/>
          <p:nvPr/>
        </p:nvPicPr>
        <p:blipFill>
          <a:blip r:embed="rId3"/>
          <a:stretch/>
        </p:blipFill>
        <p:spPr>
          <a:xfrm>
            <a:off x="857160" y="4643280"/>
            <a:ext cx="1006560" cy="754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uova-quaglia.jpg"/>
          <p:cNvPicPr/>
          <p:nvPr/>
        </p:nvPicPr>
        <p:blipFill>
          <a:blip r:embed="rId4"/>
          <a:stretch/>
        </p:blipFill>
        <p:spPr>
          <a:xfrm>
            <a:off x="2428920" y="4643280"/>
            <a:ext cx="990720" cy="66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quaglia1.jpg"/>
          <p:cNvPicPr/>
          <p:nvPr/>
        </p:nvPicPr>
        <p:blipFill>
          <a:blip r:embed="rId5"/>
          <a:stretch/>
        </p:blipFill>
        <p:spPr>
          <a:xfrm>
            <a:off x="3571920" y="4643280"/>
            <a:ext cx="1028520" cy="808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uovo-pernice.jpg"/>
          <p:cNvPicPr/>
          <p:nvPr/>
        </p:nvPicPr>
        <p:blipFill>
          <a:blip r:embed="rId6"/>
          <a:stretch/>
        </p:blipFill>
        <p:spPr>
          <a:xfrm>
            <a:off x="4929120" y="471492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pernice rossa.jpg"/>
          <p:cNvPicPr/>
          <p:nvPr/>
        </p:nvPicPr>
        <p:blipFill>
          <a:blip r:embed="rId7"/>
          <a:srcRect l="7045" t="0" r="32424" b="0"/>
          <a:stretch/>
        </p:blipFill>
        <p:spPr>
          <a:xfrm>
            <a:off x="6000840" y="4643280"/>
            <a:ext cx="863640" cy="951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8"/>
          <p:cNvSpPr/>
          <p:nvPr/>
        </p:nvSpPr>
        <p:spPr>
          <a:xfrm>
            <a:off x="582120" y="5643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pulci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796840" y="55720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quagl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082480" y="5715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Uovo - perni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63520" y="428760"/>
            <a:ext cx="73864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                    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mpegnarlo in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di riflessione analit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uidarlo alla formulazione verbale del concet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5" descr="borsetta.jpg"/>
          <p:cNvPicPr/>
          <p:nvPr/>
        </p:nvPicPr>
        <p:blipFill>
          <a:blip r:embed="rId5"/>
          <a:stretch/>
        </p:blipFill>
        <p:spPr>
          <a:xfrm>
            <a:off x="10000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borsetta.jpg"/>
          <p:cNvPicPr/>
          <p:nvPr/>
        </p:nvPicPr>
        <p:blipFill>
          <a:blip r:embed="rId6"/>
          <a:stretch/>
        </p:blipFill>
        <p:spPr>
          <a:xfrm>
            <a:off x="19288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borsetta.jpg"/>
          <p:cNvPicPr/>
          <p:nvPr/>
        </p:nvPicPr>
        <p:blipFill>
          <a:blip r:embed="rId7"/>
          <a:stretch/>
        </p:blipFill>
        <p:spPr>
          <a:xfrm>
            <a:off x="2857680" y="571680"/>
            <a:ext cx="769680" cy="884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borsetta.jpg"/>
          <p:cNvPicPr/>
          <p:nvPr/>
        </p:nvPicPr>
        <p:blipFill>
          <a:blip r:embed="rId8"/>
          <a:stretch/>
        </p:blipFill>
        <p:spPr>
          <a:xfrm>
            <a:off x="442908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borsetta.jpg"/>
          <p:cNvPicPr/>
          <p:nvPr/>
        </p:nvPicPr>
        <p:blipFill>
          <a:blip r:embed="rId9"/>
          <a:stretch/>
        </p:blipFill>
        <p:spPr>
          <a:xfrm>
            <a:off x="5429160" y="571680"/>
            <a:ext cx="770040" cy="88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ela.jpg"/>
          <p:cNvPicPr/>
          <p:nvPr/>
        </p:nvPicPr>
        <p:blipFill>
          <a:blip r:embed="rId10"/>
          <a:stretch/>
        </p:blipFill>
        <p:spPr>
          <a:xfrm>
            <a:off x="1000080" y="178596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ela.jpg"/>
          <p:cNvPicPr/>
          <p:nvPr/>
        </p:nvPicPr>
        <p:blipFill>
          <a:blip r:embed="rId11"/>
          <a:stretch/>
        </p:blipFill>
        <p:spPr>
          <a:xfrm>
            <a:off x="1857240" y="178596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mela.jpg"/>
          <p:cNvPicPr/>
          <p:nvPr/>
        </p:nvPicPr>
        <p:blipFill>
          <a:blip r:embed="rId12"/>
          <a:stretch/>
        </p:blipFill>
        <p:spPr>
          <a:xfrm>
            <a:off x="2714760" y="1785960"/>
            <a:ext cx="684000" cy="728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mela.jpg"/>
          <p:cNvPicPr/>
          <p:nvPr/>
        </p:nvPicPr>
        <p:blipFill>
          <a:blip r:embed="rId13"/>
          <a:stretch/>
        </p:blipFill>
        <p:spPr>
          <a:xfrm>
            <a:off x="4500720" y="1857240"/>
            <a:ext cx="684000" cy="72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mela.jpg"/>
          <p:cNvPicPr/>
          <p:nvPr/>
        </p:nvPicPr>
        <p:blipFill>
          <a:blip r:embed="rId14"/>
          <a:stretch/>
        </p:blipFill>
        <p:spPr>
          <a:xfrm>
            <a:off x="5429160" y="1857240"/>
            <a:ext cx="684360" cy="728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orso_1.jpg"/>
          <p:cNvPicPr/>
          <p:nvPr/>
        </p:nvPicPr>
        <p:blipFill>
          <a:blip r:embed="rId15"/>
          <a:stretch/>
        </p:blipFill>
        <p:spPr>
          <a:xfrm>
            <a:off x="714240" y="2571840"/>
            <a:ext cx="1727280" cy="1465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orso_1.jpg"/>
          <p:cNvPicPr/>
          <p:nvPr/>
        </p:nvPicPr>
        <p:blipFill>
          <a:blip r:embed="rId16"/>
          <a:stretch/>
        </p:blipFill>
        <p:spPr>
          <a:xfrm>
            <a:off x="2571840" y="3143160"/>
            <a:ext cx="1008000" cy="855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merlo.jpg"/>
          <p:cNvPicPr/>
          <p:nvPr/>
        </p:nvPicPr>
        <p:blipFill>
          <a:blip r:embed="rId17"/>
          <a:srcRect l="0" t="9081" r="40236" b="12801"/>
          <a:stretch/>
        </p:blipFill>
        <p:spPr>
          <a:xfrm>
            <a:off x="4071960" y="3000240"/>
            <a:ext cx="1044720" cy="89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0" descr="merlo.jpg"/>
          <p:cNvPicPr/>
          <p:nvPr/>
        </p:nvPicPr>
        <p:blipFill>
          <a:blip r:embed="rId18"/>
          <a:srcRect l="0" t="9091" r="40246" b="12781"/>
          <a:stretch/>
        </p:blipFill>
        <p:spPr>
          <a:xfrm>
            <a:off x="5357880" y="3286080"/>
            <a:ext cx="612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Processo di matematizzazione in relazione alla scuol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76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ase intuitiva iniziale – scuola materna e primo ciclo scuola elementa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Fase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riflessiva e astratta – successivi gradi scolastic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ompito della scuola materna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 stabilire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, obiettivi e contenuti da inserire nel curricolo scolastico secondo le tappe di sviluppo cognitivo del bambi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1311"/>
                </a:solidFill>
                <a:latin typeface="Arial"/>
              </a:rPr>
              <a:t>Matematica antica e moder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77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ima di Pitagora il matematico era il sapiente, un uomo di cultura che aveva dedicato la vita alla ricerca della conoscenz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itagora scopre che molte leggi della                     natura possono esprimersi attraverso rapporti numerici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s. le dimensioni delle colonne dei templ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e dimensioni delle porte e dei mur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 suoni nella musica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l sorgere e il tramontare del sol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l susseguirsi delle stagioni e degli anni; ec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4" descr="Pitagora"/>
          <p:cNvPicPr/>
          <p:nvPr/>
        </p:nvPicPr>
        <p:blipFill>
          <a:blip r:embed="rId8"/>
          <a:stretch/>
        </p:blipFill>
        <p:spPr>
          <a:xfrm>
            <a:off x="6572160" y="1071720"/>
            <a:ext cx="99072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Conclusione di Pitagor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u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osservabile in rapporti di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, che egli raccolse nella frase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Tu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"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Gli allievi di Pitagora tramandano il detto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La matematic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la scienza della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Significato: In quanto ricerca della conoscenza in tutti i campi, la matematica studia le leggi del mondo espresse sempre da rapporti di numeri inter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Matematica come scienza 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dei numer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Nel greco antico non c’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distinzione tra le parole numero e quanti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Nasce il detto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La matematic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la scienza dei numeri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Anche la geometria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 regolata da rapporti di numeri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es.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47636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69236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908000" y="5084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124000" y="5084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47636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69236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1908000" y="5300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124000" y="5300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147636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169236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908000" y="5516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212400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2124000" y="5732640"/>
            <a:ext cx="144360" cy="14256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1908000" y="573408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1692360" y="573408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1476360" y="573408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3635280" y="551664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327672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3492360" y="566100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370836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320364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341964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3635280" y="580536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385128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067280" y="5805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334800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AutoShape 30"/>
          <p:cNvSpPr/>
          <p:nvPr/>
        </p:nvSpPr>
        <p:spPr>
          <a:xfrm>
            <a:off x="3924360" y="566100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31"/>
          <p:cNvSpPr/>
          <p:nvPr/>
        </p:nvSpPr>
        <p:spPr>
          <a:xfrm>
            <a:off x="3851280" y="551664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3492360" y="5373720"/>
            <a:ext cx="14472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33"/>
          <p:cNvSpPr/>
          <p:nvPr/>
        </p:nvSpPr>
        <p:spPr>
          <a:xfrm>
            <a:off x="3708360" y="537372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AutoShape 34"/>
          <p:cNvSpPr/>
          <p:nvPr/>
        </p:nvSpPr>
        <p:spPr>
          <a:xfrm>
            <a:off x="3564000" y="5229360"/>
            <a:ext cx="144360" cy="142920"/>
          </a:xfrm>
          <a:prstGeom prst="flowChartConnector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Campi di studio della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 matematica antic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in modo sistemat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ocalizzare – stabilire posizion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rogettare forme – costruzione di edifici, strade, ponti, macchin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tare e calcol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tabilire relazioni tra oggetti, person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rganizzare attiv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in modo struttur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frontare e ordina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La matematica nella </a:t>
            </a:r>
            <a:br>
              <a:rPr sz="3600"/>
            </a:b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scuola matern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Si recupera il significato originale della matematic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povera di significati prop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pi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ricca di disponibil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verso le altre discipl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matica come metodo, come linguaggio, adatta ad essere integrata con altri campi d’esperienz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Che cosa non si deve insegnar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teoria degli insiem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logica astratta                    discipl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geometria astratta             codific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’aritmetica astrat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’ sconsigliabile qualsiasi formalismo vuoto (es. simboli: + - =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&lt;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lettere, cifre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716360" y="1700280"/>
            <a:ext cx="287280" cy="1873080"/>
          </a:xfrm>
          <a:custGeom>
            <a:avLst/>
            <a:gdLst>
              <a:gd name="textAreaLeft" fmla="*/ 0 w 287280"/>
              <a:gd name="textAreaRight" fmla="*/ 10368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7d47d"/>
                </a:solidFill>
                <a:latin typeface="Arial"/>
              </a:rPr>
              <a:t>E’ consigliabile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Eseguire giochi didattici con regole matematich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su problemi concreti della vita quotidia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agionare sulla posizione di oggetti a portata di man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frontare la quantit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di persone, animali, co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Contare e ordinare oggetti concre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isurare oggetti o ambien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Il programma di matematica nella </a:t>
            </a:r>
            <a:br>
              <a:rPr sz="3600"/>
            </a:br>
            <a:r>
              <a:rPr b="0" lang="hr-HR" sz="3600" spc="-1" strike="noStrike">
                <a:solidFill>
                  <a:srgbClr val="2f1311"/>
                </a:solidFill>
                <a:latin typeface="Arial"/>
              </a:rPr>
              <a:t>scuola materna deve esser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773000"/>
            <a:ext cx="7386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Elastico, flessibile, a maglie larghe per quanto riguarda i contenut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eciso per quanto riguarda gli obiettivi e le tipologie di attivi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muovere lo sviluppo intellettuale, emotivo-affettivo, sociale, psicomotorio del bambi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22:48Z</dcterms:created>
  <dc:creator>Miro</dc:creator>
  <dc:description/>
  <dc:language>en-US</dc:language>
  <cp:lastModifiedBy>Miro</cp:lastModifiedBy>
  <dcterms:modified xsi:type="dcterms:W3CDTF">2014-03-03T19:28:04Z</dcterms:modified>
  <cp:revision>45</cp:revision>
  <dc:subject/>
  <dc:title>Introduzione alla protomatematica</dc:title>
</cp:coreProperties>
</file>