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441-14C3-47C5-82BA-B4E14FFB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2F1-DD92-48EF-98FE-A69FA1CE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7F0-3F91-48F6-B26C-011CEB7E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1BF-1AF7-45A7-B659-289599E6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EE05-9D59-44AA-B532-0723907B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FC46-028B-4F4E-99BA-BE6A1173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887B-14CD-4AC0-B3C3-B2754EB1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7BD5-C930-4787-A0E5-93E1D177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7058-6FF6-4F09-A5F6-B2944934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C7F1-6EC5-4E20-A8FF-BD0BA305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23A4-2F50-4AA9-9F79-F125911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965-22AA-4C78-9C20-ECFFC2F5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E50C-0340-4541-83C0-776B4AE5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6512-4C85-4791-958F-C2359FF2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B4CD-2047-4C3D-B3A9-5007A51D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79BD-36CD-482A-9A01-E252BE4A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8DA0-96EB-4A71-A225-2985088A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3FB-4726-4771-8AEF-CB517FAC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77A-EBF0-4E62-AD45-45E4B303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F73-4E2E-4EC5-B6BD-32CC3BF9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B5A-2C1F-49DF-AC40-A6B365C9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837-06CF-4636-8218-17FD459C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8FE-9DFC-46B3-8C0B-8ECC70F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812-931D-4035-A047-3AEE3FED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CB56-6278-4C77-BD07-22AAF01CDE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DECD-5A7E-4ABA-B031-4457B8267D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330066"/>
                </a:solidFill>
                <a:latin typeface="Arial"/>
              </a:rPr>
              <a:t>Giochi maschili e femminil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giochi dei bamb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0066"/>
                </a:solidFill>
                <a:latin typeface="Arial"/>
              </a:rPr>
              <a:t>Atteggiamenti degli adulti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40096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ono più propensi ad acquistare giocattoli tipicamente maschili o femminili a seconda del sesso del bamb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luttanti a proporre ai bambini giochi o 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considerate tipiche del sesso opp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coraggiano e rinforzano l’uso di giocattoli conformi al gen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Arredo di cameret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er maschio – presenza di numerosi veicoli, armi, giochi di costruzione, piste delle macch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er femmina – presenza di bambole e pupazzi di pelouche, disegni floreali sulla carta da parati, pizzi sulle tende e sul copril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L’influenza del gruppo dei par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ultura dei pari: l’insieme di idee, valori, conoscenze, interessi condivisi in un con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unzione della cultura dei pari: favorire la coesione all’interno del gruppo, permettere di far fronte ai sentimenti di paura o di confusione, rafforzare il senso di padronanza nei confronti del mondo circ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ita segreta fatta di codici segreti, regole speciali, negoziazioni, routine conso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i 5 anni in poi presente una sorta di segregazione nel gruppo del proprio s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l ruolo dei 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a pubblic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e alcuni cartoni animati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nducono stereotipi sessu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iocattoli per bambine: si usano di preferenza musiche di sottofondo dolci, immagini in dissolvenza, colori particol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iocattoli per maschietti: caratterizzati da tagli frequenti, musica ad alto volume, maggior dinamismo nelle azioni, ec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Contrastati i ruoli sessuali tradizionali in trasmissioni sperimentali di succes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l mercato del giocatto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duce giocattoli ben connotati per gen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i vede nei cataloghi dei giocattoli e negli spot pubblicit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 maschi si presentano come più attivi, aggressivi e indipend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e femminucce si presentano come più dolci, interessate alle faccende amorose, ai giochi legati al tema della maternità e della casa, preoccupate del loro aspetto esteri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Fattori naturali (innat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1900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uolo importante degli ormoni per le preferenze ludiche – es. ricerca sulla presenza superiore di ormoni maschili nelle femmine, scelta di giochi masc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fferenze nelle abilità cognitive (a causa della diversa conformazione cerebrale) tra maschi e femmine: maschi – più sviluppate abilità visivo-spaziali, femmine – più brave nelle abilità verb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versa conformazione degli organi genitali che provocano sensazioni fisiche diff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L’identità di genere e la </a:t>
            </a:r>
            <a:br>
              <a:rPr sz="3900"/>
            </a:b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scelta dei gioch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5840" y="150012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’identità di genere si forma intorno ai 18 mesi (distinzione tra maschi e femmine e non i loro ruoli tipi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 sviluppa progressivamente dal 3. anno in poi per effetto degli stimoli cultu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riconoscimento del proprio genere di appartenenza comporta l’adozione cosciente dei comportamenti considerati adatti allo st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er evitare la dissonanza cognitiva, per sentirsi confermato nel proprio ruolo, per essere accettato dagli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0066"/>
                </a:solidFill>
                <a:latin typeface="Arial"/>
              </a:rPr>
              <a:t>Risultati delle ricerche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i è giunti a conclusioni contrastanti in favore dei fattori culturali (ambientali) o di quelli inn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mmuner V. – propone una conciliazione nella disputa tra natura e c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gli afferma che è l’interpretazione che si dà ai dati innati (biologici) in una determinata cultura o epoca storica a dare origine a comportamenti che si ritengono adeguati ad un genere più che il dato biologico in s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nterpretazione univoca dei dati innati in particolari epoche storiche e nelle relative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Considerazioni sulla </a:t>
            </a:r>
            <a:br>
              <a:rPr sz="3900"/>
            </a:b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scelta dei gioch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 bambini lasciati liberi di scegliere che cosa fanno: scelgono spontaneamente i giochi e i giocattoli adeguati al proprio gene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 che età inizia a manifestarsi questo gioc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Che cosa incide su tale inclinazi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’ opportuno per la crescita del bambino incoraggiare o meno comportamenti conformi al gene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Esperi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Tre sezioni di scuola dell’infanz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Caratteristiche dei gruppi: simile provenienza socioculturale, diverso clima educ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ma sezione – controllo delle insegnanti limitato, esercitato senza alzare la voce; libe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i movimento e di scelta dei compagni di gioco; risorse suffici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Seconda sezione: l’aula ampia, luminosa e ben attrezzata, bambini liberi di organizzarsi, risorse suffici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Terza sezione: controllo sui bambini notevole, rimproveri frequenti con voce alterata, il tempo dedicato al gioco appare ridotto rispetto alle altre due se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Risultati 1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rima sezio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bambin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i giochi di fantasia con mostri, Batman e i dinosauri, la ricerca di insetti, il gioco del calcio – 64,2% del te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rima sezione – bambi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giochi di movimento, disegno, raccolta di fiori o foglie, giochi di fantasia – 68,7% del te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celta del gioco e differenza di genere evid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ari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i giochi scelti molto amp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Differenze di genere nei gioch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i constata, sia nel passato che oggi, la suddivisione di giochi e giocattoli in maschili e femmini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ale differenziazione è presente sia nelle concezioni degli adulti che in quelle dei bamb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ccorre individuare le cause del fenomeno (naturali o cultural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Risultati 2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Seconda sezio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bambin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costruzioni, giochi a tavolino, giochi di fanta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Seconda sezio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bambi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costruzioni, giochi di fantasia, giochi a tavoli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ari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i giochi scelti inferi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Rari i giochi tipici dell’altro ses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Partner del gioco dello stesso ses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Risultati 3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Terza sezione – bambin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giochi a tavolino, disegno, attiv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ripetitive adatte a bambini p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picc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Terza sezione -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bambi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: disegno, giochi di fanta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Vari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i giochi scelti molto ba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Suddivisione dei giochi secondo stereotipi sessu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Età in cui si manifesta il fenome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e interazioni e gli scambi sociali nei grupp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ll’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i 4 anni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tre volte superiore l’interazione con lo stesso sesso rispetto a quella col sesso oppo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ll’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i 6 anni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1 volte superiore l’interazione con lo stesso sesso rispetto a quella col sesso oppo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 sottogruppi vengono formati da membri dello stesso genere senza alcuna pressione este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a segregazione di genere diminuisce nella prima fanciulle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0066"/>
                </a:solidFill>
                <a:latin typeface="Arial"/>
              </a:rPr>
              <a:t>Le scelte dipendono da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400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esiderio di essere accettati dal gruppo dei pari e di evitare reazioni negative da parte dello st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sorse sociali a disposizione (prevalenza di maschi o fem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spettative e comportamento degli adulti (pressioni culturali di genitori, nonn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rredamento e scelta dei giochi nelle stanze dei bam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ntesti educativi con connotazione degli spazi che riflette stereotipie di gen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fluenza dei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cesso di formazione dell’identità di gen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0066"/>
                </a:solidFill>
                <a:latin typeface="Arial"/>
              </a:rPr>
              <a:t>Incoraggiare o meno il gioco differenziato per genere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7120" y="1719360"/>
            <a:ext cx="84297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’educatore deve incoraggiare incoraggiare il gioco differenziato per genere o combattere gli stereotipi sessua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nsigl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n si escludono del tutto differenze tra maschi e femmine per cui si può recuperare e sviluppare le abilità tipicamente maschili proponendo adeguati giochi maschili alle femmine e vice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mportante favorire il gioco con materiali differenziati, indipendentemente dall’adeguatezza per gen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mbattere gli stereotipi sessua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ossibile solo in 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reco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0066"/>
                </a:solidFill>
                <a:latin typeface="Arial"/>
              </a:rPr>
              <a:t>Lottare contro gli stereotipi culturali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bambin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mano sperimentare tutti i ruoli possibili all'interno dei loro giochi, provando una volta la parte del guerriero, un'altra quella della mamma, indipendentemente dal loro ses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questo il modo in cui i maschi esprimono le loro componenti femminili e le femmine quelle masc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n c’è bisogno di scandalizzarsi nel vedere i maschi giocare con le bambole e le femmine con i fuc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Giochi e giocattoli maschil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496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epertorio di giochi considerati maschil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otte finte, giochi motori: andare in bicicletta, gioco del calcio, pugilato, giochi di fantasia con temi concernenti mostri o supereroi, combattimenti spaziali, gioco della guerra, gioco delle biglie, giochi con scenari di cantieri, officine e veicoli, giochi con mezzi di trasporto, quali macchine, camion, ruspe, trenini, gioco con la scatola degli attrezzi, ec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6600cc"/>
                </a:solidFill>
                <a:latin typeface="Arial"/>
              </a:rPr>
              <a:t>Giochi considerati femminil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ioco di finzione con la bambola, gioco della casetta, gioco della scuola e altri giochi di fantasia che riguardano la famiglia, la scuola e l’ambiente sociale; salto della corda, danza, pattinaggio, gioco dei travestimenti, gioco del cucito, gioco con l’orsacchiotto e i pupazzi in genere, disegnare e colora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iochi più tranquilli e legati a scenari domest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Considerazion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362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Giochi congruenti con gli stereotipi del ruolo soc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Compaiono all’inizio del terzo an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erso i 4 anni il 65% delle preferenze per giochi e attiv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vari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sessualmente tipizz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600ff"/>
                </a:solidFill>
                <a:latin typeface="Arial"/>
                <a:ea typeface="Arial"/>
              </a:rPr>
              <a:t>I maschi: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preferiscono attiv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che richiedono maggior impegno fisico, le lotte finte, i giochi di mov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50aff"/>
                </a:solidFill>
                <a:latin typeface="Arial"/>
                <a:ea typeface="Arial"/>
              </a:rPr>
              <a:t>Le femmin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: preferiscono attiv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p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sedentarie e scenari domest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I bambini “atipici” sembrano violare le aspettative sociali (definiti maschiacci o femminuc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La lotta per fin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6421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ilevabile anche nel mondo animale (mammifer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a real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immaginaria, creata nel gioco, ha delle somiglianze, ma anche differenze morfologiche e contestuali tra le lotte reali e i comportamenti aggressivi della lotta per f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Le differenze si notano in base a: particolari espressioni del volto, comportamenti ritualizzati, durata degli episodi, intens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ei colpi, presenza o meno di spettatori tra i compag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Serve ad acquisire il controllo sulla propria aggressiv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incanalandola entro comportamenti socialmente acce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Che cosa incide su tale inclinazion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35720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 Fattori 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bambini giocano in modo differenziato perché gli adulti (genitori, baby-sitter, nonni, zii...) gli altri bambini o i media (pubblicità, cartoni animati) orientano un gioco adeguato al gen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 Fattori na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a differenziazione dei giochi secondo il genere dipende da fattori inna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moni maschili o femminil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fferenze riscontrate a livello cerebrale (emisfero destro più sviluppato nei maschi, sinistro nelle femmine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versa conformazione degli organi genitali che provocano sensazioni fisiche diff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L’influenza dei fattori cultural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 fattori culturali comprendon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l clima educativo (tradizionalista o me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’appartenenza ad etnie specifiche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li atteggiamenti degli adul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’influenza del gruppo dei p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’influenza dei medi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pubblicità, cartoni anim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l mercato del giocatt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l clima educativ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1719000"/>
            <a:ext cx="8429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omportamenti sconvenienti: saltare e correre per le femmine, giocare con le bambole per i mas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i assecondano comportamenti sessualmnte tipicizzati nel gioco e in altri ambiti (es. approvati segnali di dipendenza per le femmine es. obbedire senza discutere; incoraggiate l’esplorazione, l’indipendenza per i masch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iochi tipici del sesso opposto considerati indizio di sviluppo omosessuale o di atteggiamenti effemi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7:49:51Z</dcterms:created>
  <dc:creator>miro</dc:creator>
  <dc:description/>
  <dc:language>en-US</dc:language>
  <cp:lastModifiedBy>Miro</cp:lastModifiedBy>
  <dcterms:modified xsi:type="dcterms:W3CDTF">2014-01-29T17:30:51Z</dcterms:modified>
  <cp:revision>36</cp:revision>
  <dc:subject/>
  <dc:title>Giochi maschili e femminili</dc:title>
</cp:coreProperties>
</file>