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EE13-6A71-40DE-B2C6-A6FAD434FC7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7826-C12B-47D3-B581-D09B40232436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59C-C166-45E1-A3A5-3C50B5B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4BC-BF4E-4125-995B-F2C4F307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AAA-B6B0-46D7-9616-306D8E7A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CBA-32F7-4A93-A466-EFE240F4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9451-4DD7-4072-9015-FA25EF2A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1224-D760-4162-9916-E8FEDE80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2191-7A2F-4A95-9233-66F31B25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96AC-B273-4F43-B87A-6BA0229F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3CDB-E44A-45AD-84F4-DD8DBC54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B09D-8EF3-425F-AA1A-18F9C57E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5D49-FFFE-4F32-A572-519F38F0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38A-D4E7-4ECC-AD68-3D83FD44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1B75-E562-45B2-8341-079B25C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23C3-2BF9-42B6-8A5F-34EEC2B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2F22-9F5F-4D46-8EE4-AE4F8635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D40-96B8-4D1D-8919-6CC8D3B0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6CA3-77A3-473D-8F40-803A0A14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205-836B-4CFE-9D73-52C92BA7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E7D-1CC2-4366-ADD0-4083E94F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01A-DD77-4C3F-AAA0-BB5F0BD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064-1ADC-4136-8C9F-AAF09224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6B3-B75F-48F2-BBD3-ED6AEC7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1B2-95B9-4486-860D-464A6AE3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642-28DA-4256-B87E-81FED668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0216-2D3E-42BE-B381-E2334B384961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CFFF-47A6-4EA7-90A6-6605AD7510F7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424720" cy="2786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IL GIOCO</a:t>
            </a:r>
            <a:br>
              <a:rPr sz="4400"/>
            </a:b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SOCI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71680" y="4857480"/>
            <a:ext cx="8572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so di studio: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ducazione Presco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giochi e 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ente: Mr.sc. Nevia Močini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e interazioni faccia a facc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unzione di conoscersi e adattarsi tra madre e figlio/a; padre e figlio/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imolazioni della madre: sorride, parla, guarda il bambino negli occh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eazioni del bambino: gradualmente riesce a sostenere lo sguardo, sorride, vocal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ambi vocali – definiti protodialoghi, manifestano gioia ed eccit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gioco sociale nel primo 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anno di vi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714320"/>
            <a:ext cx="84582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ai sei mesi in poi aumenta l’interesse per l’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eciproco piacere e divertimento condiviso nel gioco del cuc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, nel costruire e distruggere una torre di cubi, nel raccogliere e gettare o mettere e togliere un oggetto, nell’infilare e sfilare, nel recitare la filastrocca e battere le man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ttenzione sul modo in cui si fanno le c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gioco sociale nel secondo anno di vi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bambino diventa autonomo – inizia a cammin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aggiore attenzione dei genitori all’ambiente e alla sicurezza del bambi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ioco delle madri: di tipo didattico con molte stimolazioni verba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ioco dei padri: orientato all’azione, all’esplorazione e alla manipolazione di ogget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gioco tra bambini nella prima infanz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Bambini aperti al contatto sociale con un coetane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teragiscono prevalentemente attraverso gli oggetti, imitandosi a vic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spondono all’iniziativa del compagno con un’azione coer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iochi: dare e prendere, nascondersi e farsi trovare, indicare e nominare, ec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a funzione del gioco soci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ntesto di sviluppo utile per conoscersi reciprocamente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tere in atto comportamenti affiliativi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nsaldare il legame affettivo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reare un sistema di conoscenze e significati comuni, come base per l’apprendimento del linguaggio e di altri processi sociocognitiv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Fasi di sviluppo del gioco socia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Bambino spettator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 Il bambino resta all'estremità del gruppo, probabilmente giocando senza entusiasmo con un giocattolo di sua scelta, ma guarda appena gli altri bambini giocare per conto lor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ioco solitari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 Il bambino è intento a giocare con i materiali disponibili ma resta completamente sol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Continuazio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78596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ioco parallelo.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bambino fa le stesse cose che un gruppo di bambini sta facendo in quel momento ma non interagisce con loro in alcun mod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ioco cooperativ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 Il bambino gioca effettivamente con gli altri bambini - assume dei ruoli (- Tu sarai la mamma e io il papà), impartisce istruzion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, offre e chiede aiut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35:01Z</dcterms:created>
  <dc:creator>Korisnik</dc:creator>
  <dc:description/>
  <dc:language>en-US</dc:language>
  <cp:lastModifiedBy>Miro</cp:lastModifiedBy>
  <dcterms:modified xsi:type="dcterms:W3CDTF">2013-11-09T19:52:33Z</dcterms:modified>
  <cp:revision>35</cp:revision>
  <dc:subject/>
  <dc:title>IL RAPPORTO FRA LA DIDATTICA DELLA NATURA E SOCIETÀ E LE ALTRE SCIENZE</dc:title>
</cp:coreProperties>
</file>