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92D-8A95-4B4E-A23E-E9F9E89C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CA9-AF12-4B2D-847C-B980387B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F67-18E5-4C3A-9A1B-5313F14A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5C3-B8B2-4692-AE7B-491C504D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866A-480A-4CBA-9FBA-8A58775A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6910-A202-4991-BB16-032F3E37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D30-8D3B-477B-AE13-96D853A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7A15-3E0E-425E-A7B9-CAF63F54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0BD4-BBF9-4B7F-9370-6D3A714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39F-8CEF-484C-95F5-03F482B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B13A-60B5-4EDA-BA06-BE0CA8A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F64-4F84-400D-9D95-66D170A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8ED7-4941-40D6-91E2-D74C98F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BC55-AC78-423B-8996-25E87EA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1A5-16E6-4B7D-A1FE-9AC2DF9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2641-2C7A-4CAE-A0F2-BBFA9F4D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D97-B48D-4750-8954-D360191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FDF-1692-4DD9-8DC7-A1F0A61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3D8-EA21-44C7-BE51-592501FF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DF3-2CF3-4C69-8CAC-A0D5E42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E76-064B-4B5A-BFD8-A32028DA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7E3-39D7-4DE1-8419-4F783C4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B11-82E4-4510-935D-79DE717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B8A-10F7-492D-AF40-2EAAA94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F28-B908-4291-8BE4-8F12C4DF69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28A-3FFB-41A2-A989-C8AE72AB6F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6633"/>
                </a:solidFill>
                <a:latin typeface="Garamond"/>
              </a:rPr>
              <a:t>I giochi di fantasia e i giochi con regol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I giochi e 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6633"/>
                </a:solidFill>
                <a:latin typeface="Garamond"/>
              </a:rPr>
              <a:t>I giochi con reg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econdo Piaget rappresentano la forma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evoluta del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niziano verso la fine dell’età pres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aratterizzano l’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s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Hanno carattere convenzionale, sono scarsamente flessibili e modificabi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Mettono alla prova le capac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el bambin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Verificano la perseveranza nel raggiungere un obiet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Garamond"/>
              </a:rPr>
              <a:t>Caratteristiche dei giochi con regol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28480"/>
            <a:ext cx="86421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meno due partecipanti in competizione tra loro, infatti, s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gioca per vinc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l comportamento dei giocator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regolato da regole prestabil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Le regole sono esplicite, possono essere comunicate e devono essere accettate e condivise dai giocatori prima di iniziare a gio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ruoli sono definiti a pri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Hanno dei nomi che li rendono riconoscib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Fanno parte delle tradizioni di particolari comun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e momenti stor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6633"/>
                </a:solidFill>
                <a:latin typeface="Garamond"/>
              </a:rPr>
              <a:t>Esempi di giochi con regole tradiziona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42680"/>
            <a:ext cx="4040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uattro cant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con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ubaband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 belle statu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uardie e lad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 fazzol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le bi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171468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l’ela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acchiapp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palla avvel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 pand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i sassol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Trasformazione dei giochi </a:t>
            </a:r>
            <a:br>
              <a:rPr sz="4400"/>
            </a:b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simbolici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ipende da nuove abil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cognitive e sociali del bamb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 temi del gioco simbolico non dipendono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ll’esperienza diretta del bambino ma diventano tem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l gioco viene condiviso con altri bambini, con ruoli ben defin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ompare la pianificazione esplicita delle azioni di gioco (“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facciamo che io ero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Il gioco di fantasi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evede ruoli immaginari (es. mamma e figlia, medico e paziente, ladro e poliziotto, negoziante e cliente, ec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i basa su trame di storie inven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ottolinea la natura collettiva del gioco e la presenza di ruoli socialmente codific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coscienza di muoversi in un mondo immaginario viene segnalata attraverso la mimica, la contraffazione della voce, l’esagerazione dei gesti, la canonic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elle 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Non dipende dalle risorse effettivamente 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Le caratteristiche del gioco</a:t>
            </a:r>
            <a:br>
              <a:rPr sz="4000"/>
            </a:b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 di fantasi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lcuni ruoli sono preferibili ad alt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e regole non sono stabilite in anticipo, ma vengono concordate dai giocatori stessi mentre stanno gioca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 volte si esce dal proprio ruolo per interpretarne un al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ngono consolidate le conoscenze sociali e messe in pratica le conoscenze sui ru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i vincoli re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6633"/>
                </a:solidFill>
                <a:latin typeface="Garamond"/>
              </a:rPr>
              <a:t>Metacomunicazione e gioco </a:t>
            </a:r>
            <a:br>
              <a:rPr sz="3800"/>
            </a:br>
            <a:r>
              <a:rPr b="1" lang="hr-HR" sz="3800" spc="-1" strike="noStrike">
                <a:solidFill>
                  <a:srgbClr val="006633"/>
                </a:solidFill>
                <a:latin typeface="Garamond"/>
              </a:rPr>
              <a:t>di fantas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isogna comunicare ai compagni chi sono nella finzione, che cosa stanno facendo, quale funzione hanno gli oggetti usati, in quale situazione immaginaria si trov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pesso escono e poi rientrano nella fi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oncordano assieme i ruoli e le reg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comunicano i cambiamenti nel corso del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Componenti del gioco di fantasia </a:t>
            </a:r>
            <a:br>
              <a:rPr sz="4000"/>
            </a:b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secondo la Garve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. Ruoli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) funzionali al contesto in cui il bambino si trova: es. caset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) ruoli familiari (coppie di membri di una famigl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) ruoli caratteristici – riguardano i mestieri e le professioni che i bambini conoscono meglio: es. dottore, maestra, poliziotto, ballerina, cantante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. Piano di gioco (sequenza coordinata di azioni riguardanti un tema – riparare qualcosa, fare un viaggio, guarire un malato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evede un repertorio limitato di azioni e ruoli attinti dalle esperienze personali,  dai personaggi televisivi o pubblicit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on vengono accettate modifiche non coerenti col piano di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3. Oggetti (presenza o meno di particolari oggetti: es. telefonini 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favorire un particolare tipo di gioc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Gli oggetti possono essere usati con funzioni nuove, concordate dai giocat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e non ci sono, gli oggetti possono essere invent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4. Scenari o situazioni di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i vincoli situazion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Trasformazioni simboliche degli oggetti e dei luoghi o scenari in funzione dell’elaborazione m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i richiede ai partecipanti una condivisione della rappresentazione mentale al fine di creare uno scenario di gioco co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Negoziazione sul come si gio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32:58Z</dcterms:created>
  <dc:creator>miro</dc:creator>
  <dc:description/>
  <dc:language>en-US</dc:language>
  <cp:lastModifiedBy>Miro</cp:lastModifiedBy>
  <dcterms:modified xsi:type="dcterms:W3CDTF">2013-11-20T22:04:26Z</dcterms:modified>
  <cp:revision>22</cp:revision>
  <dc:subject/>
  <dc:title>I giochi con le regole</dc:title>
</cp:coreProperties>
</file>