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90182-68DC-4E56-9D20-C071FD133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7D36F-2656-4C3E-9C61-83EFE058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5A655-15DC-493F-98FF-270AC96A3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FB116-675E-4980-A1F4-2BB1C0CFF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2B64-894B-4F87-8883-E088EBD4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011A-5236-4C87-96E8-2781DD3A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1A41-5179-4AB0-818D-1F1E3116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928B-FF8E-4423-A94D-687678CE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823A-E3F4-4255-BA4D-D31B956C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694A-61AA-4702-9294-A234B993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2062-F841-4B96-B474-EB2A7DCF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EC2F9-FD46-46F3-A4DF-044027F9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5492-170D-4968-931C-03F1FAAD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793B-6EA0-4562-9A07-4DC77719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16C5-2D21-4D8D-BE23-EDE358E4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9264-3CE8-44A4-97DD-8BDE7FD01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BF25-30E3-49A1-90C0-FC8D442AE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D65E9-3A46-4FCB-9E40-D5A9A38A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3A0C8-D2DD-4BDA-9673-14789050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DF283-9074-4013-8E61-6AC1A5CF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97AB8-242B-4E5B-8A1E-D8446716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80B22-E8AD-4D33-B484-FD22D497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6EF62-61E7-45C1-B339-C21DDB0A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D9F2A-2F6C-46E8-834A-DDEEF449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02F0-3823-4A1A-B4E0-9DEE61F689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427B-F146-4C19-B05D-0C524EA4B9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ffffff"/>
                </a:solidFill>
                <a:latin typeface="Arial"/>
              </a:rPr>
              <a:t>Il gioco simbolic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Arial"/>
              </a:rPr>
              <a:t>I giochi dei bambin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r.sc. Nevia Močini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Livelli del gioco simbolico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3920"/>
            <a:ext cx="86439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00ff"/>
                </a:solidFill>
                <a:latin typeface="Arial"/>
              </a:rPr>
              <a:t>3.Gioco simbolico decentrato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- nel gioco vengono coinvolte altre persone, prima come destinatari passivi, poi come attori (es. la bambola o la madr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gli schemi del bambino diventano più astratti e più distaccati dalle proprie azioni sensomotor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l bambino di estende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repertorio degli schemi di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gioco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disponibili con l’imitare azioni di altri, come telefonare, leggere, o pul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00ff"/>
                </a:solidFill>
                <a:latin typeface="Arial"/>
              </a:rPr>
              <a:t>4.Gioco simbolico combinatorio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- integrazione di diverse azioni che costituiscono una sequenza di azioni coerente (es. gioco con la bambol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bambino comincia a combinare schemi singoli, isolati e a coordinarli in sequen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Livelli del gioco simbolico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85840" y="1499760"/>
            <a:ext cx="85723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00ff"/>
                </a:solidFill>
                <a:latin typeface="Arial"/>
              </a:rPr>
              <a:t>5. Gioco simbolico gerarchico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– attiv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ludica regolata da un processo mentale e non dal contesto ambientale – il gioco preceduto da pianific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’intenzione di mettere in atto un comportamento di finzione - desunta da un annuncio verbale del bambino, dalla ricerca di un oggetto necessario per completare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gioco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o dall’esecuzione di un atto preparatorio prima di quel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s. l’uso di un cacciavite giocattolo come un "pesce che nuota", poi come un poppato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Contesti del gioco simbol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8229600" cy="41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Favoriscono il gioco simbol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a quant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degli oggetti a disposizione dei bamb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La somiglianza percettiva degli oggetti (forma o funzione simi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La partecipazione di adulti che propongono scenari p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o meno vicini all’esperienza diretta dei bamb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Condivisione del gioco simbol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Gli altri inizialmente sono destinatari passivi dell’azione lud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l secondo anno di vita coinvolti i genitori che danno suggerimenti o agiscono in prima persona organizzando le situazioni, cercando i materiali e predisponendo i ruoli; imitazione reciproca tra coetan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l terzo anno di vita i bambini decidono autonomamente la situazione di gioco e la strutturano secondo un preciso cop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Gioco simbolico e sviluppo del linguagg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a alcuni studi risulta una correlazione rilevante tra le prime parole e il livello dei giochi autosimbolici o del gioco decentr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ssociazione stretta tra gioco simbolico e comprensione del lingu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Gioco e linguaggio si sviluppano in risposta a un progresso generale nella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capacità cogni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Il gioco simbolico e il linguagg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35684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gioco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e il linguaggio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hanno in comune diverse funzioni nel secondo anno di vit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1. implicano la funzione comunicativa di oggetti condivisi con alt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2. i bambini usano sia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gioco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che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l linguaggio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er "mettere alla prova" diverse equivalenze di rappresentazi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unteggi alti nella comprensione del linguaggio a 18 e a 24 mesi mostrano significativamente più finzione decentrata dei bambini con punteggi di comprensione più ba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Corrispondenze tra gioco e linguagg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7120" y="178560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orrispondenze temporali tra sviluppi strutturali nel linguaggio e livelli del gioco simbol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1) comportamenti presimbolici in ambedue  i domini, 2) finzione iniziale e prime parole referenziali, 3) l’emergenza di comportamenti combinatori in entrambi i domini, 4) corrispondenze tra linguaggio organizzato gerarchicamente e gioco simbolico (McCune-Nicolich, 198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Influenza del gioco sul linguagg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7120" y="1571400"/>
            <a:ext cx="842976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Gli schemi d’azione organizzati che sono parte integrante del gioco simbolico possono contribuire ad arricchire l’uso del linguag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s. quando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gioco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era organizzato intorno a un tema ("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gioco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su cannovaccio") le conversazioni risultavano più lunghe e coer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Benché non sia facile districare le influenze reciproche fra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gioco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e linguaggio, esiste senza dubbio un’interazione di reciproco sostegno fra l’uno e l’al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Gioco simbolico e differenze individua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Gioco simbolico presente in gruppi culturali e circostanze sociali diverse dai nostri (tra i 13 e i 15 mes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aggiore o minore frequenza dipende dalla predisposizione o meno a ricorrere alla fantasia e all’immaginazione per risolvere problemi re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nfluisce anche il funzionamento sociale del bambino: la sua popolar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, la prosocial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, l’accettazione e la capac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di collabor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Il gioco simbol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ompare nel bambino intorno ai 15 – 18 mesi, tra la fine dello stadio sensomotorio e l’inizio di quello preoper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Sviluppo delle competenze sociali, dell’abil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di formare e usare simboli, di elaborare temi narrati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l bambino comincia a mostrare la capacità di capire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ondo attraverso l’uso di simb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nizia quando azioni di routine e oggetti sono distaccati dai loro ruoli tipici e dalle loro funzioni e usati in una maniera atipica, gioco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28760" y="571680"/>
            <a:ext cx="8229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otevoli progressi nello sviluppo del linguaggi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ll’uso di una varietà di mezzi di rappresentazione compresa l’imitazione differita,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gioco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di finzione, e le immagini mentali di azioni ed ev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 bambini fingono di bere, di parlare al telefono, di preparare il caf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, o da mangiare, ec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simulazioni delle attiv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 di routine quotidi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Importanza del gioco simbol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eparando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pensiero dall’azione, i simboli mentali consentono al pensiero di essere più efficiente che durante lo stadio sensomotori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bambino può trascendere i confini di tempo e spazio immediati e rappresentare diversi eventi simultaneamente, piuttosto che per gradi e orientati dall’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ndicatore precoce della capac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di rappresentazione ment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Indica lo sviluppo della conoscenza sociale mediante la nozione di cop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Caratteristiche gioco simbol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apac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di azione trasformativa nei confronti della real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La capac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di agire “come se” al di fuori del contesto nor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La capac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di usare come materiale di gioco oggetti sostitutivi di quelli re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L’abil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di eseguire azioni tipiche di altre pers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L’abil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di collegare schemi d’azione differenti in sequenze tematiche coer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680" y="71388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Criteri per inferire che si tratta di un gioco simbolico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5840" y="1500120"/>
            <a:ext cx="8572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nimazione degli oggetti inanimati (es. prendersi cura di una bambola, offrire cibo all’orsacchiot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ttiv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quotidiane svolte senza gli oggetti necessari (es.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bere da una tazza vuo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Compiere azioni abitualmente compiute da altri (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s. cucinare, telefonare, fingere di fare il dotto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ttiv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svolte senza giungere al risultato abitu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Oggetti usati con funzioni diverse da quella abituale (es.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n cubetto da costruzioni diventa un tega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Segnali del bambino per indicare che l’azione n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re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Evoluzione del gioco simbol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econdo la teoria piagetiana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gioco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simbolico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si sviluppa attraverso una sequenza di stadi e fasi in forme sempre più sofistic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assaggi di ordine cognitiv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ecentramento – estendere l’azione da 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ad alt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Decontestualizzazione – azioni ludiche indipendenti dai supporti ambient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Integrazione – azioni ludiche organizzate in sequenze complesse e pianificate prima di eseguir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girotondo"/>
          <p:cNvPicPr/>
          <p:nvPr/>
        </p:nvPicPr>
        <p:blipFill>
          <a:blip r:embed="rId1"/>
          <a:stretch/>
        </p:blipFill>
        <p:spPr>
          <a:xfrm>
            <a:off x="7358040" y="285840"/>
            <a:ext cx="103824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Passaggio dai livelli realistici del gioco a quelli simboli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13840" y="1857240"/>
            <a:ext cx="8472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al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gioco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altamente realistico (per es., basato su funzioni dell’oggetto) caratteristico dello stadio sensomotori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ttraverso diversi livelli di finzione dove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simbolo e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referente sono solo marginalmente separabi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fino alla vera simbolizzazione (stadio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imbolico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) dove é evidente una completa separazione tra significante e signific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Livelli del gioco simbolico 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480" y="1341360"/>
            <a:ext cx="86439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00ff"/>
                </a:solidFill>
                <a:latin typeface="Arial"/>
              </a:rPr>
              <a:t>1.Schemi presimbolic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– oggetti usati in modo appropriato ma al di fuori del contesto normale - primo passo nella transizione dall’attività sensomotoria a quella simbo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s. lo schema di bere é in origine applicato a una tazza colma di bevanda ma alla fine anche una tazza vuota susciterà il medesimo schema. Azione e significato sono uniti a questo livel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00ff"/>
                </a:solidFill>
                <a:latin typeface="Arial"/>
              </a:rPr>
              <a:t>2.Schemi autosimbolic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– azioni rivolte al bambino stesso (es. mangiare, dormire, pulizia personal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limite di questo livello é che questi schemi sono ancora legati alle azioni sensomotorie del bambi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20:17:48Z</dcterms:created>
  <dc:creator>miro</dc:creator>
  <dc:description/>
  <dc:language>en-US</dc:language>
  <cp:lastModifiedBy>Miro</cp:lastModifiedBy>
  <dcterms:modified xsi:type="dcterms:W3CDTF">2013-11-06T22:40:39Z</dcterms:modified>
  <cp:revision>77</cp:revision>
  <dc:subject/>
  <dc:title>Il gioco simbolico</dc:title>
</cp:coreProperties>
</file>