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D8F-F890-4190-97A4-7FCAD861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C8F-0997-4460-B001-391DAEDC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D2E-5B90-4E12-AEFB-06775F5A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612-DE44-4438-9C4C-411831E4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0CA7-79BC-4025-9B7A-01EAD6B3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E41C-90E3-4BFD-A7E4-E117FC4D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E6BF-BE30-4616-B5D4-9760F6A5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B2BD-486E-4755-8137-24289DC7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8E06-25E3-4CDC-B754-D47DC4AC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FBD1-1A52-4046-BE48-8EA0AD81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7C18-A5C6-415D-8738-C04768F0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DC5B-DE9C-478B-BB68-9F8F3E69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C6A1-4A6E-4B58-960A-38F801FC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961F-272B-44C5-9B6F-09725330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0673-3BE8-49D2-A06D-ADDCA4F9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71EA-8F03-4619-ABCC-1313BCEB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DC0F-D936-478C-B013-FC087575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8061-F862-45E9-B972-0254DCB5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8EC-D0E9-4DCF-A50D-CA0A62F2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B6D-D944-4187-B4A0-8A1FE1D5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947-7779-4528-905D-5B66B072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E94E-1B36-465D-B297-FE95D35C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4A1-F3A1-42DE-842E-D4B1ABC9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791E-69E2-445B-B429-20D03A74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6403-B143-4977-88FD-B0512BA7EEBA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695F-85B2-4199-A06B-DE574AD046C0}" type="slidenum">
              <a:rPr b="0" lang="hr-HR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Il gioco esplora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428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I giochi dei bambin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45472"/>
                </a:solidFill>
                <a:latin typeface="Tahoma"/>
              </a:rPr>
              <a:t>Mr.sc. Nevia Močinić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3629160" y="4191120"/>
            <a:ext cx="1885320" cy="2077920"/>
            <a:chOff x="3629160" y="4191120"/>
            <a:chExt cx="1885320" cy="2077920"/>
          </a:xfrm>
        </p:grpSpPr>
        <p:sp>
          <p:nvSpPr>
            <p:cNvPr id="139" name="Freeform 5"/>
            <p:cNvSpPr/>
            <p:nvPr/>
          </p:nvSpPr>
          <p:spPr>
            <a:xfrm>
              <a:off x="5291640" y="5781600"/>
              <a:ext cx="203400" cy="412560"/>
            </a:xfrm>
            <a:prstGeom prst="pie">
              <a:avLst/>
            </a:prstGeom>
            <a:solidFill>
              <a:srgbClr val="7ab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4458960" y="5608440"/>
              <a:ext cx="885600" cy="642240"/>
            </a:xfrm>
            <a:prstGeom prst="pie">
              <a:avLst/>
            </a:prstGeom>
            <a:solidFill>
              <a:srgbClr val="cc8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>
              <a:off x="3650040" y="5274360"/>
              <a:ext cx="774720" cy="977760"/>
            </a:xfrm>
            <a:prstGeom prst="pie">
              <a:avLst/>
            </a:prstGeom>
            <a:solidFill>
              <a:srgbClr val="cc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" name="Freeform 8"/>
            <p:cNvSpPr/>
            <p:nvPr/>
          </p:nvSpPr>
          <p:spPr>
            <a:xfrm>
              <a:off x="4248000" y="4993200"/>
              <a:ext cx="283680" cy="4482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3" name="Freeform 9"/>
            <p:cNvSpPr/>
            <p:nvPr/>
          </p:nvSpPr>
          <p:spPr>
            <a:xfrm>
              <a:off x="4020480" y="4890600"/>
              <a:ext cx="467280" cy="171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3927960" y="5392080"/>
              <a:ext cx="324360" cy="394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5" name="Freeform 11"/>
            <p:cNvSpPr/>
            <p:nvPr/>
          </p:nvSpPr>
          <p:spPr>
            <a:xfrm>
              <a:off x="4580640" y="5013000"/>
              <a:ext cx="828360" cy="730440"/>
            </a:xfrm>
            <a:prstGeom prst="pie">
              <a:avLst/>
            </a:pr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4597560" y="4210560"/>
              <a:ext cx="794520" cy="612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4586400" y="4463280"/>
              <a:ext cx="226080" cy="12780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5069520" y="4519800"/>
              <a:ext cx="325440" cy="30744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4315680" y="5061960"/>
              <a:ext cx="785880" cy="38484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4575240" y="4476240"/>
              <a:ext cx="849240" cy="63360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4627080" y="4474800"/>
              <a:ext cx="561600" cy="633240"/>
            </a:xfrm>
            <a:prstGeom prst="pie">
              <a:avLst/>
            </a:prstGeom>
            <a:solidFill>
              <a:srgbClr val="ffd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3692160" y="5358240"/>
              <a:ext cx="242640" cy="443880"/>
            </a:xfrm>
            <a:prstGeom prst="pie">
              <a:avLst/>
            </a:prstGeom>
            <a:solidFill>
              <a:srgbClr val="8a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>
              <a:off x="4399920" y="5796720"/>
              <a:ext cx="277920" cy="452160"/>
            </a:xfrm>
            <a:prstGeom prst="pie">
              <a:avLst/>
            </a:prstGeom>
            <a:solidFill>
              <a:srgbClr val="8a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>
              <a:off x="4005000" y="4993200"/>
              <a:ext cx="247320" cy="457560"/>
            </a:xfrm>
            <a:prstGeom prst="pie">
              <a:avLst/>
            </a:prstGeom>
            <a:solidFill>
              <a:srgbClr val="708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>
              <a:off x="3882960" y="5742000"/>
              <a:ext cx="316800" cy="443880"/>
            </a:xfrm>
            <a:prstGeom prst="pie">
              <a:avLst/>
            </a:prstGeom>
            <a:solidFill>
              <a:srgbClr val="708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>
              <a:off x="3650040" y="5748840"/>
              <a:ext cx="248040" cy="437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Freeform 23"/>
            <p:cNvSpPr/>
            <p:nvPr/>
          </p:nvSpPr>
          <p:spPr>
            <a:xfrm>
              <a:off x="4163760" y="5717880"/>
              <a:ext cx="492840" cy="1573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Freeform 24"/>
            <p:cNvSpPr/>
            <p:nvPr/>
          </p:nvSpPr>
          <p:spPr>
            <a:xfrm>
              <a:off x="4756680" y="5024160"/>
              <a:ext cx="502200" cy="153000"/>
            </a:xfrm>
            <a:prstGeom prst="pie">
              <a:avLst/>
            </a:pr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Freeform 25"/>
            <p:cNvSpPr/>
            <p:nvPr/>
          </p:nvSpPr>
          <p:spPr>
            <a:xfrm>
              <a:off x="4555440" y="4349520"/>
              <a:ext cx="887400" cy="77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Freeform 26"/>
            <p:cNvSpPr/>
            <p:nvPr/>
          </p:nvSpPr>
          <p:spPr>
            <a:xfrm>
              <a:off x="4711320" y="4449240"/>
              <a:ext cx="265320" cy="10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Freeform 27"/>
            <p:cNvSpPr/>
            <p:nvPr/>
          </p:nvSpPr>
          <p:spPr>
            <a:xfrm>
              <a:off x="4958640" y="4463280"/>
              <a:ext cx="2721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5156640" y="4615200"/>
              <a:ext cx="99360" cy="7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5204160" y="4667400"/>
              <a:ext cx="63360" cy="6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5319360" y="4493160"/>
              <a:ext cx="7560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5218200" y="4287960"/>
              <a:ext cx="162720" cy="18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>
              <a:off x="4728240" y="4201920"/>
              <a:ext cx="268200" cy="17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4999320" y="4191120"/>
              <a:ext cx="209520" cy="15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4911120" y="4678560"/>
              <a:ext cx="37800" cy="8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4676400" y="4679640"/>
              <a:ext cx="42120" cy="9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4717080" y="4762800"/>
              <a:ext cx="418320" cy="21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4294440" y="5055120"/>
              <a:ext cx="1061280" cy="43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5082120" y="5185800"/>
              <a:ext cx="32040" cy="2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Freeform 39"/>
            <p:cNvSpPr/>
            <p:nvPr/>
          </p:nvSpPr>
          <p:spPr>
            <a:xfrm>
              <a:off x="5077800" y="5014080"/>
              <a:ext cx="345240" cy="10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Freeform 40"/>
            <p:cNvSpPr/>
            <p:nvPr/>
          </p:nvSpPr>
          <p:spPr>
            <a:xfrm>
              <a:off x="4580640" y="5087160"/>
              <a:ext cx="19080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Freeform 41"/>
            <p:cNvSpPr/>
            <p:nvPr/>
          </p:nvSpPr>
          <p:spPr>
            <a:xfrm>
              <a:off x="4572360" y="5403240"/>
              <a:ext cx="753840" cy="35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Freeform 42"/>
            <p:cNvSpPr/>
            <p:nvPr/>
          </p:nvSpPr>
          <p:spPr>
            <a:xfrm>
              <a:off x="4491000" y="5608440"/>
              <a:ext cx="154080" cy="12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Freeform 43"/>
            <p:cNvSpPr/>
            <p:nvPr/>
          </p:nvSpPr>
          <p:spPr>
            <a:xfrm>
              <a:off x="4728240" y="5767560"/>
              <a:ext cx="786240" cy="50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Freeform 44"/>
            <p:cNvSpPr/>
            <p:nvPr/>
          </p:nvSpPr>
          <p:spPr>
            <a:xfrm>
              <a:off x="4233960" y="4975200"/>
              <a:ext cx="310320" cy="47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Freeform 45"/>
            <p:cNvSpPr/>
            <p:nvPr/>
          </p:nvSpPr>
          <p:spPr>
            <a:xfrm>
              <a:off x="3995640" y="4887720"/>
              <a:ext cx="530280" cy="5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Freeform 46"/>
            <p:cNvSpPr/>
            <p:nvPr/>
          </p:nvSpPr>
          <p:spPr>
            <a:xfrm>
              <a:off x="4387320" y="5789880"/>
              <a:ext cx="311400" cy="46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Freeform 47"/>
            <p:cNvSpPr/>
            <p:nvPr/>
          </p:nvSpPr>
          <p:spPr>
            <a:xfrm>
              <a:off x="4141440" y="5697000"/>
              <a:ext cx="533520" cy="5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Freeform 48"/>
            <p:cNvSpPr/>
            <p:nvPr/>
          </p:nvSpPr>
          <p:spPr>
            <a:xfrm>
              <a:off x="3681000" y="5264280"/>
              <a:ext cx="346680" cy="56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Freeform 49"/>
            <p:cNvSpPr/>
            <p:nvPr/>
          </p:nvSpPr>
          <p:spPr>
            <a:xfrm>
              <a:off x="3629160" y="5706720"/>
              <a:ext cx="540360" cy="49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Freeform 50"/>
            <p:cNvSpPr/>
            <p:nvPr/>
          </p:nvSpPr>
          <p:spPr>
            <a:xfrm>
              <a:off x="3641400" y="5743440"/>
              <a:ext cx="318600" cy="10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Freeform 51"/>
            <p:cNvSpPr/>
            <p:nvPr/>
          </p:nvSpPr>
          <p:spPr>
            <a:xfrm>
              <a:off x="3916800" y="5380920"/>
              <a:ext cx="354960" cy="44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Freeform 52"/>
            <p:cNvSpPr/>
            <p:nvPr/>
          </p:nvSpPr>
          <p:spPr>
            <a:xfrm>
              <a:off x="4689000" y="6104520"/>
              <a:ext cx="102240" cy="6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Fattori che inibiscono il gioco esplora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00040" y="178596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contesti nei quali il bambino non si sente sicuro e non sono soddisfatti i suoi bisogni di bas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ambienti e oggetti del tutto sconosciuti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l’essere punitivi o la non-attenzione dei genitori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restrizioni nel movimento e assenza di materiali interessanti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presenza di persone sconosciu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113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Fasi di sviluppo dell’attivit</a:t>
            </a:r>
            <a:r>
              <a:rPr b="0" lang="hr-HR" sz="4000" spc="-1" strike="noStrike">
                <a:solidFill>
                  <a:srgbClr val="660066"/>
                </a:solidFill>
                <a:latin typeface="Tahoma"/>
                <a:ea typeface="Tahoma"/>
              </a:rPr>
              <a:t>à</a:t>
            </a: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 esplorativ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857240"/>
            <a:ext cx="853416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Esplorazione orale – mette in bocca gli oggett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Manipolazione semplice – esplorazione globale di un oggett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Manipolazione funzionale – esplorazione specifica della funzione dell’oggett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Manipolazione relazionale - mette insieme due oggetti senza legame logic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Manipolazione funzionale/relazionale - mette insieme due oggetti in modo appropriat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L’attivit</a:t>
            </a:r>
            <a:r>
              <a:rPr b="0" lang="hr-HR" sz="4000" spc="-1" strike="noStrike">
                <a:solidFill>
                  <a:srgbClr val="660066"/>
                </a:solidFill>
                <a:latin typeface="Tahoma"/>
                <a:ea typeface="Tahoma"/>
              </a:rPr>
              <a:t>à</a:t>
            </a: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 esplorativa secondo </a:t>
            </a:r>
            <a:br>
              <a:rPr sz="4000"/>
            </a:b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la Benell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Nei primi due anni il bambino sviluppa i seguenti schemi di manipolazione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b63b10"/>
                </a:solidFill>
                <a:latin typeface="Tahoma"/>
              </a:rPr>
              <a:t>Schemi generici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– applicabili a qualsiasi tipo di oggetto; possono essere di due tipi: a) </a:t>
            </a:r>
            <a:r>
              <a:rPr b="0" lang="hr-HR" sz="3200" spc="-1" strike="noStrike">
                <a:solidFill>
                  <a:srgbClr val="b63b10"/>
                </a:solidFill>
                <a:latin typeface="Tahoma"/>
              </a:rPr>
              <a:t>schemi analitici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– esplorazione di parti dell’oggetto; b) </a:t>
            </a:r>
            <a:r>
              <a:rPr b="0" lang="hr-HR" sz="3200" spc="-1" strike="noStrike">
                <a:solidFill>
                  <a:srgbClr val="b63b10"/>
                </a:solidFill>
                <a:latin typeface="Tahoma"/>
              </a:rPr>
              <a:t>schemi massivi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- esplorazione globale dell’oggett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b63b10"/>
                </a:solidFill>
                <a:latin typeface="Tahoma"/>
              </a:rPr>
              <a:t>Schemi specifici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– collegati a propriet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intrinseche di un oggetto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Cestino dei teso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Rivolto ai bambini dai 6/7 mesi in poi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Fornisce ai bambini oggetti di uso comune pensati per stimolare il tatto, l’olfatto, l’udito, la vista, il gusto e la motricit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Si tratta di oggetti diversi per peso, consistenza, forma, sapore, suono, colore, lucentezza: es. pigne, ciottoli, conchiglie, piume, pietre pomice, sugheri, spazzolini, pennelli, fischietti, anelli, ciotole, cucchiai, chiavi, imbuti, catenelle, campanelli, borsellini, cilindri di carta, ecc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Attivit</a:t>
            </a:r>
            <a:r>
              <a:rPr b="0" lang="hr-HR" sz="4400" spc="-1" strike="noStrike">
                <a:solidFill>
                  <a:srgbClr val="660066"/>
                </a:solidFill>
                <a:latin typeface="Tahoma"/>
                <a:ea typeface="Tahoma"/>
              </a:rPr>
              <a:t>à</a:t>
            </a: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 possibi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Passare gli oggetti da una mano all’altra, succhiarli, leccarli, scuoterli, batterli, gettarli lontano, raccoglierli, metterli uno sopra l’altro, ecc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Incoraggia a prendere decisioni, scegliere tra oggetti diversi, confrontarli, mettere in atto un’azione invece di un’altra, ecc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Gioco euristico con gli ogget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Si mette a disposizione del bambino una grande variet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di oggetti e di contenitori diversi in uno spazio e per un tempo controllati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Nasce dall’esigenza del bambino di combinare schemi di movimento e sperimentare nuove relazioni tra oggetti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Soddisfa il bisogno di esplorare e scoprire il funzionamento e le relazioni tra oggetti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Gioco eurist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36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Oggetti possibili: sacchi, sacchetti, scatole, barattoli, tappi, nastri, palline, catenelle, cilindri, chiavi, conchiglie, pigne, mollette, ecc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Attivit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possibili: mettere dentro, tirare fuori, selezionare, classificare, ordinare, mettere in corrispondenza, infilare, impilare, far rotolare, mettere in equilibrio, ecc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Il gioco nei primi anni di vi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Gioco con funzioni esplorative del corpo e dell’ambien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Ha inizio quando il bambino agisce per il piacere che ne ricav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Alle origini – puro esercizio di schemi d’azione (segnali: coinvolgimento attivo, attesa dell’effetto, segnali di piacere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Il gioco esplora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0012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Caratteristiche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è l’attività stimolata dall’incontro con uno stimol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inizia quando il bambino acquisisce familiarit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con l’ambien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è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importante quello che si pu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ò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fare con gli oggetti e non come sono o a cosa servon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Comportamenti tipici della specie umana e quelli condivisi con i primati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L’attività esplorativ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Utilità: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conoscere la realt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circostante, ovvero acquisire informazioni sugli oggetti e sui fenomeni (Che cos’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è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questo?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dominare gradualmente l’ambien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esercitare le proprie capacit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stabilire il contatto con il mondo fisic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Differenza tra esplorazione e gioco esplora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040" y="1856880"/>
            <a:ext cx="8143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Dall’esplorazione si passa al gioco quando il bambino si sposta da ciò che é lo stimolo determinante a ciò che sarà la varietà di risposte che può essere effettuata usando l’oggetto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Questo spostamento é il risultato del calo di novità dello stimolo quando esso è esplorato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Il gioco segue l’esplorazion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Differenze nel comportam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7120" y="1357200"/>
            <a:ext cx="84297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hr-HR" sz="2800" spc="-1" strike="noStrike">
                <a:solidFill>
                  <a:srgbClr val="545472"/>
                </a:solidFill>
                <a:latin typeface="Tahoma"/>
              </a:rPr>
              <a:t>il grado di stereotipia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del comportamento: attività esplorativa - altamente stereotipata, cioè invariabile durante una data situazione, laddove il gioco può assumere una gran varietà di forme specifich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545472"/>
                </a:solidFill>
                <a:latin typeface="Tahoma"/>
              </a:rPr>
              <a:t>l’investimento percettivo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in termini d’attenzione: (il gioco coinvolge un meno elevato stato attenzionale focalizzato sull’oggetto rispetto all’esplorazione)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545472"/>
                </a:solidFill>
                <a:latin typeface="Tahoma"/>
              </a:rPr>
              <a:t>lo stato affettivo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del bambino: (sorride, è rilassato nel gioco, teso, impaurito  nell’esplorazione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2960" y="785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Funzioni dei giochi esplorativ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500120"/>
            <a:ext cx="85726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545472"/>
                </a:solidFill>
                <a:latin typeface="Tahoma"/>
              </a:rPr>
              <a:t>Simulare -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il bambino che ciuccia il suo ciucciotto simula (a se stesso) il comportamento di suzione del latte matern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545472"/>
                </a:solidFill>
                <a:latin typeface="Tahoma"/>
              </a:rPr>
              <a:t>Conoscere – 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gli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ggett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, sé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stesso e il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proprio corpo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, le persone, gli animali, l’ambien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545472"/>
                </a:solidFill>
                <a:latin typeface="Tahoma"/>
              </a:rPr>
              <a:t>Ripetere -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l’iterazione di un gesto, di un’azione 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con lo scopo di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acquisire la competenza di quel comportamento o di sperimentare la reazione di un oggetto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Continuazione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642680"/>
            <a:ext cx="7958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545472"/>
                </a:solidFill>
                <a:latin typeface="Tahoma"/>
              </a:rPr>
              <a:t>Ipotizzare – 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(“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chissà se battendo più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forte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questo coso si rompe?”)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545472"/>
                </a:solidFill>
                <a:latin typeface="Tahoma"/>
              </a:rPr>
              <a:t>Analizzare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(“e quest’altro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chissà come è fatto dentro”)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545472"/>
                </a:solidFill>
                <a:latin typeface="Tahoma"/>
              </a:rPr>
              <a:t>Osservare </a:t>
            </a:r>
            <a:r>
              <a:rPr b="0" i="1" lang="hr-HR" sz="32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(“questo invece si muove da solo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o no?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”)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545472"/>
                </a:solidFill>
                <a:latin typeface="Tahoma"/>
              </a:rPr>
              <a:t>Sperimentare </a:t>
            </a:r>
            <a:r>
              <a:rPr b="0" i="1" lang="hr-HR" sz="32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(“se faccio così, lui che farà?”)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Fattori che favoriscono il gioco esplorativ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714320"/>
            <a:ext cx="8763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La novit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 e la complessit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 dello stimolo: es. imprevedibilità di forma e modello di moviment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La qualit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 e la quantit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 dei materiali che inducono a manipolazion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Le caratteristiche degli ambienti in cui si trovano i bambini (es. ampiezza, organizzazione degli spazi, esterno o interno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Le differenze individuali (es. maturit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 cognitiva, stile esplorativo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La presenza e la stimolazione delle persone che si curano del bambin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o</cp:lastModifiedBy>
  <dcterms:modified xsi:type="dcterms:W3CDTF">2013-11-09T19:52:27Z</dcterms:modified>
  <cp:revision>53</cp:revision>
  <dc:subject/>
  <dc:title>PowerPoint Presentation</dc:title>
</cp:coreProperties>
</file>