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E17B-88F5-41C3-B717-C7201039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54A-110C-48F0-AB1C-6037EC68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0106-E511-4413-805C-95EC1A0A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E72D-75FE-4967-A00A-F9C40992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16FA-A98C-427D-A34B-1639969B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E808-EF9C-4186-A2A6-89550856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DDF0-44D5-47A6-AC73-F54B2AF2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EF04-E28E-45DB-8C59-038F40EB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23F8-BB19-48FD-BF94-F50A6F62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3E66-658D-4585-BC33-E3D7D69D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4720-816D-4215-A39C-4896E5FF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5795-2314-42AC-AB97-E3103688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5E00-EDF9-418E-9501-F4B746F4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7019-E2F4-4D56-9AFD-D17B9954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7076-0715-46B9-91FA-938719E1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DC66-6D1B-482F-99F0-F5E0AAF60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8003-C083-4512-9CBC-983E8BE5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25D2-FDFA-4E54-9279-2D62F50F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D88D-8BE8-4933-8342-6B765B21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A956-54C5-4FB3-AA2D-F88BA981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C1A-A4FD-4707-9C18-2CA4705F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3E4C-7A45-436D-854D-DC5DA99F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FF0D-E77B-4818-9AF5-4A200A59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62B4-5C39-494A-B713-C304EA0A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D219-5E0A-4A8F-8F37-9953DE6AED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910F-CAA0-477D-9A2C-4B94861C927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40cb4"/>
                </a:solidFill>
                <a:latin typeface="Arial"/>
              </a:rPr>
              <a:t>Storia dei </a:t>
            </a:r>
            <a:br>
              <a:rPr sz="4400"/>
            </a:br>
            <a:r>
              <a:rPr b="0" lang="hr-HR" sz="4400" spc="-1" strike="noStrike">
                <a:solidFill>
                  <a:srgbClr val="440cb4"/>
                </a:solidFill>
                <a:latin typeface="Arial"/>
              </a:rPr>
              <a:t>        giocattoli </a:t>
            </a:r>
            <a:br>
              <a:rPr sz="4400"/>
            </a:b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I giochi dei bambin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2f1311"/>
                </a:solidFill>
                <a:latin typeface="Arial"/>
              </a:rPr>
              <a:t>Mr.sc. Nevia Močinić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6" descr="casetta_gioco"/>
          <p:cNvPicPr/>
          <p:nvPr/>
        </p:nvPicPr>
        <p:blipFill>
          <a:blip r:embed="rId1"/>
          <a:stretch/>
        </p:blipFill>
        <p:spPr>
          <a:xfrm>
            <a:off x="468360" y="3500280"/>
            <a:ext cx="1824120" cy="1965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bambola_inglese"/>
          <p:cNvPicPr/>
          <p:nvPr/>
        </p:nvPicPr>
        <p:blipFill>
          <a:blip r:embed="rId2"/>
          <a:stretch/>
        </p:blipFill>
        <p:spPr>
          <a:xfrm>
            <a:off x="4788000" y="692280"/>
            <a:ext cx="19508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40cb4"/>
                </a:solidFill>
                <a:latin typeface="Arial"/>
              </a:rPr>
              <a:t>I giocattoli industrial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267920"/>
            <a:ext cx="7386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Giocattoli a molla, elettrici, a vapore: es. trenino, automobiline, motociclette, battelli-giocattolo, aerei-giocattol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  <a:ea typeface="Arial"/>
              </a:rPr>
              <a:t>I giocattoli</a:t>
            </a: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2f1311"/>
                </a:solidFill>
                <a:latin typeface="Arial"/>
                <a:ea typeface="Arial"/>
              </a:rPr>
              <a:t>entrano t</a:t>
            </a: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ra le necessit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2f1311"/>
                </a:solidFill>
                <a:latin typeface="Arial"/>
                <a:ea typeface="Arial"/>
              </a:rPr>
              <a:t> domestiche </a:t>
            </a: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Infanzia considerata come potenzial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mercat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Europa: 1880/1890 inizia ad espandersi l’industria dei giocattoli con la produzione di carri di pompieri, trenini, soldatini, bambole e case di bambol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Acquisto di giocattoli riservato alle famiglie benestant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America: Teddy Bear – il primo giocattolo industriale di massa (orsetto morbido e tener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40cb4"/>
                </a:solidFill>
                <a:latin typeface="Arial"/>
              </a:rPr>
              <a:t>I giocattoli dopo la seconda guerra mondial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412640"/>
            <a:ext cx="7386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Maggiore attenzione nei confronti dei bisogni dell’infanzi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I produttori di giocattoli sfruttano a loro favore lo spirito del temp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La Mattel, un’industria leader nel settore, scopre il potere promozionale della television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Agisce sul piacere procurato dal giocattolo e sulla pressione del gruppo dei pari tramite la pubblicit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Barbie – bambola frutto di un’attenta ricerca di mercat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40cb4"/>
                </a:solidFill>
                <a:latin typeface="Arial"/>
              </a:rPr>
              <a:t>Armi giocattolo e il gioco della guerra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341360"/>
            <a:ext cx="7386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Uso delle armi giocattolo diffuso tra i bambini (soprattutto maschi) di tutte le epoch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Forme pi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ù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 frequenti di giochi di guerra: a) lottare per finta con le armi giocattolo; b) giocare con figure da combattimento, quali mostri, soldati, supereroi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Ricerche sugli effetti dei giochi di guerra: aumentano l’aggressivit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 nel gioco, ma non il comportamento aggressivo a lungo termin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Atteggiamenti ambivalenti degli adult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f1311"/>
                </a:solidFill>
                <a:latin typeface="Arial"/>
              </a:rPr>
              <a:t>Giocattoli attual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341360"/>
            <a:ext cx="7386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Giocattoli elettronic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Videogiochi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Materiali da costruzione (es. mattoncini Lego, Duplo, ecc.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Giocattoli classici (bambole e occorrente per la loro cura, giocattoli-elettrodomestici, batteria cucina, la casetta, tutti i tipi di veicoli, palle di tutti i tipi e dimensioni, ecc.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Giochi sociali (domino, memory, uomo, non t’arrabbiare, gioco dell’oca e simili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40cb4"/>
                </a:solidFill>
                <a:latin typeface="Arial"/>
              </a:rPr>
              <a:t>Le origini culturali del giocattol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9280" y="1598760"/>
            <a:ext cx="747072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Provengono in parte dal mondo sacro: dai riti magici e religiosi, cerimonie sacre, danze, lotte rituali e pratiche divinatorie (es. palla – Maya; aquilone – Oriente;  sonagli, trottola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Provengono dalla sfera pratica ed economica: minuscoli ninnoli che imitano gli attrezzi usati dagli adulti, in terracotta, legno, stoffa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40cb4"/>
                </a:solidFill>
                <a:latin typeface="Arial"/>
              </a:rPr>
              <a:t>I giocattoli nell’antichit</a:t>
            </a:r>
            <a:r>
              <a:rPr b="0" lang="en-US" sz="4000" spc="-1" strike="noStrike">
                <a:solidFill>
                  <a:srgbClr val="440cb4"/>
                </a:solidFill>
                <a:latin typeface="Arial"/>
                <a:ea typeface="Arial"/>
              </a:rPr>
              <a:t>à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73864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f1311"/>
                </a:solidFill>
                <a:latin typeface="Arial"/>
              </a:rPr>
              <a:t>Testimonianze sui giocattoli tratte da scavi archeologici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 (es. tombe)</a:t>
            </a:r>
            <a:r>
              <a:rPr b="0" lang="it-IT" sz="2800" spc="-1" strike="noStrike">
                <a:solidFill>
                  <a:srgbClr val="2f1311"/>
                </a:solidFill>
                <a:latin typeface="Arial"/>
              </a:rPr>
              <a:t>, fonti letterarie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 (testi di autori vari),</a:t>
            </a:r>
            <a:r>
              <a:rPr b="0" lang="it-IT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fonti</a:t>
            </a:r>
            <a:r>
              <a:rPr b="0" lang="it-IT" sz="2800" spc="-1" strike="noStrike">
                <a:solidFill>
                  <a:srgbClr val="2f1311"/>
                </a:solidFill>
                <a:latin typeface="Arial"/>
              </a:rPr>
              <a:t> artistiche (pitture, incisioni, decorazioni vari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f1311"/>
                </a:solidFill>
                <a:latin typeface="Arial"/>
              </a:rPr>
              <a:t>I primi giocattoli: armi, aratri, oggetti di uso quotidiano in miniatura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, carrettini, burattini, bambole di argilla, cavallini a rotelle, minuscole stoviglie, pupazzi snodabili, trottole, astragali, statuine di animal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Differenze tra i ceti social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Picture 5" descr="astragali3"/>
          <p:cNvPicPr/>
          <p:nvPr/>
        </p:nvPicPr>
        <p:blipFill>
          <a:blip r:embed="rId4"/>
          <a:stretch/>
        </p:blipFill>
        <p:spPr>
          <a:xfrm>
            <a:off x="5940360" y="5373720"/>
            <a:ext cx="146520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40cb4"/>
                </a:solidFill>
                <a:latin typeface="Arial"/>
              </a:rPr>
              <a:t>I giocattoli al tempo dei </a:t>
            </a:r>
            <a:br>
              <a:rPr sz="3600"/>
            </a:br>
            <a:r>
              <a:rPr b="0" lang="hr-HR" sz="3600" spc="-1" strike="noStrike">
                <a:solidFill>
                  <a:srgbClr val="440cb4"/>
                </a:solidFill>
                <a:latin typeface="Arial"/>
              </a:rPr>
              <a:t>Greci e dei Romani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Bambini: imitazione delle occupazioni degli adulti (agricoltura, caccia, guerra, riti religiosi), gioco con le noci, con gli astragali, con le bambol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Bambine: imitazione delle faccende domestich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I giocattoli si regalavano alla nascita, per il compleanno e in occasione dei Saturnali (7 giorni dal 17 dicembre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Picture 4" descr="Bambola_romana"/>
          <p:cNvPicPr/>
          <p:nvPr/>
        </p:nvPicPr>
        <p:blipFill>
          <a:blip r:embed="rId4"/>
          <a:stretch/>
        </p:blipFill>
        <p:spPr>
          <a:xfrm>
            <a:off x="5724360" y="333360"/>
            <a:ext cx="1652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40cb4"/>
                </a:solidFill>
                <a:latin typeface="Arial"/>
              </a:rPr>
              <a:t>I giocattoli dal Medioevo al Cinquecento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7650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Invasioni barbariche – portano miseria sociale e povert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 di commerc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Medioevo: giocattoli – costruiti in casa con mezzi di fortuna, forme rozze e materiali deperibili (legno, tessuto, cuoio), nominati dalle fonti letterari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Conservati giocattoli in osso, terracott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Non esiste il concetto di giocattolo come prodotto destinato ad un vasto mercat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Il giocattolo serve a guidare i bambini verso futuri ruoli social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40cb4"/>
                </a:solidFill>
                <a:latin typeface="Arial"/>
              </a:rPr>
              <a:t>Giocattoli del Medioev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341000"/>
            <a:ext cx="7386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Giocattoli tipici - spade, archi, fionde, giavellotti, cerbottane, cavallini di legno, mulini a vento, fischietti, bocce e birilli, figure di soldati in legno, ceramica e piombo, gioco degli scacchi e della dama, coltellini, bambole, ditali in bronzo, contenitori per aghi e anelli da cucit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Picture 4" descr="cavallino-gioc"/>
          <p:cNvPicPr/>
          <p:nvPr/>
        </p:nvPicPr>
        <p:blipFill>
          <a:blip r:embed="rId2"/>
          <a:stretch/>
        </p:blipFill>
        <p:spPr>
          <a:xfrm>
            <a:off x="5796000" y="5013360"/>
            <a:ext cx="1241280" cy="1454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cerbottana"/>
          <p:cNvPicPr/>
          <p:nvPr/>
        </p:nvPicPr>
        <p:blipFill>
          <a:blip r:embed="rId3"/>
          <a:stretch/>
        </p:blipFill>
        <p:spPr>
          <a:xfrm>
            <a:off x="3059280" y="5229360"/>
            <a:ext cx="1917360" cy="1306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bambola_ceramica"/>
          <p:cNvPicPr/>
          <p:nvPr/>
        </p:nvPicPr>
        <p:blipFill>
          <a:blip r:embed="rId4"/>
          <a:stretch/>
        </p:blipFill>
        <p:spPr>
          <a:xfrm>
            <a:off x="1116000" y="5300640"/>
            <a:ext cx="12384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40cb4"/>
                </a:solidFill>
                <a:latin typeface="Arial"/>
              </a:rPr>
              <a:t>I giocattoli dal Cinquecento al Settecento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Riflesso delle conoscenze tecniche dell’epoca (nuove invenzioni ottiche e meccanich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Costruzione di giocattoli per bambini delle case aristocratich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Comparsa di giocattoli popolari venduti alle fiere: trottole, cavallucci di legno e cartapesta, bambole di pezza e di legn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Maggiore importanza affidata al gioco da illustri pensator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Compaiono giocattoli insoliti: lanterne magiche, ingegnosi giocattoli animati, giostre, raganelle, carte da gioco, case bambine, gioco dell’oc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40cb4"/>
                </a:solidFill>
                <a:latin typeface="Arial"/>
              </a:rPr>
              <a:t>Tipologie pi</a:t>
            </a:r>
            <a:r>
              <a:rPr b="0" lang="en-US" sz="3600" spc="-1" strike="noStrike">
                <a:solidFill>
                  <a:srgbClr val="440cb4"/>
                </a:solidFill>
                <a:latin typeface="Arial"/>
                <a:ea typeface="Arial"/>
              </a:rPr>
              <a:t>ù</a:t>
            </a:r>
            <a:r>
              <a:rPr b="0" lang="hr-HR" sz="3600" spc="-1" strike="noStrike">
                <a:solidFill>
                  <a:srgbClr val="440cb4"/>
                </a:solidFill>
                <a:latin typeface="Arial"/>
                <a:ea typeface="Arial"/>
              </a:rPr>
              <a:t> comuni di giocattoli nel passato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La bambola, la palla, il sonaglio, la trottola, le biglie, le statuine di animali, i cerchi, i carrettini, i cavallucci, i soldatini, le marionette, gli arredi domestici, gli attrezzi per il lavoro agricol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Materiali usati: creta, oro, bronzo, avorio, legno, terracott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40cb4"/>
                </a:solidFill>
                <a:latin typeface="Arial"/>
              </a:rPr>
              <a:t>I giocattoli nel XIX sec. e inizio XX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267920"/>
            <a:ext cx="7386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La pedagogia dell’800 esorta al gioc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Sorgono laboratori artigianali e piccole fabbriche per la produzione di giocattol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Venditori ambulanti smerciano i prodotti nelle fiere e nei mercat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Giocattoli per bambini: soldatini, piccole armi, cavallini, trenini, piccoli battelli, piccole automobili, il teatrino con marionette e burattini, giochi di societ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Giocattoli per bambine: bambole, casa delle bambole con arredi e corredi, pupazzi, cerchi, birill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7:19:06Z</dcterms:created>
  <dc:creator>miro</dc:creator>
  <dc:description/>
  <dc:language>en-US</dc:language>
  <cp:lastModifiedBy>Miro</cp:lastModifiedBy>
  <dcterms:modified xsi:type="dcterms:W3CDTF">2012-02-04T17:17:20Z</dcterms:modified>
  <cp:revision>17</cp:revision>
  <dc:subject/>
  <dc:title>I giocattoli </dc:title>
</cp:coreProperties>
</file>