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292-4785-44A5-A1EA-106A0E77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559-FC16-4079-99D9-E19AB73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3AC-7226-465A-B540-9F247E39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000-B283-4A46-A62D-E843C8C8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7CA-E97A-4F88-8790-BBC11CE9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7BB2-4769-4D83-BDC4-8095EB2A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E7E8-AC6A-4B10-A705-4FDEB09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20C-0EC8-475E-8F89-994B977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BC01-A79D-4BC3-B8E3-78012852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D945-580B-4762-A05A-B2899DE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247A-F087-45CA-9CF1-22B3E1D0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B9D-6F2C-470D-8033-6BB88C90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6EFD-C694-4F13-95F5-3E4A676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693A-3990-4C0A-9B38-F3491502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5776-2687-4704-97ED-E2710214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9485-2D77-45B4-AEBE-76F2787D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3FE6-4079-46F2-87AB-25C1C938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F43-DBBC-4C07-9C3C-85C709B5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204-CB86-4098-9F06-A91BF77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271-EEEF-4FE1-96D0-71B3D201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006-644B-4B74-8B9C-9D7BE4D2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851-25C1-4F84-9E5F-15693E1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60C-3DE7-485E-8BE0-BCF630F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1D4-3C8A-460F-B58B-D6B38C7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2A5-08CE-4B25-920A-7DA1E16C3D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CB19-EC1A-457A-871B-D66B3E8089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5" descr=""/>
          <p:cNvPicPr/>
          <p:nvPr/>
        </p:nvPicPr>
        <p:blipFill>
          <a:blip r:embed="rId1"/>
          <a:stretch/>
        </p:blipFill>
        <p:spPr>
          <a:xfrm>
            <a:off x="633240" y="1279440"/>
            <a:ext cx="846792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854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r.sc. Nevia Močini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La libertà dai vincoli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le regole, quando ci sono, non sono già date, ma vengono negoziate dai giocatori stessi che si accordano sul come giocare insiem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Il coinvolgimento attivo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ogni gioco richiede un impegno personale da parte del singolo giocator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l gioco come contes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Ricerche condotte in ambienti organizzati allo scopo di evocare comportamenti ludici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resenza di oggetti e materiali interessan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atteggiamento incoraggiante degli adul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atmosfera amichevole e supporti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orario predisposto in modo da evitare affaticamento e no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Il gioco come comportamento </a:t>
            </a:r>
            <a:br>
              <a:rPr sz="4000"/>
            </a:b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 osservabil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nstantia"/>
              </a:rPr>
              <a:t>Secondo Piaget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l gioco di esercizio – esercitazione degli schemi sensomotori acquisi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l gioco simbolico – il gioco di finzio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con regole – giochi social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nstantia"/>
              </a:rPr>
              <a:t>Secondo Catherine Garvey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con ogget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con le paro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di ruol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Il gioco come comportament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197000"/>
            <a:ext cx="84009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l comportamento osservabile – indicatore di sottostanti processi cognitivi o sociali; più attendibile e veritiero rispetto al criterio della disposizione psicolo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J. Piag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1. gioco di eserciz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2. gioco simbol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3. giochi con reg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. Garv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1. giochi con ogget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2. giochi con le par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3. giochi di ruol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4617b"/>
                </a:solidFill>
                <a:latin typeface="Calibri"/>
              </a:rPr>
              <a:t>Definizione del gioc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Il gioco 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 qualsiasi attività liberamente scelta a cui si dedichino, singolarmente o in gruppo, bambini o adulti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senza altri fini immediati che la ricreazione e lo svago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esercitano e sviluppano allo stesso tempo capacità fisiche, manuali e intellettive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(Enciclopedia Treccani)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l gioco e i bambi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289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Modo per conoscere il mond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Forma di comunicazion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Esperienza emotiv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Azione trasformativa sulla realt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Caratter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288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Il gioco si può studiare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come disposizione psicologic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come un insieme di comportamenti osservabil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come contesto in cui avviene un fenomen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l gioco come disposizione psicologica: caratteristi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Motivazione intrinsec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Priorità dei mezzi sul fi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Dominanza dell’individuo rispetto alla realtà estern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La non letteralit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La libertà dai vincol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Il coinvolgimento attiv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Motivazione intrinseca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non vi sono pressioni esterne o attese sociali che inducano tale comportamento. Si gioca per il piacere di farl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Priorità dei mezzi sul fine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il procedimento è più importante del risultato. L’attività ludica è fine a se stessa e indipendente dal suo esit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Spesso il piacere sta nella fase preparatoria del gioco più che nel gioco stess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Dominanza dell’individuo rispetto alla realtà esterna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 – l’individuo è al centro dell’attenzione; tutto ciò che lo circonda serve solo a stimolare la sua fantasia e produrre eccitazion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La non letteralità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il bambino si muove in un mondo immaginario, dove tutto è possibile e gli oggetti reali assumono funzioni nuove e insolite. Il bambino è consapevole di questa realtà diversa, fittizi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2:03:08Z</dcterms:created>
  <dc:creator>Miro</dc:creator>
  <dc:description/>
  <dc:language>en-US</dc:language>
  <cp:lastModifiedBy>Miro</cp:lastModifiedBy>
  <dcterms:modified xsi:type="dcterms:W3CDTF">2013-10-09T20:32:45Z</dcterms:modified>
  <cp:revision>97</cp:revision>
  <dc:subject/>
  <dc:title>Mikropučavanje u nastavi prirode i društva</dc:title>
</cp:coreProperties>
</file>