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BE27-65D4-423D-B953-578E6F6C71B8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8F82-7105-4243-9FC9-1085396A61E5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3E3B-CABF-490C-847F-6A58A97CD679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26DC-4172-4676-98ED-3B55128FF858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625F-F5EF-43BE-93CA-2E921543B6C9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D6F0-39F4-4BBE-BC62-097A72E0F686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3BB1-DF5B-4CF7-961E-7B60B9FC4D84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4914-AE95-4071-985F-7299623E3D13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5F3A-2CA0-49AF-87FB-85419A70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08CD-4A7A-420E-AAE2-8087FA91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5DB3-D20E-48D4-B9A6-106030F4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0BCC-ACA5-472D-92E4-6EB1F182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321D-5671-42EF-8436-BA05CC13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62A1-0D10-4990-8A44-B14E7599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A079-87F8-4C47-87DB-7955A7E4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B556-8D04-4629-A353-389BDBFB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0895-8E24-49B7-B970-0A5C56A2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3C98-2A37-46F9-9B3A-D80A7415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6717-AAEF-486B-9552-5B61C56D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CCA8-98FD-40B0-B14B-15AAF200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A78A-2A1E-4369-AAFF-7DFAD1C2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B3E2-EEF8-4795-9875-7F01D1C2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65E8-2288-46F1-8E3B-76B0E71A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B880-FE3F-46FE-9368-CE292038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44EB-2F91-4B1A-B926-F11B0C26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8B59-E9B1-4D01-852A-5041F6D1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C82-06C4-4F98-923C-47C1F331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4301-F75B-4393-8CE2-156D4A20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88FA-46E4-48A0-B9E0-C154B87D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7D7F-31E3-48F2-8F76-1BB85368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6C81-1A37-452B-92D1-83ED3088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68E4-1622-4A7E-8B1B-B72CBD73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656D-294B-4018-9B7C-509A68F4936C}" type="slidenum"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5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4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41E1-73C3-4BB1-B167-CEBBF382969B}" type="slidenum"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5840" y="1356840"/>
            <a:ext cx="8424720" cy="32259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248e2e"/>
                </a:solidFill>
                <a:latin typeface="Comic Sans MS"/>
              </a:rPr>
              <a:t>IL GIOCO</a:t>
            </a:r>
            <a:br>
              <a:rPr sz="4400"/>
            </a:br>
            <a:r>
              <a:rPr b="1" lang="hr-HR" sz="4400" spc="-1" strike="noStrike">
                <a:solidFill>
                  <a:srgbClr val="248e2e"/>
                </a:solidFill>
                <a:latin typeface="Comic Sans MS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71680" y="4857480"/>
            <a:ext cx="85723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rso di studio: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Educazione Prescolar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 ann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I giochi dei bambin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cente: Mr.sc. Nevia Močini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107136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9. Elenca i tipi di gioco simbolic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. Che cos' è «il cestino dei tesori» e a che cosa se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1. A che età i bambini iniziano con il gioco simbolico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    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-2 ann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    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-6 mes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     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-3 ann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      4 ann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. Che gioco è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ando i bambini fanno finta di b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ando corrono dietro ad una pall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ando giocano a dom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ando giocano a medico e pazi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ando giocano a nascond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)      quando giocano a rubabandie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3. Classifica le caratteristiche seguenti nelle categorie «giochi di fantasia» e «giochi con le regole»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)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anificazione esplicita delle azioni di gio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goziazione con i compagni sulle regole del gio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c)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mi di giochi fissi e riconoscibi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d)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e o più giocatori in competizione tra lo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e)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istenza di regole generali con un ampio margine di libert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f)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senza di ruoli più desiderabili di alt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g)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ruoli sono definiti a prio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h)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amma dei possibili comportamenti ristrett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i)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iste un sistema di sanzioni per chi viola le rego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)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o fine a se stess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senza della metacomunica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c)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ano d'azione (sequenza coordinata di azion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d)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o di oggetti e scena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e)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gioca per vinc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f)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regole sono prestabilit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g)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o o più giocato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h)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regole sono esplicite e fiss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i)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ercizio di comportamenti e ruoli socia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696080" cy="56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ifica i seguenti giochi in giochi tipicamente maschili, femminili o neutri. 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 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tta per fin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 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o della caset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o delle bambo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   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o con mezzi di trasporto quali camion,    macchinette, ruspe,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  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o della scu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 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itazione di supereroi e most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  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hi scientific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    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o del merc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  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o dei travestimen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  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o delle costruzio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hi da tavolo (domino, non t’arrabbiar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5. I fattori di influenza sulle differenze di genere nel gioc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 le aspettative e il comportamento degli adul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 le scelte educative dei genitor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   il contesto di gio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   l'influenza dei media, in particolare della pubblicità televisi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   la pressione del gruppo dei par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5800" y="-360"/>
            <a:ext cx="76960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. Nella scuola materna la gamma dei giochi scelti dipende d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   possibilità di muoversi liberam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   vincoli creati dalle educatric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    clima educa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    interazioni sociali tra le maes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    controllo delle maes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)    qualità delle interazioni tra i bambin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)    risorse della scuol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)    risorse dell'aul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)     stili relazionali delle maes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7. Il fenomeno dell'industria del giocattolo ha avuto inizi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    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rso la fine del Novec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    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rso la fine dell'Ottoc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     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rso la metà dell'Ottoc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     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'inizio del Novec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7773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e </a:t>
            </a:r>
            <a:r>
              <a:rPr b="1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posizione psicologic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quali caratteristiche deve avere il gioco?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      motivazione intrinse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     dimensione non rea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      motivazione estrinse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      priorità dei mezzi sul f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      dominanza dell'individuo rispetto alla realtà ester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)        libertà dai vinco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)      priorità del fine sui mezz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)      coinvolgimento at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)        importanza del contes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8. Il primo giocattolo industriale di massa è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    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bambola Barb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    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'orsacchiotto Teddy Be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     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bambolotto Cicciobel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)      il trenino di lat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9. I mass media influiscono sulle condotte aggressive dei bambini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  sì, hanno un ruolo determina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  no, non innescano comportamenti violen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   questo effetto non è confermato dalle ricer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0. Descrivi i lati positivi e quelli negativi dell'uso dei videogiochi.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Individua il periodo di comparsa del giocattol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Content Placeholder 3" descr="auto-di-legno.jpg"/>
          <p:cNvPicPr/>
          <p:nvPr/>
        </p:nvPicPr>
        <p:blipFill>
          <a:blip r:embed="rId1"/>
          <a:stretch/>
        </p:blipFill>
        <p:spPr>
          <a:xfrm>
            <a:off x="2214720" y="2214720"/>
            <a:ext cx="5716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Individua il periodo di comparsa del giocattol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Content Placeholder 7" descr="trottole.jpg"/>
          <p:cNvPicPr/>
          <p:nvPr/>
        </p:nvPicPr>
        <p:blipFill>
          <a:blip r:embed="rId1"/>
          <a:stretch/>
        </p:blipFill>
        <p:spPr>
          <a:xfrm>
            <a:off x="1857240" y="1785960"/>
            <a:ext cx="59817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Individua il periodo di comparsa del giocattol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Content Placeholder 3" descr="Bambole-Francia_1800.jpg"/>
          <p:cNvPicPr/>
          <p:nvPr/>
        </p:nvPicPr>
        <p:blipFill>
          <a:blip r:embed="rId1"/>
          <a:stretch/>
        </p:blipFill>
        <p:spPr>
          <a:xfrm>
            <a:off x="3106800" y="1828800"/>
            <a:ext cx="3566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Individua il periodo di comparsa del giocattol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Content Placeholder 5" descr="aereo-giocattolo.jpg"/>
          <p:cNvPicPr/>
          <p:nvPr/>
        </p:nvPicPr>
        <p:blipFill>
          <a:blip r:embed="rId1"/>
          <a:stretch/>
        </p:blipFill>
        <p:spPr>
          <a:xfrm>
            <a:off x="2214720" y="2071800"/>
            <a:ext cx="571176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Individua il periodo di comparsa del giocattol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9" name="Content Placeholder 3" descr="treno-antico.jpg"/>
          <p:cNvPicPr/>
          <p:nvPr/>
        </p:nvPicPr>
        <p:blipFill>
          <a:blip r:embed="rId1"/>
          <a:stretch/>
        </p:blipFill>
        <p:spPr>
          <a:xfrm>
            <a:off x="2214720" y="2143080"/>
            <a:ext cx="5192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Individua il periodo di comparsa del giocattol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Content Placeholder 3" descr="bambola-romana.jpg"/>
          <p:cNvPicPr/>
          <p:nvPr/>
        </p:nvPicPr>
        <p:blipFill>
          <a:blip r:embed="rId1"/>
          <a:stretch/>
        </p:blipFill>
        <p:spPr>
          <a:xfrm>
            <a:off x="2214720" y="1857240"/>
            <a:ext cx="1596960" cy="4751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Barbie-ballerina.jpg"/>
          <p:cNvPicPr/>
          <p:nvPr/>
        </p:nvPicPr>
        <p:blipFill>
          <a:blip r:embed="rId2"/>
          <a:stretch/>
        </p:blipFill>
        <p:spPr>
          <a:xfrm>
            <a:off x="4643280" y="1857240"/>
            <a:ext cx="33148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7"/>
          <p:cNvSpPr/>
          <p:nvPr/>
        </p:nvSpPr>
        <p:spPr>
          <a:xfrm>
            <a:off x="1000080" y="765000"/>
            <a:ext cx="750096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Il gioco può essere intes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 come una serie di comportamenti osservabil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 come disposizione psicolog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  come contesto (situazioni e processi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  come sequenza evolutiva di fasi di svilupp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 come attività concre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6732720" y="476280"/>
            <a:ext cx="194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3</a:t>
            </a:r>
            <a:r>
              <a:rPr b="0" lang="hr-H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E' più facile definire il gioco: </a:t>
            </a:r>
            <a:br>
              <a:rPr sz="3600"/>
            </a:b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    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livello teoretico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    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livello comportamentale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     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livello empirico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     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livello strumentale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      a livello contestual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6760" y="928440"/>
            <a:ext cx="82155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57120" y="2571840"/>
            <a:ext cx="850104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304920"/>
          <a:ext cx="7848720" cy="5789520"/>
        </p:xfrm>
        <a:graphic>
          <a:graphicData uri="http://schemas.openxmlformats.org/drawingml/2006/table">
            <a:tbl>
              <a:tblPr/>
              <a:tblGrid>
                <a:gridCol w="5638680"/>
                <a:gridCol w="2210040"/>
              </a:tblGrid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t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upporto al processo di creazione simbolica in funzione dello sviluppo cognitivo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ead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isposta originale a bisogni non soddisfatti e possibilità di emanciparsi dalle costrizioni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tuazionali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runer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ossibilità di conciliare il mondo interno con i vincoli della realtà esterna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iaget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do di confrontarsi con gli altri  e di assumere la prospettiva altrui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ygotski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ercizio di abilità cognitive o soci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Winnicott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7881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 A quale età il bambino inizia ad includere nel gioco gli oggetti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    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-3 mes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    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-6 mes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     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 an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360" y="642960"/>
            <a:ext cx="9001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 Che differenza c'è tra manipolazione generica e manipolazione selettiv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214200" y="380880"/>
            <a:ext cx="850104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 Individua i giochi dei bambini nei primi due anni di vit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plorazione del proprio corp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o simboli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nipolazione di ogget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azione ludica con le persone che lo cura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hi voca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)      giochi con le rego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azione ludica tra bambin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285840" y="304560"/>
            <a:ext cx="8215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. Individua i giochi dei bambini nel terzo anno di vit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plorazione del proprio corp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o simboli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nipolazione di ogget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azione ludica con le persone che lo cura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hi voca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)      giochi con le rego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azione ludica tra bambin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o di fantas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6:35:01Z</dcterms:created>
  <dc:creator>Korisnik</dc:creator>
  <dc:description/>
  <dc:language>en-US</dc:language>
  <cp:lastModifiedBy>Miro</cp:lastModifiedBy>
  <dcterms:modified xsi:type="dcterms:W3CDTF">2013-01-28T20:28:36Z</dcterms:modified>
  <cp:revision>34</cp:revision>
  <dc:subject/>
  <dc:title>IL RAPPORTO FRA LA DIDATTICA DELLA NATURA E SOCIETÀ E LE ALTRE SCIENZE</dc:title>
</cp:coreProperties>
</file>