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wmf" ContentType="image/x-wm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64BD-A21F-4A33-A386-F1DB85A74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8E35-0AB3-4B04-AFF3-1ABFC9B3CE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5F7-4DFD-4CC5-8463-040F62AA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047-B8E3-4EFA-A7EE-71752D48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D68-302A-45A6-BEF0-75C15915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1C1-921F-47A3-8A1C-3E399F2A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192F-320A-4F10-94CA-BFD51434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843A-289E-47D8-8D6C-035EDF18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8EE2-E5D2-47FC-974C-5FAB4BBA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B1E0-FAB6-44AF-B067-F2F11AF7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6D46-C7A7-4E6D-A278-23F37D7B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8936-841A-47DB-B739-3D803F32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0AE7-7CF1-457D-B342-97F4BCE9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A6D-869E-4BEB-BA69-380EEE56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F3CC-BDEB-42A7-A8E7-5EF160FB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6512-B219-49DC-A671-EE4E1509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F4AA-B0F6-4755-97CA-16791E86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BDE3-61C0-4C3B-AA7F-49F4DF5A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F16B-16BF-4CF9-8B53-9485D023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E8A-9D21-4A66-BADC-1F5E6D61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2D7-B5A5-47FF-B844-357F10DB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E18-04D3-41C2-93F0-037E70A3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DDF-5D56-4553-A009-C610E6A1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202-1947-45CF-BB5C-292CDEE5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CAA-9822-4B17-80AC-010E0A5A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A25-3769-4493-99CD-694D278A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C220-FC08-430C-8D5D-C882B2FC45EC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267D-6D58-405A-8F0F-304020FBFFE5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79551b"/>
                </a:solidFill>
                <a:latin typeface="Arial"/>
              </a:rPr>
              <a:t>I giochi tra storia e cultura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00360" y="2997000"/>
            <a:ext cx="5486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Arial"/>
              </a:rPr>
              <a:t>I giochi dei bambini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9551b"/>
                </a:solidFill>
                <a:latin typeface="Arial"/>
              </a:rPr>
              <a:t>Mr.sc. Nevia Močinić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56920" y="762120"/>
            <a:ext cx="586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Soggetto , stile, materiali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56840" y="1571760"/>
            <a:ext cx="70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Il volto di un uomo, di una donna, il teschio, il muso di un particolare animale (es. falco, bufalo, coccodrillo, iena, antilope, ecc.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Forma altamente stilizzata, codificata dalla tradizion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Materiali: legno intagliato o scolpito e poi dipinto con pigmenti naturali, pietre morbide, pelle, tessuti, elementi decorativi: denti, conchiglie, semi, iuta, ecc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Maschere africane - donn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4" name="Content Placeholder 5" descr="maschere-africane-donna-uomo.jpg"/>
          <p:cNvPicPr/>
          <p:nvPr/>
        </p:nvPicPr>
        <p:blipFill>
          <a:blip r:embed="rId1"/>
          <a:stretch/>
        </p:blipFill>
        <p:spPr>
          <a:xfrm>
            <a:off x="1785960" y="1643040"/>
            <a:ext cx="637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Maschere africane - uomini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6" name="Content Placeholder 3" descr="maschera-africana3jpg.jpg"/>
          <p:cNvPicPr/>
          <p:nvPr/>
        </p:nvPicPr>
        <p:blipFill>
          <a:blip r:embed="rId1"/>
          <a:stretch/>
        </p:blipFill>
        <p:spPr>
          <a:xfrm>
            <a:off x="1214280" y="1857240"/>
            <a:ext cx="4367520" cy="3886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maschera-pietra.jpg"/>
          <p:cNvPicPr/>
          <p:nvPr/>
        </p:nvPicPr>
        <p:blipFill>
          <a:blip r:embed="rId2"/>
          <a:stretch/>
        </p:blipFill>
        <p:spPr>
          <a:xfrm>
            <a:off x="5929200" y="1714680"/>
            <a:ext cx="24498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42680" y="762120"/>
            <a:ext cx="658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Maschere africane </a:t>
            </a:r>
            <a:br>
              <a:rPr sz="3200"/>
            </a:b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- animali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9" name="Content Placeholder 3" descr="maschera-leopardo-antilope.jpg"/>
          <p:cNvPicPr/>
          <p:nvPr/>
        </p:nvPicPr>
        <p:blipFill>
          <a:blip r:embed="rId1"/>
          <a:stretch/>
        </p:blipFill>
        <p:spPr>
          <a:xfrm>
            <a:off x="2071800" y="1714680"/>
            <a:ext cx="2939760" cy="450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maschera-bufalo.jpg"/>
          <p:cNvPicPr/>
          <p:nvPr/>
        </p:nvPicPr>
        <p:blipFill>
          <a:blip r:embed="rId2"/>
          <a:stretch/>
        </p:blipFill>
        <p:spPr>
          <a:xfrm>
            <a:off x="5286240" y="428760"/>
            <a:ext cx="3314880" cy="59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836640"/>
            <a:ext cx="6696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 giochi nelle societ</a:t>
            </a: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à</a:t>
            </a: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 civili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399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Ogni volta che una grande cultura riesce ad emergere dal caos originale, si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riscontra una sensibile regressione delle forze simulacro e vertigine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Esse vengon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allora svuotate della loro antica importanza, respinte alla periferia della vita pubblica,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ridotte a ruoli sempre più modesti e intermittenti, se non addirittura clandestini 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illeciti, oppure confinate nell’ambito limitato e regolato dei giochi e della fantasia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L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e maschere e travestimenti diventano ornamenti liturgici, accessori del cerimoniale,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ella danza o del teatro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9640" y="762120"/>
            <a:ext cx="7326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Le maschere, ornamenti della danza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640" y="1828440"/>
            <a:ext cx="725472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5" name="Picture 7" descr="maschera-moderna.jpeg"/>
          <p:cNvPicPr/>
          <p:nvPr/>
        </p:nvPicPr>
        <p:blipFill>
          <a:blip r:embed="rId1"/>
          <a:stretch/>
        </p:blipFill>
        <p:spPr>
          <a:xfrm>
            <a:off x="1428840" y="20001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maschera-veneziana.jpg"/>
          <p:cNvPicPr/>
          <p:nvPr/>
        </p:nvPicPr>
        <p:blipFill>
          <a:blip r:embed="rId2"/>
          <a:srcRect l="0" t="13020" r="0" b="12164"/>
          <a:stretch/>
        </p:blipFill>
        <p:spPr>
          <a:xfrm>
            <a:off x="4714920" y="1571760"/>
            <a:ext cx="2693880" cy="201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maschere-moderne.jpg"/>
          <p:cNvPicPr/>
          <p:nvPr/>
        </p:nvPicPr>
        <p:blipFill>
          <a:blip r:embed="rId3"/>
          <a:stretch/>
        </p:blipFill>
        <p:spPr>
          <a:xfrm>
            <a:off x="4429080" y="3643200"/>
            <a:ext cx="358776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762120"/>
            <a:ext cx="7254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 giochi derivati da rituali 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13880" y="1557000"/>
            <a:ext cx="7745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Il gioco è interpretato come territorio di costruzione ed esibizione </a:t>
            </a:r>
            <a:r>
              <a:rPr b="1" lang="hr-HR" sz="2800" spc="-1" strike="noStrike">
                <a:solidFill>
                  <a:srgbClr val="79551b"/>
                </a:solidFill>
                <a:latin typeface="Palatino Linotype"/>
              </a:rPr>
              <a:t>dell’appartenenza identitaria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dei membri di una data cultura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551b"/>
                </a:solidFill>
                <a:latin typeface="Palatino Linotype"/>
              </a:rPr>
              <a:t>L’aquilone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: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Diventa un gioco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 in Europa verso la fine del XVIII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lo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P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rima di diventare un gioco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rappresentava nell’estremo oriente l’anima staccata del suo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proprietario rimasto a terra ma collegato magicamente alla fragile armatura di carta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abbandonata ai vortici dei venti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41400" y="642960"/>
            <a:ext cx="5484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L'aquilone 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85880" y="1214280"/>
            <a:ext cx="77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In Corea si fanno volare gli aquiloni nel giorno del capodanno lunare, ripetendo la frase “mandar via la sfortuna e ottenere la fortuna”. Mentre l'aquilone vola alto nel cielo, lo spirito di chi lo fa volare si solleva scacciando la malasorte e si dà il benvenuto alla buona sorte.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-3358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Qualche volta si esprimono anche desideri specifici più personali. In questo modo, gli aquiloni tradizionali coreani sono stati trasmessi da generazione in generazione per circa 1.300 anni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0" y="713880"/>
            <a:ext cx="54849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79551b"/>
                </a:solidFill>
                <a:latin typeface="Palatino Linotype"/>
              </a:rPr>
              <a:t>L’altalena</a:t>
            </a: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: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85880" y="1428840"/>
            <a:ext cx="757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Nell’India vedica chi offre un sacrificio si dondola sull’altalena per aiutare il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ole a risalire nel cielo. Si ritiene che l’oscillante traiettoria dell’altalena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olleghi il cielo e la terra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Nell’antica Grecia 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simboleggia il passaggio dalla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terra 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al regno dei morti di Erigone che si impiccò all’albero cresciuto dal corpo del padre Icario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, oppure 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un’espiazione simbolica delle ragazze ateniesi per la morte di Erigon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79551b"/>
                </a:solidFill>
                <a:latin typeface="Palatino Linotype"/>
              </a:rPr>
              <a:t>Il gioco della palla </a:t>
            </a:r>
            <a:br>
              <a:rPr sz="3200"/>
            </a:b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13880" y="1285920"/>
            <a:ext cx="7572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Il gioco della palla era un rituale radicato nelle culture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dell’America central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veni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va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 praticato già prima del 1400 a.C. nelle basse zone tropicali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dove cresce l’albero della gomma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l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e partite venivano giocate tra due individui o tra due squadre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con 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significati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rituali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si svolgevano su larghi campi costruiti in pietra e si concludevano a volte con sacrifici umani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6678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Le origini del gioco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Il gioco è più antico della cultura in quanto giocato dagli animali ancor prima degli uomini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L’analisi del gioco ci consente di definirlo essenzialmente come attività: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551b"/>
                </a:solidFill>
                <a:latin typeface="Palatino Linotype"/>
              </a:rPr>
              <a:t>libera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: il gioco è libero, deve essere definito come un’attività volontaria font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i gioia e di divertimento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551b"/>
                </a:solidFill>
                <a:latin typeface="Palatino Linotype"/>
              </a:rPr>
              <a:t>circoscritta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entro certo limiti di tempo e di spazio fissati in anticipo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79551b"/>
                </a:solidFill>
                <a:latin typeface="Palatino Linotype"/>
              </a:rPr>
              <a:t>di finzione:</a:t>
            </a:r>
            <a:r>
              <a:rPr b="0" i="1" lang="en-US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accompagnata dalla consapevolezza specifica di una realtà diversa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, irreale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79551b"/>
                </a:solidFill>
                <a:latin typeface="Palatino Linotype"/>
              </a:rPr>
              <a:t>ordinata 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da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regole precise, arbitrarie, irrevocabili che bisogna accettare come tali e ch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presiedono al corretto svolgimento della partita. Chi bara, anche se le infrange,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finge almeno di rispettarl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l gioco della palla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28440" y="1828440"/>
            <a:ext cx="72975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Le più antiche palle di gomma conosciute provengono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dal centroamerica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ave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vano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 un diametro di circa 20 centimetri (all'incirca la dimensione di una pallone da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pallavolo) 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e un peso oscillante tra i 3 e i 4 chilogrammi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(15 x in più di quella attuale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gli studiosi ritengono che la palla usata nel gioco veniva colpita con le anche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assomigliava alla pallavolo senza la ret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Significato del gioco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720" y="1642680"/>
            <a:ext cx="71546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per i Maya 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simboleggiava la lotta tra i signori dell'oltretomba e i loro avversari terrestri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gli Aztechi vedevano nel gioco la lotta tra le forze della notte, capeggiate dalla luna e dalle stelle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 contro il sol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a volte 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il gioco della palla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era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 un metodo per risolvere i conflitti senza arrivare alla vera e propria guerra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32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 giochi nelle societ</a:t>
            </a: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à</a:t>
            </a: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 moderne 1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285920"/>
            <a:ext cx="7818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o Caillois, nelle società moderne l’</a:t>
            </a:r>
            <a:r>
              <a:rPr b="0" i="1" lang="en-US" sz="2800" spc="-1" strike="noStrike">
                <a:solidFill>
                  <a:srgbClr val="79551b"/>
                </a:solidFill>
                <a:latin typeface="Palatino Linotype"/>
              </a:rPr>
              <a:t>agon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e l’</a:t>
            </a:r>
            <a:r>
              <a:rPr b="0" i="1" lang="en-US" sz="2800" spc="-1" strike="noStrike">
                <a:solidFill>
                  <a:srgbClr val="79551b"/>
                </a:solidFill>
                <a:latin typeface="Palatino Linotype"/>
              </a:rPr>
              <a:t>alea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, cioè la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ompetizione e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la fortuna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, sostituiscono la coppia maschera-vertigine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I grandi giochi olimpici, che fanno la loro comparsa in quasi tutte le civiltà,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inaugurano e offrono l’esempio di una rivalità circoscritta e regolata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L’</a:t>
            </a:r>
            <a:r>
              <a:rPr b="0" i="1" lang="en-US" sz="2800" spc="-1" strike="noStrike">
                <a:solidFill>
                  <a:srgbClr val="79551b"/>
                </a:solidFill>
                <a:latin typeface="Palatino Linotype"/>
              </a:rPr>
              <a:t>agon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viene posto alla base di ogni carriera amministrativa, militare, universitaria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o giudiziaria.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La totalità della vita collettiva poggia su un equilibrio precario e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variabile fra l’</a:t>
            </a:r>
            <a:r>
              <a:rPr b="0" i="1" lang="en-US" sz="2800" spc="-1" strike="noStrike">
                <a:solidFill>
                  <a:srgbClr val="79551b"/>
                </a:solidFill>
                <a:latin typeface="Palatino Linotype"/>
              </a:rPr>
              <a:t>agon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e l’</a:t>
            </a:r>
            <a:r>
              <a:rPr b="0" i="1" lang="en-US" sz="2800" spc="-1" strike="noStrike">
                <a:solidFill>
                  <a:srgbClr val="79551b"/>
                </a:solidFill>
                <a:latin typeface="Palatino Linotype"/>
              </a:rPr>
              <a:t>alea,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vale a dire fra il merito e il caso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 giochi competitivi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9720" y="1828440"/>
            <a:ext cx="7226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I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 giochi più competitivi appartengano al bagaglio culturale delle società industriali, caratterizzate da una forte gerarchia e competitività nei rapporti sociali.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Sport moderni: calcio, pallacanestro, 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79551b"/>
                </a:solidFill>
                <a:latin typeface="Palatino Linotype"/>
              </a:rPr>
              <a:t>Sport da vertigine: canyoning, base e bungee jumping, rafting, paracadutismo, windsurf, immersione in apnea, motocross, skateboard ..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762120"/>
            <a:ext cx="718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 giochi nelle societ</a:t>
            </a: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à</a:t>
            </a: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 moderne - giostr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326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Invece le fiere e i luna-park appaiono come lo spazi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riservato agli strumenti da </a:t>
            </a:r>
            <a:r>
              <a:rPr b="1" lang="en-US" sz="2400" spc="-1" strike="noStrike">
                <a:solidFill>
                  <a:srgbClr val="79551b"/>
                </a:solidFill>
                <a:latin typeface="Palatino Linotype"/>
              </a:rPr>
              <a:t>vertigine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Le giostr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, le montagne russe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ono appositamente costruite per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provocare un panico viscerale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6" name="Picture 6" descr="montagne russe"/>
          <p:cNvPicPr/>
          <p:nvPr/>
        </p:nvPicPr>
        <p:blipFill>
          <a:blip r:embed="rId1"/>
          <a:stretch/>
        </p:blipFill>
        <p:spPr>
          <a:xfrm>
            <a:off x="1928880" y="3500280"/>
            <a:ext cx="2773440" cy="251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GIOSTRA"/>
          <p:cNvPicPr/>
          <p:nvPr/>
        </p:nvPicPr>
        <p:blipFill>
          <a:blip r:embed="rId2"/>
          <a:stretch/>
        </p:blipFill>
        <p:spPr>
          <a:xfrm>
            <a:off x="5000760" y="3500280"/>
            <a:ext cx="325584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43080" y="7621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Carnevale – maschere modern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3000" y="1828440"/>
            <a:ext cx="7083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Un esempio di sopravvivenza dell’antica maschera degli stregoni è la </a:t>
            </a:r>
            <a:r>
              <a:rPr b="1" lang="en-US" sz="2800" spc="-1" strike="noStrike">
                <a:solidFill>
                  <a:srgbClr val="79551b"/>
                </a:solidFill>
                <a:latin typeface="Palatino Linotype"/>
              </a:rPr>
              <a:t>maschera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grottesca del Carnevale.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50" name="Picture 4" descr="zvoncari1"/>
          <p:cNvPicPr/>
          <p:nvPr/>
        </p:nvPicPr>
        <p:blipFill>
          <a:blip r:embed="rId1"/>
          <a:stretch/>
        </p:blipFill>
        <p:spPr>
          <a:xfrm>
            <a:off x="2071800" y="3286080"/>
            <a:ext cx="2843280" cy="2627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zvoncari drappi"/>
          <p:cNvPicPr/>
          <p:nvPr/>
        </p:nvPicPr>
        <p:blipFill>
          <a:blip r:embed="rId2"/>
          <a:stretch/>
        </p:blipFill>
        <p:spPr>
          <a:xfrm>
            <a:off x="5500800" y="2786040"/>
            <a:ext cx="1517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761760"/>
            <a:ext cx="725472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 giochi e i bambini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Chi lavora con i bambini nota con evidenza che quelli con problemi non partecipan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ai giochi, tendono ad isolarsi, stanno in disparte, non sanno giocare o non posson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giocare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I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l gioco è connesso al piacere specifico che ricaviamo da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esso, ma poi si rivela estremamente legato alla capacità di </a:t>
            </a:r>
            <a:r>
              <a:rPr b="0" i="1" lang="en-US" sz="2400" spc="-1" strike="noStrike">
                <a:solidFill>
                  <a:srgbClr val="79551b"/>
                </a:solidFill>
                <a:latin typeface="Palatino Linotype"/>
              </a:rPr>
              <a:t>stare al gioco e nel gioco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,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alla capacità di saper accettare e abitare lo spazio del gioco e della relazione, il su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rischio e il suo inevitabile squilibrio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79551b"/>
                </a:solidFill>
                <a:latin typeface="Palatino Linotype"/>
              </a:rPr>
              <a:t>Recuperare e conoscere i giochi della propria tradizione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è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it-IT" sz="2400" spc="-1" strike="noStrike">
                <a:solidFill>
                  <a:srgbClr val="79551b"/>
                </a:solidFill>
                <a:latin typeface="Palatino Linotype"/>
              </a:rPr>
              <a:t>importante per l'educazione e può essere un modo per avvicinarsi alle altre culture scoprendo le diversità e 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le </a:t>
            </a:r>
            <a:r>
              <a:rPr b="0" lang="it-IT" sz="2400" spc="-1" strike="noStrike">
                <a:solidFill>
                  <a:srgbClr val="79551b"/>
                </a:solidFill>
                <a:latin typeface="Palatino Linotype"/>
              </a:rPr>
              <a:t>similitudini dei giochi.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762120"/>
            <a:ext cx="7110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l gioco – principio base della civilt</a:t>
            </a: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à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828440"/>
            <a:ext cx="732636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Huizinga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fa derivar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allo spirito ludico 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la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maggior parte delle istituzioni che regolano le società o l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iscipline: la giurisprudenza, la politica, l’arte, la musica, perfino la guerra, in cui il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gioco è il principio regolatore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Negli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esempi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che seguono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si può leggere il progredire stess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ella civiltà nella misura in cui questa consiste nel passaggio da un universo caotic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ad un universo regolato che poggia su di un sistema coerente ed equilibrato di diritti 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overi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762120"/>
            <a:ext cx="711036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l gioco prepara alla vita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25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Il gioco allena in generale alla vita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aumentando 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le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capacità di superare gli ostacoli o di far fronte alle difficoltà. </a:t>
            </a:r>
            <a:r>
              <a:rPr b="0" lang="it-IT" sz="2400" spc="-1" strike="noStrike">
                <a:solidFill>
                  <a:srgbClr val="79551b"/>
                </a:solidFill>
                <a:latin typeface="Palatino Linotype"/>
              </a:rPr>
              <a:t>Esso è un veicolo valido per l'appropriazione di tutte quelle abilità necessarie per la vita nel proprio contesto culturale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Il gioco presuppone la volontà di vincere, utilizzando nel miglior modo cert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risorse, vietando di far ricorso ai colpi proibiti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Il gioco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esige di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uperare in lealtà l’avversario, fidarsi di lui per principio e combatterlo senza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animosità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A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ccettare in anticipo lo scacco eventuale, la sfortuna o la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fatalità, rassegnarsi alla sconfitta senza rabbia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o vincere senza darsi troppe arie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762120"/>
            <a:ext cx="7254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Classificazione dei giochi (Callois)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573800" cy="2806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3995640" y="1484280"/>
            <a:ext cx="127980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6877080" y="3141720"/>
            <a:ext cx="1647720" cy="124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4211640" y="5229360"/>
            <a:ext cx="1235160" cy="1233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838160" cy="11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762120"/>
            <a:ext cx="7326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 giochi e le cultur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17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  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Caillois sostiene che i giochi sono largamente dipendenti dalle culture in cui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vengono praticati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79551b"/>
                </a:solidFill>
                <a:latin typeface="Palatino Linotype"/>
              </a:rPr>
              <a:t>Il tipo di gioco al quale giocano i popoli nel mondo rispecchia i valori della loro civiltà.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I giochi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ne sottolineano i gusti, ne prolungano le usanze, ne rifletton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le credenze. Quindi non è affatto assurdo tentare la diagnosi di una civiltà partend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ai giochi che vi fioriscono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i tratta di determinare l’importanza che le divers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ocietà attribuiscono al gusto della competizione, alla ricerca della fortuna, al piacer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ell’imitazione o all’attrazione della vertigine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32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 giochi tipici delle societ</a:t>
            </a: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à</a:t>
            </a: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 primitiv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econdo Caillois nelle società primitive regnano la </a:t>
            </a:r>
            <a:r>
              <a:rPr b="1" lang="en-US" sz="2400" spc="-1" strike="noStrike">
                <a:solidFill>
                  <a:srgbClr val="79551b"/>
                </a:solidFill>
                <a:latin typeface="Palatino Linotype"/>
              </a:rPr>
              <a:t>maschera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e la </a:t>
            </a:r>
            <a:r>
              <a:rPr b="1" lang="en-US" sz="2400" spc="-1" strike="noStrike">
                <a:solidFill>
                  <a:srgbClr val="79551b"/>
                </a:solidFill>
                <a:latin typeface="Palatino Linotype"/>
              </a:rPr>
              <a:t>vertigine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. Le maschere sono strumenti di metamorfosi, fanno la lor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apparizione nel corso delle feste sacre. L’irruzione di questi fantasmi è l’irromper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elle potenze dell’ignoto che l’uomo teme e sulle quali sente di non aver potere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Questa vertigine collettiva, causata dalla presenza contagiosa delle maschere, diventa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il punto culminante e aggregante dell’esistenza pubblica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D’altra parte, nelle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ocietà </a:t>
            </a:r>
            <a:r>
              <a:rPr b="0" lang="it-IT" sz="2400" spc="-1" strike="noStrike">
                <a:solidFill>
                  <a:srgbClr val="79551b"/>
                </a:solidFill>
                <a:latin typeface="Palatino Linotype"/>
              </a:rPr>
              <a:t>di carattere tribal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,</a:t>
            </a:r>
            <a:r>
              <a:rPr b="0" lang="it-IT" sz="2400" spc="-1" strike="noStrike">
                <a:solidFill>
                  <a:srgbClr val="79551b"/>
                </a:solidFill>
                <a:latin typeface="Palatino Linotype"/>
              </a:rPr>
              <a:t> dove il principio fondamentale è quello della convivenza basata sulla condivisione di tutti i beni prodotti dalla comunità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,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it-IT" sz="2400" spc="-1" strike="noStrike">
                <a:solidFill>
                  <a:srgbClr val="79551b"/>
                </a:solidFill>
                <a:latin typeface="Palatino Linotype"/>
              </a:rPr>
              <a:t>si trovano più facilmente giochi cooperativi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L’uso della maschera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71800" y="1828440"/>
            <a:ext cx="621504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accompagnato da certi tipi di musica o di danza 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da costumi particolari, che aiutano a nascondere l’identità del danzatore o del sacerdote mascherato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danze e rappresentazioni mascherate servono da buon augurio per riti e cerimonie specifici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56880" y="785880"/>
            <a:ext cx="6357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Le maschere tradizionali african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2640" y="1642680"/>
            <a:ext cx="72867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Significato rituale e social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Usata durante rituali o cerimonie sacre, riti propiziatori, feste del raccolto, funerali, matrimoni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Rappresentano: divinità, spiriti degli antenati, esseri mitologici, il bene e il male, gli spiriti degli antenati, degli animali, esseri che hanno potere sull’umanità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Chi indossa la maschera incarna lo spirito di colui che essa rappresenta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9:49:47Z</dcterms:created>
  <dc:creator>miro</dc:creator>
  <dc:description/>
  <cp:keywords/>
  <dc:language>en-US</dc:language>
  <cp:lastModifiedBy>Miro</cp:lastModifiedBy>
  <dcterms:modified xsi:type="dcterms:W3CDTF">2014-01-08T20:32:25Z</dcterms:modified>
  <cp:revision>77</cp:revision>
  <dc:subject/>
  <dc:title>I giochi tra storia e cultu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91033</vt:lpwstr>
  </property>
</Properties>
</file>