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FF3-9038-4AE7-AE54-B11F746A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6D4-C421-4900-B3D0-0CD631F6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4D6-B6D4-41E0-828E-DC10C3F6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464-2F58-4DBF-A720-92545C8C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DECB-6818-4C47-8B36-FB5C6973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2C6E-D4A2-4823-900C-1EFBC0DB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B1BA-BAB3-4AC8-AECF-46865001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7139-3363-400F-BE47-F5B21239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691B-A2DC-4342-AF6B-31BAFA21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DCEA-A474-4BAE-9958-EDE90D9A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35AF-C272-452C-8E7A-38F59B1E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EF3-E545-425B-AD2C-21C27A98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A615-CEF7-4894-9247-D6A44AA2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108E-7598-41B5-84BD-1C43B28C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0A6A-54CF-4242-AE48-F2F11060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B91E-5A46-4492-B84D-474A3936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DE6E-A7EB-423F-84CE-2714ABB3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134DC-1E2A-4BB2-A023-5D701EA6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12A0E-66B8-4A9A-B6CC-F80B194D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73EF1-6165-494D-B68C-86460EF8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C96B9-550C-4A67-92C4-32680D99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ABEFE-F53F-4BC9-ADF4-A400D29C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B36-23C1-4F64-BD3D-7161C770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28548-D89E-44C9-A30A-16360BA5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CB9D0-6C81-4C7F-A593-0ABC1316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74616-7270-4245-8F4C-05058664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D999A-56BB-41E8-B131-7BE81A4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72580-D972-408A-A8D4-FB6D59D2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AEC32-3DAE-4B90-B704-2AAF94E3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40041-E6F9-4B34-B00C-0F869BB3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01617-350D-4355-9FA3-F90CF8F8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FDD1-AC01-4159-9168-7EFBA282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7B63-C478-476A-8DF0-0029D17E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044-0FF7-4368-8914-4F481D4A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5A03-9B2E-4884-B498-4ED79BB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F3E64-C19A-4CDD-BD41-C276B923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39FF-AA66-46A8-ABB0-B7CE7A3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D729-5C88-4F0B-AEAA-AC9E3CF6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FB7C6-E6A4-4236-A0CB-3C30D801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5628-0EAC-4C2C-886C-9D0D3EC4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12F9-B2BF-469E-B4B2-006ABC48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24F23-9050-4F67-B2A8-4BA00630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5BDC-18E2-4F25-8317-CE15B2C9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73F72-BB6E-4782-A74A-956A6ED6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1E0-ED6C-4C89-AB90-7C785F23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B0DDD-ED4C-4FB7-A3E2-88790A86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8A62A-57DE-4F6E-A7D0-B588BAC1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00C9A-2E80-4972-B3D6-4CF98EE4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DF846-E665-4BDD-BDC3-B024C3F3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E0E45-36B6-4001-942F-47BA360C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A63B8-8BC7-4CF3-88D4-8A22FBFB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5F4D4-65C1-473C-9224-48816EF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247AF-180B-4760-A697-10B82A71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B2713-572E-42BD-A640-1743A04F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264B1-2974-436B-BFBE-EBE908D0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B60-364F-4C5C-90B0-EA55460F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4357E-67B2-42F1-BC68-0CA98E4C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631A5-73E8-43D8-B55D-C74133AA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DF9AD-CE5C-4D75-AEC8-3716CC5A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7A073-7B84-466D-B95B-3E80F8E5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86DD5-CCAA-4999-9DF8-C81F796D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7855B-4720-4325-9CFD-D1B780B4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5BC0F2-13EA-4E61-B628-D6D69964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5F8F1-D5FB-4619-AD56-C1250BC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86F92-B8C3-480D-8795-FD0D165A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5861A-BE97-496D-A5F5-EB4FA751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5F8-F693-498E-828E-8C9E64A4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B89DE-5728-4C65-A5A6-17EF1692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2BE62-A053-44DE-B92D-3FC58D98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C1BD5-2F3D-4FFF-85F2-62AA6CD0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27969-3FE1-4896-BD19-9CDD1AD9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3E367-8E99-407E-8AA2-F69DE6C0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489C4-3D81-4B9C-8435-EE93C975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A56C7-84B9-443B-BB1D-FBCD282D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6C3B8-E7C9-4C86-A741-CCC81774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6434E-FBA6-4F76-BE11-3B809861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2E4A5-C423-4987-8895-5D0415E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726-0B59-4BD4-B5F3-C90A8B0E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2C3BD-A408-4CF3-B0CC-86DA99A0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DD286-C82D-4FE9-9939-5B41988B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82F9A-C9B5-417E-A434-51C9B243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4CD4C-173E-4A7B-96E5-DAAF38BB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83006F-7E75-4191-AE23-49F1FAA0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FB8-84A7-44D0-A7B2-20938E4B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5AFA-D6BC-4C74-9607-A17721057A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8BE5-7579-4FD0-9655-1C92C517B0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AE2A-7CD2-4EDA-8323-3186FDA6D6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05BC-B2F0-4184-A55B-ED24CFC301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A2BF-DC3F-4788-9937-C96DF70B55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A024-59A8-419C-9527-23C275D622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F21-B99A-4CAA-A0E3-691BF058AB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5.jpeg"/><Relationship Id="rId6" Type="http://schemas.openxmlformats.org/officeDocument/2006/relationships/image" Target="../media/image13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575f6d"/>
                </a:solidFill>
                <a:latin typeface="Century Schoolbook"/>
              </a:rPr>
              <a:t>I MEZZI DIDATTIC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75f6d"/>
                </a:solidFill>
                <a:latin typeface="Century Schoolbook"/>
              </a:rPr>
              <a:t>Didattica dell’educazione ambientale e protomatematica 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575f6d"/>
                </a:solidFill>
                <a:latin typeface="Century Schoolbook"/>
              </a:rPr>
              <a:t>Mr.sc. Nevia Močinić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LE ILLUSTRAZIONI PIÙ USATE </a:t>
            </a:r>
            <a:br>
              <a:rPr sz="3000"/>
            </a:b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E LA LORO UTILIT</a:t>
            </a:r>
            <a:r>
              <a:rPr b="0" lang="hr-HR" sz="2400" spc="-1" strike="noStrike">
                <a:solidFill>
                  <a:srgbClr val="575f6d"/>
                </a:solidFill>
                <a:latin typeface="Century Schoolbook"/>
              </a:rPr>
              <a:t>À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599840"/>
            <a:ext cx="74674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una serie di illustrazioni sul mondo anima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una serie di illustrazioni sul mondo vegeta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illustrazioni che rappresentano le stagioni e il temp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illustrazioni dei fenomeni natural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illustrazioni delle opere dell’uom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illustrazioni del traffico, dei mezzi di trasporto, dei mestieri, ec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575f6d"/>
                </a:solidFill>
                <a:latin typeface="Century Schoolbook"/>
              </a:rPr>
              <a:t>L’ UTILITÀ DELLE ILLUSTRAZIONI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Le illustrazioni possono essere esposte sul pannello per segnalare una stagione, una festa, un argomento di conversazione, ec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ono una fonte di conoscenze nuov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ossono essere usate come mezzi per consolidare il sapere e le esperienze dei bambin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er precisare i concetti già imparati dai bambin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per motivarli alla conversazi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 REQUISITI ESTETICI E DIDATTICI</a:t>
            </a:r>
            <a:br>
              <a:rPr sz="3000"/>
            </a:b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DELL’ILLUSTRAZIO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non deve avere troppi dettagli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deve avere colori vivac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deve mettere in evidenza ciò che si desidera far osserv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il contenuto dell'illustrazione stimola i bambini ad esprimere ciò che sentono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aiuta a cercare di stabilire i legami fra i fenomeni osservat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aiuta a scoprire le cause di vari fenomeni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TIPI DI ILLUSTRAZION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Content Placeholder 3" descr="AnimaliFattoria.jpg"/>
          <p:cNvPicPr/>
          <p:nvPr/>
        </p:nvPicPr>
        <p:blipFill>
          <a:blip r:embed="rId1"/>
          <a:stretch/>
        </p:blipFill>
        <p:spPr>
          <a:xfrm>
            <a:off x="1428840" y="1500120"/>
            <a:ext cx="3200400" cy="22766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394" name="Picture 4" descr="disegniCassonetti.jpg"/>
          <p:cNvPicPr/>
          <p:nvPr/>
        </p:nvPicPr>
        <p:blipFill>
          <a:blip r:embed="rId2"/>
          <a:stretch/>
        </p:blipFill>
        <p:spPr>
          <a:xfrm>
            <a:off x="5357880" y="1928880"/>
            <a:ext cx="2857320" cy="3289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395" name="Picture 5" descr="Trenino.jpg"/>
          <p:cNvPicPr/>
          <p:nvPr/>
        </p:nvPicPr>
        <p:blipFill>
          <a:blip r:embed="rId3"/>
          <a:stretch/>
        </p:blipFill>
        <p:spPr>
          <a:xfrm>
            <a:off x="857160" y="4000680"/>
            <a:ext cx="42116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GLI ALBI ILLUSTRATI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anno conoscere il mondo reale, i fenomeni naturali, le piante, gli animali, gli oggetti della realtà circostante, le professioni, le stagioni, ec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ono il migliore intermediario tra la realtà e il bambi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arlano con un linguaggio universale, quello delle immagini, comprensibile indipendentemente dalla lingua che si par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guardando l'immagine il bambino è stimolato a porre doman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TIPI DI ALBI ILLUSTRAT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ssiamo dividere gli albi illustrati in diversi grupp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lbi illustrati senza tes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lbi illustrati con un breve testo scrit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ibri riccamente illustrat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3" descr="albo-illustr.1jpg.jpg"/>
          <p:cNvPicPr/>
          <p:nvPr/>
        </p:nvPicPr>
        <p:blipFill>
          <a:blip r:embed="rId1"/>
          <a:stretch/>
        </p:blipFill>
        <p:spPr>
          <a:xfrm>
            <a:off x="857160" y="4071960"/>
            <a:ext cx="1656000" cy="2004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albo-illust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160360" cy="2195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favole-Esopo.jpg"/>
          <p:cNvPicPr/>
          <p:nvPr/>
        </p:nvPicPr>
        <p:blipFill>
          <a:blip r:embed="rId3"/>
          <a:stretch/>
        </p:blipFill>
        <p:spPr>
          <a:xfrm>
            <a:off x="5500800" y="3643200"/>
            <a:ext cx="23763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ESEMPI DI ALBI ILLUSTRATI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lbi illustrati senza parole, che rappresentano animali: la chiocciola, la rana, la farfalla, la coccinella nel corso della loro metamorfosi dall'uovo in animale adulto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gli animali domestici nel loro ambiente naturale: la cavalla con il puledro, la mucca e il vitellino, la pecora e l'agnello, il cane, la gatta con i gattini, le oche nello stagno, gli animali domestici e il loro cibo preferito, gli animali e le loro tane, ec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ESEMPI DI ALBI ILLUSTRATI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l bambino, la bambina e i genitori in varie situazioni tipiche per la vita quotidiana (colazione, pranzo, cena, a far compere, in vacanza, in palestra, ecc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tutte le azioni del bambino da quando si alza al mattino, finché va a dormire, la se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 giochi sulla neve, in campagna, nel campo gioch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'amicizia tra un bambino e un anim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 mezzi di trasporto e il loro u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l giardino zoolo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gli ecosistemi: il mare, il bosco, il prato, lo stag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LIBRI PER BAMBINI IN ETA' PRESCOLA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a funzione dell'opera letteraria nella conoscenza ambiental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onsolidare il sapere dei bambi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uscitare emozioni nei bambi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viluppare l’amore per la lettu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ormare l'atteggiamento corretto verso la natura e la societ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ar sentire ai bambini la bellezza e la varietà della natu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omprendere il valore del lavoro dell'u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TIPI DI LIBRI PER BAMBIN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e favole, le fiabe, i racconti, le poes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 racconti con protagonisti i bambini, gli adulti, i giocattol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 racconti con protagonisti gli oggetti, i fenomeni naturali, le piante, gli animali domestici, gli animali del bos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 racconti con notizie sulla vita reale, sui rapporti tra gli uomi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 racconti che esprimono i sentimenti più delicati, i pensieri più nascosti in modo semplice e interessa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L CALENDARIO DEL TEM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719360"/>
            <a:ext cx="8362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i basa sull'osservazione e registrazione dei cambiamenti del tempo e degli altri fenomeni natural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erve per assimilare gradualmente i concetti di nuvoloso, variabile, pioggia, nebbia, neve, ven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Regole di applicazion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deve essere compilato regolar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i risultati ottenuti devono essere confrontat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entury Schoolbook"/>
              </a:rPr>
              <a:t>si traggono conclusioni elementari e astrazioni adegua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5f6d"/>
                </a:solidFill>
                <a:latin typeface="Century Schoolbook"/>
              </a:rPr>
              <a:t>I FILMATI E LE </a:t>
            </a:r>
            <a:br>
              <a:rPr sz="2800"/>
            </a:br>
            <a:r>
              <a:rPr b="0" lang="hr-HR" sz="2800" spc="-1" strike="noStrike">
                <a:solidFill>
                  <a:srgbClr val="575f6d"/>
                </a:solidFill>
                <a:latin typeface="Century Schoolbook"/>
              </a:rPr>
              <a:t>PRESENTAZIONI IN POWERPOINT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utili per la conoscenza ambientale dei luoghi o fenomeni inaccessibi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nella scelta delle immagini da presentare si deve far attenzione a individuare quelle veramente indispensabili per far capire un fenomeno naturale, un concetto, un ev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e immagini devono essere chiare, di alta qualità estetica, presentare l'argomento nel suo complesso e nei dettag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ssono essere utili nell'introduzione all'attività organizzata per risvegliare l'interesse e l'attenzione dei bambini sull'arg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REGOLE PER LA</a:t>
            </a:r>
            <a:br>
              <a:rPr sz="3000"/>
            </a:b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PREPARAZIONE E L’US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e frasi saranno brevi, semplici, chiare, facilmente comprensibili e formulate correttament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a spiegazione o l'eventuale racconto dell'educatrice deve essere collegato con il contenuto dell'immag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on l'aiuto dell'immagine statica e dell'esposizione dell'insegnante si può preparare i bambini a capire e seguire l'immagine dinamica dello schermo televisivo arricchita da effetti sonori, dalla musica e dalle paro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LE VIDEOCASSET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e videocassette di educazione ambiental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evono basarsi soprattutto sull'immagine accompagnata da spiegazioni semplici e brev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ssono essere usate come stimolo per risvegliare l'interesse per un arg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ampliare e approfondire l'esperienza dei bambini su temi distanti nello spazio e nel temp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ripetere e consolidare contenuti trattati in precedenza ed esperienze vissute nella realt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4" descr="filmato-ed-sess.jpg"/>
          <p:cNvPicPr/>
          <p:nvPr/>
        </p:nvPicPr>
        <p:blipFill>
          <a:blip r:embed="rId1"/>
          <a:stretch/>
        </p:blipFill>
        <p:spPr>
          <a:xfrm>
            <a:off x="7143840" y="642960"/>
            <a:ext cx="1076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TIPI DI CALENDARIO DELLA NATU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7686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l calendario della natura è differente a seconda del gruppo d'età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La registrazione della stagione: costituita da oggetti o immagini di frutta, fiori, foglie, animali, sassolini, conchiglie, ramoscelli tipici per una determinata stagi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3" descr="bocciolo.bmp"/>
          <p:cNvPicPr/>
          <p:nvPr/>
        </p:nvPicPr>
        <p:blipFill>
          <a:blip r:embed="rId1"/>
          <a:stretch/>
        </p:blipFill>
        <p:spPr>
          <a:xfrm>
            <a:off x="785880" y="5072040"/>
            <a:ext cx="1044360" cy="1246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formica.bmp"/>
          <p:cNvPicPr/>
          <p:nvPr/>
        </p:nvPicPr>
        <p:blipFill>
          <a:blip r:embed="rId2"/>
          <a:stretch/>
        </p:blipFill>
        <p:spPr>
          <a:xfrm>
            <a:off x="642960" y="4000680"/>
            <a:ext cx="1260360" cy="936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giacinto.bmp"/>
          <p:cNvPicPr/>
          <p:nvPr/>
        </p:nvPicPr>
        <p:blipFill>
          <a:blip r:embed="rId3"/>
          <a:stretch/>
        </p:blipFill>
        <p:spPr>
          <a:xfrm>
            <a:off x="6929280" y="3714840"/>
            <a:ext cx="1079640" cy="1374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pratoline.bmp"/>
          <p:cNvPicPr/>
          <p:nvPr/>
        </p:nvPicPr>
        <p:blipFill>
          <a:blip r:embed="rId4"/>
          <a:stretch/>
        </p:blipFill>
        <p:spPr>
          <a:xfrm>
            <a:off x="5643720" y="3571920"/>
            <a:ext cx="900000" cy="1346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pulcini2.jpg"/>
          <p:cNvPicPr/>
          <p:nvPr/>
        </p:nvPicPr>
        <p:blipFill>
          <a:blip r:embed="rId5"/>
          <a:stretch/>
        </p:blipFill>
        <p:spPr>
          <a:xfrm>
            <a:off x="4143240" y="5572080"/>
            <a:ext cx="1057320" cy="828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rondine.bmp"/>
          <p:cNvPicPr/>
          <p:nvPr/>
        </p:nvPicPr>
        <p:blipFill>
          <a:blip r:embed="rId6"/>
          <a:stretch/>
        </p:blipFill>
        <p:spPr>
          <a:xfrm>
            <a:off x="4214880" y="3714840"/>
            <a:ext cx="1038240" cy="10666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9"/>
          <p:cNvSpPr/>
          <p:nvPr/>
        </p:nvSpPr>
        <p:spPr>
          <a:xfrm>
            <a:off x="3857760" y="464328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MA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0" descr="vespa.bmp"/>
          <p:cNvPicPr/>
          <p:nvPr/>
        </p:nvPicPr>
        <p:blipFill>
          <a:blip r:embed="rId7"/>
          <a:stretch/>
        </p:blipFill>
        <p:spPr>
          <a:xfrm>
            <a:off x="5500800" y="5214960"/>
            <a:ext cx="863640" cy="1033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asina e puledro.bmp"/>
          <p:cNvPicPr/>
          <p:nvPr/>
        </p:nvPicPr>
        <p:blipFill>
          <a:blip r:embed="rId8"/>
          <a:stretch/>
        </p:blipFill>
        <p:spPr>
          <a:xfrm>
            <a:off x="2071800" y="4429080"/>
            <a:ext cx="1692000" cy="1465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nonno lavora.bmp"/>
          <p:cNvPicPr/>
          <p:nvPr/>
        </p:nvPicPr>
        <p:blipFill>
          <a:blip r:embed="rId9"/>
          <a:stretch/>
        </p:blipFill>
        <p:spPr>
          <a:xfrm>
            <a:off x="6643800" y="5357880"/>
            <a:ext cx="1361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CALENDARIO DEL TEMPO – UN ME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Content Placeholder 3" descr="cal-tempo.bmp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071800" y="1643040"/>
            <a:ext cx="4143240" cy="4762440"/>
          </a:xfrm>
          <a:prstGeom prst="rect">
            <a:avLst/>
          </a:prstGeom>
          <a:ln w="9360">
            <a:solidFill>
              <a:srgbClr val="7598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L COMPORTAMENTO  DEGLI ESSERI VIVENTI AL CAMBIARE DELLE STAGION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Content Placeholder 3" descr="calendario_vestiti.jpg"/>
          <p:cNvPicPr/>
          <p:nvPr/>
        </p:nvPicPr>
        <p:blipFill>
          <a:blip r:embed="rId1"/>
          <a:stretch/>
        </p:blipFill>
        <p:spPr>
          <a:xfrm>
            <a:off x="2143080" y="1500120"/>
            <a:ext cx="4427640" cy="4786560"/>
          </a:xfrm>
          <a:prstGeom prst="rect">
            <a:avLst/>
          </a:prstGeom>
          <a:ln w="9360">
            <a:solidFill>
              <a:srgbClr val="675a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IL CALENDARIO DEGLI ALBER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Content Placeholder 3" descr="calendario_foglie.jpg"/>
          <p:cNvPicPr/>
          <p:nvPr/>
        </p:nvPicPr>
        <p:blipFill>
          <a:blip r:embed="rId1"/>
          <a:stretch/>
        </p:blipFill>
        <p:spPr>
          <a:xfrm>
            <a:off x="2071800" y="1500120"/>
            <a:ext cx="4248000" cy="4878360"/>
          </a:xfrm>
          <a:prstGeom prst="rect">
            <a:avLst/>
          </a:prstGeom>
          <a:ln w="9360">
            <a:solidFill>
              <a:srgbClr val="9a3d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CALENDARIO DEL TEMPO – UNA SETTIMAN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285920" y="1857240"/>
          <a:ext cx="5786280" cy="4480200"/>
        </p:xfrm>
        <a:graphic>
          <a:graphicData uri="http://schemas.openxmlformats.org/drawingml/2006/table">
            <a:tbl>
              <a:tblPr/>
              <a:tblGrid>
                <a:gridCol w="2214360"/>
                <a:gridCol w="3571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7bcf"/>
                      </a:solidFill>
                    </a:lnL>
                    <a:lnR>
                      <a:noFill/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7bcf"/>
                      </a:solidFill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unedì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7bcf"/>
                      </a:solidFill>
                    </a:lnL>
                    <a:lnR>
                      <a:noFill/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7bcf"/>
                      </a:solidFill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7bcf"/>
                      </a:solidFill>
                    </a:lnL>
                    <a:lnR>
                      <a:noFill/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7bcf"/>
                      </a:solidFill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rcoledì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7bcf"/>
                      </a:solidFill>
                    </a:lnL>
                    <a:lnR>
                      <a:noFill/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7bcf"/>
                      </a:solidFill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iovedì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7bcf"/>
                      </a:solidFill>
                    </a:lnL>
                    <a:lnR>
                      <a:noFill/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7bcf"/>
                      </a:solidFill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enerdì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7bcf"/>
                      </a:solidFill>
                    </a:lnL>
                    <a:lnR>
                      <a:noFill/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7bcf"/>
                      </a:solidFill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b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7bcf"/>
                      </a:solidFill>
                    </a:lnL>
                    <a:lnR>
                      <a:noFill/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d7bcf"/>
                      </a:solidFill>
                    </a:lnR>
                    <a:lnT w="5760">
                      <a:solidFill>
                        <a:srgbClr val="4d7bcf"/>
                      </a:solidFill>
                    </a:lnT>
                    <a:lnB w="5760">
                      <a:solidFill>
                        <a:srgbClr val="4d7bc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5" name="Picture 4" descr="variabile.jpg"/>
          <p:cNvPicPr/>
          <p:nvPr/>
        </p:nvPicPr>
        <p:blipFill>
          <a:blip r:embed="rId1"/>
          <a:stretch/>
        </p:blipFill>
        <p:spPr>
          <a:xfrm>
            <a:off x="4572000" y="250020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nuvola.jpg"/>
          <p:cNvPicPr/>
          <p:nvPr/>
        </p:nvPicPr>
        <p:blipFill>
          <a:blip r:embed="rId2"/>
          <a:stretch/>
        </p:blipFill>
        <p:spPr>
          <a:xfrm>
            <a:off x="4500720" y="3857760"/>
            <a:ext cx="1014120" cy="576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pioggia.jpg"/>
          <p:cNvPicPr/>
          <p:nvPr/>
        </p:nvPicPr>
        <p:blipFill>
          <a:blip r:embed="rId3"/>
          <a:stretch/>
        </p:blipFill>
        <p:spPr>
          <a:xfrm>
            <a:off x="4572000" y="1928880"/>
            <a:ext cx="647640" cy="539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sole1.jpg"/>
          <p:cNvPicPr/>
          <p:nvPr/>
        </p:nvPicPr>
        <p:blipFill>
          <a:blip r:embed="rId4"/>
          <a:stretch/>
        </p:blipFill>
        <p:spPr>
          <a:xfrm>
            <a:off x="4643280" y="3214800"/>
            <a:ext cx="576360" cy="536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pioggia.jpg"/>
          <p:cNvPicPr/>
          <p:nvPr/>
        </p:nvPicPr>
        <p:blipFill>
          <a:blip r:embed="rId5"/>
          <a:stretch/>
        </p:blipFill>
        <p:spPr>
          <a:xfrm>
            <a:off x="4643280" y="4500720"/>
            <a:ext cx="648000" cy="539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variabile.jpg"/>
          <p:cNvPicPr/>
          <p:nvPr/>
        </p:nvPicPr>
        <p:blipFill>
          <a:blip r:embed="rId6"/>
          <a:stretch/>
        </p:blipFill>
        <p:spPr>
          <a:xfrm>
            <a:off x="4572000" y="5072040"/>
            <a:ext cx="684360" cy="642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sole1.jpg"/>
          <p:cNvPicPr/>
          <p:nvPr/>
        </p:nvPicPr>
        <p:blipFill>
          <a:blip r:embed="rId7"/>
          <a:stretch/>
        </p:blipFill>
        <p:spPr>
          <a:xfrm>
            <a:off x="4714920" y="5786280"/>
            <a:ext cx="5763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CONCLUSIONI SUL TEM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ntroduzione graduale al concetto di tempo: giorno, settimana, mese, stagi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er i cambiamenti del tempo durante un periodo più lungo: - calcolare le quantità di giornate serene, piovose, ventose, fredde, ec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onfronto del tempo di due periodi diversi: -alcune stagioni sono fredde, altre piovose, altre tiepide, il tempo può cambiare nel corso dello stesso giorno e nel trascorrere delle stagio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Calendario agenda: le feste per i compleanni, le feste nazionali o religiose e altri avvenimenti allegri e tri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LE ILLUSTRAZION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Nella scuola dell’infanzia si usano spesso grandi illustrazioni da applicare sul mu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Funzioni dell’illustrazion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i rappresenta i fenomeni in modo semplifica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si mette in evidenza ciò che è essenziale per comprendere un dato contenu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eve essere preparata in modo che gli oggetti siano riconoscibi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i dettagli importanti vanno messi in evide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dovrebbero, per regola, essere preparate da artisti affermati o da illustratori brav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7:49:51Z</dcterms:created>
  <dc:creator>miro</dc:creator>
  <dc:description/>
  <dc:language>en-US</dc:language>
  <cp:lastModifiedBy>Miro</cp:lastModifiedBy>
  <dcterms:modified xsi:type="dcterms:W3CDTF">2010-03-09T20:58:13Z</dcterms:modified>
  <cp:revision>33</cp:revision>
  <dc:subject/>
  <dc:title>Giochi maschili e femminili</dc:title>
</cp:coreProperties>
</file>