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gif" ContentType="image/gif"/>
  <Override PartName="/ppt/media/image19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png" ContentType="image/png"/>
  <Override PartName="/ppt/media/image18.jpeg" ContentType="image/jpeg"/>
  <Override PartName="/ppt/media/image15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50.wmf" ContentType="image/x-wmf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41.png" ContentType="image/png"/>
  <Override PartName="/ppt/media/image34.wmf" ContentType="image/x-wmf"/>
  <Override PartName="/ppt/media/image38.gif" ContentType="image/gif"/>
  <Override PartName="/ppt/media/image43.png" ContentType="image/png"/>
  <Override PartName="/ppt/media/image39.png" ContentType="image/png"/>
  <Override PartName="/ppt/media/image42.wmf" ContentType="image/x-wmf"/>
  <Override PartName="/ppt/media/image36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wmf" ContentType="image/x-wmf"/>
  <Override PartName="/ppt/media/image4.png" ContentType="image/png"/>
  <Override PartName="/ppt/media/image27.png" ContentType="image/png"/>
  <Override PartName="/ppt/media/image51.png" ContentType="image/png"/>
  <Override PartName="/ppt/media/image49.wmf" ContentType="image/x-wmf"/>
  <Override PartName="/ppt/media/image33.gif" ContentType="image/gif"/>
  <Override PartName="/ppt/media/image32.gif" ContentType="image/gif"/>
  <Override PartName="/ppt/media/image31.wmf" ContentType="image/x-wmf"/>
  <Override PartName="/ppt/media/image6.wmf" ContentType="image/x-wmf"/>
  <Override PartName="/ppt/media/image29.wmf" ContentType="image/x-wmf"/>
  <Override PartName="/ppt/media/image30.png" ContentType="image/png"/>
  <Override PartName="/ppt/media/image13.png" ContentType="image/png"/>
  <Override PartName="/ppt/media/image8.wmf" ContentType="image/x-wmf"/>
  <Override PartName="/ppt/media/image5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40.gif" ContentType="image/gif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7D6E-4F94-4AD9-98FB-2E442A03C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D076-C254-4610-B7EE-3A13740BD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743-297A-4D21-BDF0-8A34F6F0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9D6-4DF5-4285-BC37-59A31CDC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8E3A9-0C0B-4F54-BB27-8925C169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C3682D-6C76-444B-909C-7400F7F6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17764B-2A71-4DCF-A567-4F45CAC2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F46DB6-9C69-4ABC-ABCB-A60C8E90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D9F2E-B220-4980-B516-3EEF2B9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65B23B-E7A1-4065-BC0A-B3073089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BC4A5-B24C-4FAA-A755-8BC7EB91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96AF62-460C-4963-8480-0938E776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76B63-A62B-49BC-B94F-C9B547E6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020B38-6406-47B0-8DE3-19D98902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977-6954-41A6-BBE9-1BF6317B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0617AF-88ED-4677-A153-AA3C0C40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8062BC-8791-4430-8BDC-171AC439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DF8FA2-52AA-496E-A4F3-892D8E8A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4F941B-BFAF-46F1-8D9F-B6B9DBE4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29C3C2-6434-4D7E-8D8E-0004B1D9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7DD2A6-1C96-4E7D-B644-BCB09A8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3894C9-B1A3-4A83-BA83-65E68FE5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65D125-EDB1-49E9-B166-5421237E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26F33C-3D23-43AC-8399-326502A1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967B09-1A30-4854-8DDA-592D2DFB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59F-C13D-4EF2-ABFE-7A688955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B61DCA-EFB1-4B0C-B321-613793C5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E1404-09E0-4C18-B5C4-A3C22C18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8E189-28D5-40C7-A935-F63B8529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E9110-223C-4B7B-A2A5-194D0228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BBD3-D282-4516-B962-7A366DED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0EB05-172C-4F6E-A07E-26D693B8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EEDC8-B5B4-4C17-A37C-DB0A2D2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ABE6A-826C-4BD4-AB3A-4146DBF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AF4-1E9A-4FA1-A3F7-68E5B71C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DEC4C-ECCD-49C2-AC39-2C21CBE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1237A-1219-44C6-9CCC-7D1D016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87EE2-CC9C-4F55-851C-EEE39E96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914ED-BB47-4298-9597-974C4A73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7E2F4-83B6-4204-9A4D-C51FADD5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C7DF-70DD-40F1-BB7F-6D400DB7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E2E1-9D22-4BDB-A5AD-6A1D8419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1CBA-167D-45A4-A4DB-53116BBE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8A3A-BF98-4AA9-88E9-7D28C021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D6C3-EBF9-4182-9E66-A59BDFD1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D3A-B9D4-46C5-9E98-4479CEFE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76030-A014-40D2-B066-5B680FFE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E6C2-5954-4CE5-BF55-7214A2EA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A4A3-3D68-4A3A-8B3F-B66227D5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BCAC-2C8B-4B02-951A-A8E81F0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EF02-FFE8-4F0D-B272-47F4C56A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ED1F-E8A8-4955-B327-D8F300D9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1411-3467-4A07-8374-32C95BAE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798A0-7731-4DAF-8865-9EC4DB0C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38C72-E24B-449B-BC36-062AB74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1A50F-A6DE-4B0A-A4C8-3F6FB8E1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D5D-7C9F-4B78-9344-1FFBB228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AA547-5B73-47BB-A3AA-1F2026BF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3B972-6710-4039-A71E-A539544C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A55C2-EF5D-4AD0-B384-54411803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4EAC3-614D-4160-BBFB-9510B075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5AA86-2187-46B0-A476-9C4E22DE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44EB9-280A-4216-A5CA-EB93B3D9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EC89D-A776-4E4A-BFDD-FD805EBB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F7BE7-6242-41B8-BD2E-3F193C77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B3E4F-4E4B-40FE-9073-189DD589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6F378-8D13-4E11-8136-FC804BAF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C4E-1DDC-4C36-A943-C96BF5B7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52BB5-63F9-4216-968C-DE9B8B2D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5AB0A-C771-476A-A6F7-B7B2065C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C5E3-FF7D-4C58-BE4A-291E28F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C8A6E-2BA0-4A49-BDD6-0F0B3182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E156-C1EE-4F35-84F4-6FAF7FDB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706C-D5A0-424E-8F98-1E90A795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3698-F7BD-4FF1-B085-6AA459A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F2934-315C-43DB-A821-D6CE331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809C-2A81-40EC-8DBE-FA8F204B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EEEFF-5150-4ACF-A5CA-CEBEC455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3A7-7FF3-4864-86F1-33B2701B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96980-C5B8-484E-BE93-4B652881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4DA31-390B-429B-9477-C38E515F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0DCC3-5543-4B68-B64C-D1619F0A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373D-FF74-481A-92A2-EC4C90AD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8E669-1BAE-427D-8210-13A7089C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7EF43-879B-40F9-8DFC-C4D7EAA9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8925B-ABB8-48B1-9F56-DED179EE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80CD6-DE5A-4481-ADBE-A7ECF17F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4817-70FC-4240-B1D7-6198ADB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59784-DD35-4895-88A7-80E9524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A42-B8D3-44A7-8AD3-5C14A52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7FDC8-BD76-4613-9FF2-26505478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A8753-DE97-4080-98A9-B77701B6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6D452-F92E-4907-91B7-FC81D71F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EFC4D-2671-4248-A4EF-96F60E00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37605-A642-45E6-92CC-91CE79A6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1F8D-CC19-4DA9-A370-A6F40E7F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0E662-AC99-4090-9063-94E73A6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DA919-4A4D-4EE7-8F7C-08053719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88448-0267-4408-920C-2BEE0A11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26585-E4A7-45CD-A84F-BEEC928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A1B-5928-47C3-A696-8A0542F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32578-089B-448F-ADA3-A398D355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9C777-29D7-4004-9851-DAD77A91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0D39F-9A9D-4BF3-94C9-BABD6E67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A35DF-90A8-49B0-8A35-C05A066A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05E63-2B7A-449C-BBAB-BFCDC206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1F6AA-19D3-461A-BD8D-C19F6940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B57B1-632C-4AA3-B96E-20B98694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F0461-8466-4169-8EC2-A6836F0C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51FD1-1B6B-4A29-8556-A23E5AFA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60D7D-CDD8-46EC-85FB-7A39E5C2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A55-6676-449F-9A87-636739D4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B26CC-3314-4360-9C98-79BC42FC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A065-0EEF-4619-9903-DB19FF7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597B-062D-4AC7-ABF5-46FDD10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10639-2084-4AD9-B14C-79B22D81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F6DE7-E868-4457-9E57-8B233CCE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E7FA8-2AC5-4C21-8286-89BB53D0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4D9D3-94D2-41BA-90FC-56DAC655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C7C0B-7B3C-450A-A3D1-6AF97943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58D630-5D6F-4E83-AEC9-EFC8E499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ACD555-DB12-4C4E-AEE7-91898435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44d2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44d2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036E-627E-40CA-A6DF-BAC0FCF78149}" type="slidenum">
              <a:rPr b="0" lang="en-US" sz="1200" spc="-1" strike="noStrike">
                <a:solidFill>
                  <a:srgbClr val="444d26"/>
                </a:solidFill>
                <a:latin typeface="Rockwel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07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51D5-E8E9-4BB7-824A-EC734139DD32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Pravokutnik s dijagonalno zaobljenim kutom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Pravokutnik s dijagonalno zaobljenim kutom 6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D15F-FEBC-4262-A8AC-7CA4F14A5B19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ravokutnik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53EB-B235-46AA-9FD5-23256FF7AC0E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avokutnik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FB5C-4402-4A3A-8ECD-F889D2F662C2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ravokutnik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9B8A-9C18-44E6-A0A4-1F1DCDC70691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ravokutnik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avokutnik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1CE9-6736-4059-9E24-CE1DDCC2546F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avokutnik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44FD-C506-42EF-AEA5-51E8A02A1389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0801-4BEB-4AA9-934E-AE6436F6875D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Pravokutnik s dijagonalno zaobljenim kutom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2" name="Pravokutnik s dijagonalno zaobljenim kutom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ravokutni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06508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506508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d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d8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492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74CA-E6A2-4A17-B1C9-5925A20DB750}" type="slidenum">
              <a:rPr b="0" lang="en-US" sz="1600" spc="-1" strike="noStrike">
                <a:solidFill>
                  <a:srgbClr val="40492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1" descr=""/>
          <p:cNvPicPr/>
          <p:nvPr/>
        </p:nvPicPr>
        <p:blipFill>
          <a:blip r:embed="rId1"/>
          <a:stretch/>
        </p:blipFill>
        <p:spPr>
          <a:xfrm>
            <a:off x="676440" y="438120"/>
            <a:ext cx="7894440" cy="28227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" descr="C:\Documents and Settings\Korisnik\Local Settings\Temporary Internet Files\Content.IE5\23CRJEBJ\MCj04376430000[1].png"/>
          <p:cNvPicPr/>
          <p:nvPr/>
        </p:nvPicPr>
        <p:blipFill>
          <a:blip r:embed="rId2"/>
          <a:stretch/>
        </p:blipFill>
        <p:spPr>
          <a:xfrm>
            <a:off x="2643120" y="3143160"/>
            <a:ext cx="3657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Naslov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22190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93" name="Picture 5" descr="kontejner.jpg"/>
          <p:cNvPicPr/>
          <p:nvPr/>
        </p:nvPicPr>
        <p:blipFill>
          <a:blip r:embed="rId2"/>
          <a:stretch/>
        </p:blipFill>
        <p:spPr>
          <a:xfrm>
            <a:off x="1285920" y="2500200"/>
            <a:ext cx="70009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285840" y="59508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accolti dai cittadini in cassonetti o campane distinte per materia (la carta, la plastica, il vetro, l’alluminio, 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ferro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 divisi a monte nelle case e recuperati a domicilio dai comuni (il cosiddett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istem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“porta 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rta”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engono destinati ad impianti di trattamento dei rifiu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i vengono depurati dalla presenza di materiali estranei e non omogene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i vengon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vviati agli impianti industriali di produzione che impiegano quelle che, a questo punto, sono divenute “materie prime second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C:\Documents and Settings\Korisnik\Local Settings\Temporary Internet Files\Content.IE5\94F3D5B1\MCj03266380000[1].wmf"/>
          <p:cNvPicPr/>
          <p:nvPr/>
        </p:nvPicPr>
        <p:blipFill>
          <a:blip r:embed="rId1"/>
          <a:stretch/>
        </p:blipFill>
        <p:spPr>
          <a:xfrm>
            <a:off x="7143840" y="3786120"/>
            <a:ext cx="18190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Nel contenitore blu raccogliamo la CARTA. Ne fanno parte giornali, depliant pieghevoli, libri, carta usata per scrivere e stampare, quaderni, scatole di cartone e altro. 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E’ interessante sapere che la carta da giornale si può riciclare almeno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7 volte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98" name="Picture 1" descr="C:\Documents and Settings\Korisnik\Local Settings\Temporary Internet Files\Content.IE5\13Q4P0C4\MCj03963220000[1].wmf"/>
          <p:cNvPicPr/>
          <p:nvPr/>
        </p:nvPicPr>
        <p:blipFill>
          <a:blip r:embed="rId2"/>
          <a:stretch/>
        </p:blipFill>
        <p:spPr>
          <a:xfrm>
            <a:off x="4071960" y="5000760"/>
            <a:ext cx="1857240" cy="1606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C:\Documents and Settings\Korisnik\Local Settings\Temporary Internet Files\Content.IE5\1TLSZ4G1\MMj02828040000[1].gif"/>
          <p:cNvPicPr/>
          <p:nvPr/>
        </p:nvPicPr>
        <p:blipFill>
          <a:blip r:embed="rId3"/>
          <a:stretch/>
        </p:blipFill>
        <p:spPr>
          <a:xfrm>
            <a:off x="285840" y="571680"/>
            <a:ext cx="1409760" cy="1409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C:\Documents and Settings\Korisnik\Local Settings\Temporary Internet Files\Content.IE5\NJWJMUWL\MMj02828030000[1].gif"/>
          <p:cNvPicPr/>
          <p:nvPr/>
        </p:nvPicPr>
        <p:blipFill>
          <a:blip r:embed="rId4"/>
          <a:stretch/>
        </p:blipFill>
        <p:spPr>
          <a:xfrm>
            <a:off x="6858000" y="47149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C:\Documents and Settings\Korisnik\Local Settings\Temporary Internet Files\Content.IE5\Y3O90JZB\MCj03408180000[1].wmf"/>
          <p:cNvPicPr/>
          <p:nvPr/>
        </p:nvPicPr>
        <p:blipFill>
          <a:blip r:embed="rId5"/>
          <a:stretch/>
        </p:blipFill>
        <p:spPr>
          <a:xfrm>
            <a:off x="5357880" y="2214720"/>
            <a:ext cx="30718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Rockwell"/>
              </a:rPr>
              <a:t>I RIFIUTI DI PLASTICA </a:t>
            </a:r>
            <a:r>
              <a:rPr b="0" lang="hr-HR" sz="2800" spc="-1" strike="noStrike">
                <a:solidFill>
                  <a:srgbClr val="333a1d"/>
                </a:solidFill>
                <a:latin typeface="Rockwell"/>
              </a:rPr>
              <a:t>si raccolgono nei cassonetti di colore giallo.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a1d"/>
                </a:solidFill>
                <a:latin typeface="Rockwell"/>
              </a:rPr>
              <a:t>A Pola si raccolgono i rifiuti anche con il sistema “porta a porta”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04" name="Picture 7" descr="kontejneri.jpg"/>
          <p:cNvPicPr/>
          <p:nvPr/>
        </p:nvPicPr>
        <p:blipFill>
          <a:blip r:embed="rId2"/>
          <a:stretch/>
        </p:blipFill>
        <p:spPr>
          <a:xfrm>
            <a:off x="4648320" y="2467080"/>
            <a:ext cx="40384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Naslov 1" descr=""/>
          <p:cNvPicPr/>
          <p:nvPr/>
        </p:nvPicPr>
        <p:blipFill>
          <a:blip r:embed="rId1"/>
          <a:stretch/>
        </p:blipFill>
        <p:spPr>
          <a:xfrm>
            <a:off x="353880" y="-73080"/>
            <a:ext cx="7083720" cy="14810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a1d"/>
                </a:solidFill>
                <a:latin typeface="Rockwell"/>
              </a:rPr>
              <a:t>IL VETRO  - si raccoglie nei cassonetti di colore verde, poi si riduce in pezzettini e si trasporta nelle fabbriche di vetro dove fanno nuovi oggetti di vetro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Rockwell"/>
              </a:rPr>
              <a:t>I RIFIUTI PERICOLOSI </a:t>
            </a: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– 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pile e batterie scariche, cellulari, medicinali, solventi, oli, vernici, </a:t>
            </a:r>
            <a:r>
              <a:rPr b="0" lang="it-IT" sz="2400" spc="-1" strike="noStrike">
                <a:solidFill>
                  <a:srgbClr val="000000"/>
                </a:solidFill>
                <a:latin typeface="Rockwell"/>
              </a:rPr>
              <a:t>diluenti, bombolette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Rockwell"/>
              </a:rPr>
              <a:t> antiruggine, contenitori di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Rockwell"/>
              </a:rPr>
              <a:t>acquaragia, </a:t>
            </a: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ecc. devono essere deposti in contenitori specifici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08" name="Picture 1" descr="C:\Documents and Settings\Korisnik\Local Settings\Temporary Internet Files\Content.IE5\94F3D5B1\MMj02828020000[1].gif"/>
          <p:cNvPicPr/>
          <p:nvPr/>
        </p:nvPicPr>
        <p:blipFill>
          <a:blip r:embed="rId2"/>
          <a:stretch/>
        </p:blipFill>
        <p:spPr>
          <a:xfrm>
            <a:off x="3143160" y="5000760"/>
            <a:ext cx="14097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solidFill>
            <a:srgbClr val="fefcdf"/>
          </a:solidFill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Rockwell"/>
              </a:rPr>
              <a:t>I cassonetti per i </a:t>
            </a:r>
            <a:r>
              <a:rPr b="1" lang="hr-HR" sz="3200" spc="-1" strike="noStrike">
                <a:solidFill>
                  <a:srgbClr val="000000"/>
                </a:solidFill>
                <a:latin typeface="Rockwell"/>
              </a:rPr>
              <a:t>barattoli</a:t>
            </a:r>
            <a:r>
              <a:rPr b="0" lang="hr-HR" sz="3200" spc="-1" strike="noStrike">
                <a:solidFill>
                  <a:srgbClr val="000000"/>
                </a:solidFill>
                <a:latin typeface="Rockwell"/>
              </a:rPr>
              <a:t> e le </a:t>
            </a:r>
            <a:r>
              <a:rPr b="1" lang="hr-HR" sz="3200" spc="-1" strike="noStrike">
                <a:solidFill>
                  <a:srgbClr val="000000"/>
                </a:solidFill>
                <a:latin typeface="Rockwell"/>
              </a:rPr>
              <a:t>lattine</a:t>
            </a:r>
            <a:r>
              <a:rPr b="0" lang="hr-HR" sz="3200" spc="-1" strike="noStrike">
                <a:solidFill>
                  <a:srgbClr val="000000"/>
                </a:solidFill>
                <a:latin typeface="Rockwell"/>
              </a:rPr>
              <a:t> sono di colore grigio. I barattoli, le scatole e le lattine si fanno di alluminio e ferro. Possono essere riciclate un’infinità di volte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Rockwell"/>
              </a:rPr>
              <a:t>I RIFIUTI ORGANICI 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– erba secca, </a:t>
            </a: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avanzi di cibo, di frutta e verdura, gusci d’uovo, fondi di caffè e filtri di tè, pane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foglie e fiori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carta assorbente, tovaglioli e fazzoletti di carta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carta e cartone sporchi di cibo</a:t>
            </a: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, ecc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Rockwell"/>
              </a:rPr>
              <a:t>L'organico sarà trasformato in un prezioso fertilizzante ecologico: il compost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Rockwell"/>
              </a:rPr>
              <a:t>Tale concime è migliore e più sano dei concimi artificiali. 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12" name="Picture 1" descr="C:\Documents and Settings\Korisnik\Local Settings\Temporary Internet Files\Content.IE5\13Q4P0C4\MMj02828010000[1].gif"/>
          <p:cNvPicPr/>
          <p:nvPr/>
        </p:nvPicPr>
        <p:blipFill>
          <a:blip r:embed="rId2"/>
          <a:stretch/>
        </p:blipFill>
        <p:spPr>
          <a:xfrm>
            <a:off x="3357720" y="4143240"/>
            <a:ext cx="14094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Naslov 1" descr=""/>
          <p:cNvPicPr/>
          <p:nvPr/>
        </p:nvPicPr>
        <p:blipFill>
          <a:blip r:embed="rId1"/>
          <a:stretch/>
        </p:blipFill>
        <p:spPr>
          <a:xfrm>
            <a:off x="1779480" y="-42840"/>
            <a:ext cx="6364440" cy="14810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645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Evitiamo l’inquinamento dell’ambiente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Salvaguardiamo la natura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Favoriamo una vita sana di tutti gli esseri viventi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Risparmiamo boschi e altre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   </a:t>
            </a: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risorse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Risparmiamo acqua e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corrente elettrica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Diminuiamo la quantità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  </a:t>
            </a: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di rifiuti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56680" indent="-25668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15" name="Picture 1" descr="C:\Documents and Settings\Korisnik\Local Settings\Temporary Internet Files\Content.IE5\JP0BY6ZR\MCj04133840000[1].wmf"/>
          <p:cNvPicPr/>
          <p:nvPr/>
        </p:nvPicPr>
        <p:blipFill>
          <a:blip r:embed="rId2"/>
          <a:stretch/>
        </p:blipFill>
        <p:spPr>
          <a:xfrm>
            <a:off x="6286680" y="3786120"/>
            <a:ext cx="2257200" cy="2521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Documents and Settings\Korisnik\Local Settings\Temporary Internet Files\Content.IE5\23CRJEBJ\MCj04315820000[1].png"/>
          <p:cNvPicPr/>
          <p:nvPr/>
        </p:nvPicPr>
        <p:blipFill>
          <a:blip r:embed="rId3"/>
          <a:stretch/>
        </p:blipFill>
        <p:spPr>
          <a:xfrm>
            <a:off x="0" y="2858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Naslov 1" descr=""/>
          <p:cNvPicPr/>
          <p:nvPr/>
        </p:nvPicPr>
        <p:blipFill>
          <a:blip r:embed="rId1"/>
          <a:stretch/>
        </p:blipFill>
        <p:spPr>
          <a:xfrm>
            <a:off x="317520" y="281160"/>
            <a:ext cx="8375760" cy="1223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285840" y="1571400"/>
            <a:ext cx="40384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06508"/>
                </a:solidFill>
                <a:latin typeface="Rockwell"/>
              </a:rPr>
              <a:t>Conservate un ambiente pulito per le giovani generazioni!</a:t>
            </a:r>
            <a:br>
              <a:rPr sz="2800"/>
            </a:br>
            <a:r>
              <a:rPr b="1" lang="hr-HR" sz="2800" spc="-1" strike="noStrike">
                <a:solidFill>
                  <a:srgbClr val="506508"/>
                </a:solidFill>
                <a:latin typeface="Rockwell"/>
              </a:rPr>
              <a:t> </a:t>
            </a:r>
            <a:r>
              <a:rPr b="0" lang="hr-HR" sz="2800" spc="-1" strike="noStrike">
                <a:solidFill>
                  <a:srgbClr val="506508"/>
                </a:solidFill>
                <a:latin typeface="Rockwell"/>
              </a:rPr>
              <a:t>I  bambini sono pronti ad aiutarvi</a:t>
            </a:r>
            <a:r>
              <a:rPr b="1" lang="hr-HR" sz="2800" spc="-1" strike="noStrike">
                <a:solidFill>
                  <a:srgbClr val="506508"/>
                </a:solidFill>
                <a:latin typeface="Rockwel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68560" indent="-2685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Per gli acquisti usate sacchetti di stoffa o cesti di vimini al posto dei sacchetti di plastica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68560" indent="-2685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Acquistate prodotti non inquinanti che contengono simboli di biodegradabilità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20" name="Slika 4" descr="Eliminiamo i sacchetti&#13;&#10;di plastica"/>
          <p:cNvPicPr/>
          <p:nvPr/>
        </p:nvPicPr>
        <p:blipFill>
          <a:blip r:embed="rId2"/>
          <a:stretch/>
        </p:blipFill>
        <p:spPr>
          <a:xfrm>
            <a:off x="4429080" y="414324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521" name="Slika 6" descr="eko-poljop-logo.jpg"/>
          <p:cNvPicPr/>
          <p:nvPr/>
        </p:nvPicPr>
        <p:blipFill>
          <a:blip r:embed="rId3"/>
          <a:stretch/>
        </p:blipFill>
        <p:spPr>
          <a:xfrm>
            <a:off x="6215040" y="371484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C:\Documents and Settings\Korisnik\Local Settings\Temporary Internet Files\Content.IE5\Y3O90JZB\MCj04381750000[1].wmf"/>
          <p:cNvPicPr/>
          <p:nvPr/>
        </p:nvPicPr>
        <p:blipFill>
          <a:blip r:embed="rId4"/>
          <a:stretch/>
        </p:blipFill>
        <p:spPr>
          <a:xfrm>
            <a:off x="6572160" y="214200"/>
            <a:ext cx="1822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ravokutnik 1"/>
          <p:cNvSpPr/>
          <p:nvPr/>
        </p:nvSpPr>
        <p:spPr>
          <a:xfrm>
            <a:off x="571680" y="500040"/>
            <a:ext cx="650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Riutilizzate gli oggetti scartati per altri scop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Utilizzate il vuoto a rendere e non quello a perd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Sistemate in tutti i rioni di Pola i cassonetti per la raccolta differenzi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Separate i rifiuti organici per farne com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  <a:ea typeface="Arial"/>
              </a:rPr>
              <a:t>Raccogliete i medicinali scaduti in luoghi sic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Usate batterie ricaricab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C:\Documents and Settings\Korisnik\Local Settings\Temporary Internet Files\Content.IE5\JP0BY6ZR\MCj04376310000[1].png"/>
          <p:cNvPicPr/>
          <p:nvPr/>
        </p:nvPicPr>
        <p:blipFill>
          <a:blip r:embed="rId1"/>
          <a:stretch/>
        </p:blipFill>
        <p:spPr>
          <a:xfrm>
            <a:off x="5486400" y="100008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C:\Documents and Settings\Korisnik\Local Settings\Temporary Internet Files\Content.IE5\Y3O90JZB\MCj04382310000[1].wmf"/>
          <p:cNvPicPr/>
          <p:nvPr/>
        </p:nvPicPr>
        <p:blipFill>
          <a:blip r:embed="rId2"/>
          <a:stretch/>
        </p:blipFill>
        <p:spPr>
          <a:xfrm>
            <a:off x="4000680" y="3643200"/>
            <a:ext cx="2714400" cy="2863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C:\Documents and Settings\Korisnik\Local Settings\Temporary Internet Files\Content.IE5\LRD3LEC6\MCj04376630000[1].wmf"/>
          <p:cNvPicPr/>
          <p:nvPr/>
        </p:nvPicPr>
        <p:blipFill>
          <a:blip r:embed="rId3"/>
          <a:stretch/>
        </p:blipFill>
        <p:spPr>
          <a:xfrm rot="2050200">
            <a:off x="929880" y="4336560"/>
            <a:ext cx="17589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357120" y="1500120"/>
            <a:ext cx="8329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ECOLOGIA -  è la scienza  che studia i rapporti tra gli esseri viventi e l’ambiente fisico. La parola  ecologia  ha avuto origine dalle parole greche : oicos = casa  e  logos = parola, sapere, scienza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COMPOSTAGGIO – processso di decomposizione  e trasformazione dei rifiuti organici in compost /humus/ concime/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AMBIENTE – ambiente naturale (aria , terreno, acqua, flora, fauna) e sociale, creato dall’uomo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RIFIUTI – oggetti e materiali scartati perché non servono più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RIFIUTI PERICOLOSI– rifiuti che possono danneggiare seriamente la salute degli alunni e di tutti gli uomini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SPAZZATURA-sono rifiuti che non si possono riutilizzare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Rockwell"/>
              </a:rPr>
              <a:t>RICICLAGGIO – trasformazione dei rifiuti raccolti mediante la raccolta differenziata per farne nuovi prodotti.  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529" name="Picture 4" descr="C:\Documents and Settings\Korisnik\Local Settings\Temporary Internet Files\Content.IE5\Y3O90JZB\MCj04376870000[1].wmf"/>
          <p:cNvPicPr/>
          <p:nvPr/>
        </p:nvPicPr>
        <p:blipFill>
          <a:blip r:embed="rId2"/>
          <a:stretch/>
        </p:blipFill>
        <p:spPr>
          <a:xfrm>
            <a:off x="7264440" y="3214800"/>
            <a:ext cx="187956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ravokutnik 1"/>
          <p:cNvSpPr/>
          <p:nvPr/>
        </p:nvSpPr>
        <p:spPr>
          <a:xfrm>
            <a:off x="500040" y="428760"/>
            <a:ext cx="835812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ti i giorn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le famigli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vengon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arta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mol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ifiuti domestic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tre il 30% è composto da scarti di cucina ovvero avanzi di cibo, gusci d’uovo, scarti di verdure e frutta, carne, pesce, ossa, fondi di caffè, filtri di tè, eccet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o che rimane è una piccola percentuale di sostanze che necessitano di smaltimenti separati (pile o batterie, farmaci scaduti, cartucce di inchiostro per fotocopiatrici e stampan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C:\Documents and Settings\Korisnik\Local Settings\Temporary Internet Files\Content.IE5\94F3D5B1\MCj02811110000[1].wmf"/>
          <p:cNvPicPr/>
          <p:nvPr/>
        </p:nvPicPr>
        <p:blipFill>
          <a:blip r:embed="rId1"/>
          <a:stretch/>
        </p:blipFill>
        <p:spPr>
          <a:xfrm>
            <a:off x="6786720" y="5072040"/>
            <a:ext cx="18367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1"/>
          <p:cNvSpPr/>
          <p:nvPr/>
        </p:nvSpPr>
        <p:spPr>
          <a:xfrm>
            <a:off x="571680" y="642960"/>
            <a:ext cx="792936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si tut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resto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bandonato dentro i sacchetti, bidoni o cassonet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i può recuperare e avviare a nuove utilizzazioni attraverso processi di recupero, trasformazione e riciclagg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333a1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Dobbiamo impegnarci a produrre meno rifiuti e riciclare tutto ciò che è riutilizzab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a1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a1d"/>
                </a:solidFill>
                <a:latin typeface="Arial"/>
                <a:ea typeface="Arial"/>
              </a:rPr>
              <a:t>Purtroppo alcuni bambini e adulti gettano spesso i rifiuti nella natura. Così la inquinano</a:t>
            </a:r>
            <a:r>
              <a:rPr b="0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Naslov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4576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Vetro  -  1000 ann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Sacchetto di plastica - 100 – 1000  ann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Lattine – 20 - 100 ann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Giornali  – 3 – 12 mesi. 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Torsoli di mela 3 – 6  mes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Piatti e bicchieri di plastica 100 - 1000 anni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Polistirolo – mai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64" name="Picture 7" descr="C:\Documents and Settings\Korisnik\Local Settings\Temporary Internet Files\Content.IE5\23CRJEBJ\MCj02979810000[1].wmf"/>
          <p:cNvPicPr/>
          <p:nvPr/>
        </p:nvPicPr>
        <p:blipFill>
          <a:blip r:embed="rId2"/>
          <a:stretch/>
        </p:blipFill>
        <p:spPr>
          <a:xfrm rot="20281200">
            <a:off x="4465800" y="3782520"/>
            <a:ext cx="1214280" cy="428760"/>
          </a:xfrm>
          <a:prstGeom prst="rect">
            <a:avLst/>
          </a:prstGeom>
          <a:ln w="0">
            <a:noFill/>
          </a:ln>
        </p:spPr>
      </p:pic>
      <p:pic>
        <p:nvPicPr>
          <p:cNvPr id="465" name="Slika 7" descr="najlon.jpg"/>
          <p:cNvPicPr/>
          <p:nvPr/>
        </p:nvPicPr>
        <p:blipFill>
          <a:blip r:embed="rId3"/>
          <a:stretch/>
        </p:blipFill>
        <p:spPr>
          <a:xfrm rot="1240200">
            <a:off x="5819400" y="1595160"/>
            <a:ext cx="2500200" cy="1857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http://www.amaroma.it/public/images/raccolta_differenziata/degradazione/mela_prato.png"/>
          <p:cNvPicPr/>
          <p:nvPr/>
        </p:nvPicPr>
        <p:blipFill>
          <a:blip r:embed="rId4"/>
          <a:stretch/>
        </p:blipFill>
        <p:spPr>
          <a:xfrm>
            <a:off x="5715000" y="3500280"/>
            <a:ext cx="1028880" cy="943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1" descr="http://www.amaroma.it/public/images/raccolta_differenziata/degradazione/lattina_prato.png"/>
          <p:cNvPicPr/>
          <p:nvPr/>
        </p:nvPicPr>
        <p:blipFill>
          <a:blip r:embed="rId5"/>
          <a:stretch/>
        </p:blipFill>
        <p:spPr>
          <a:xfrm>
            <a:off x="7715160" y="3929040"/>
            <a:ext cx="1028880" cy="9428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3" descr="http://www.amaroma.it/public/images/raccolta_differenziata/degradazione/bottiglia_prato.png"/>
          <p:cNvPicPr/>
          <p:nvPr/>
        </p:nvPicPr>
        <p:blipFill>
          <a:blip r:embed="rId6"/>
          <a:stretch/>
        </p:blipFill>
        <p:spPr>
          <a:xfrm>
            <a:off x="4429080" y="2214720"/>
            <a:ext cx="1028880" cy="9428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5" descr="http://www.amaroma.it/public/images/raccolta_differenziata/degradazione/bicchiere_prato.png"/>
          <p:cNvPicPr/>
          <p:nvPr/>
        </p:nvPicPr>
        <p:blipFill>
          <a:blip r:embed="rId7"/>
          <a:stretch/>
        </p:blipFill>
        <p:spPr>
          <a:xfrm>
            <a:off x="6429240" y="4643280"/>
            <a:ext cx="1028880" cy="943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http://www.amaroma.it/public/images/raccolta_differenziata/degradazione/rivista_prato.png"/>
          <p:cNvPicPr/>
          <p:nvPr/>
        </p:nvPicPr>
        <p:blipFill>
          <a:blip r:embed="rId8"/>
          <a:stretch/>
        </p:blipFill>
        <p:spPr>
          <a:xfrm>
            <a:off x="7643880" y="5214960"/>
            <a:ext cx="1028520" cy="942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9" descr="http://www.amaroma.it/public/images/raccolta_differenziata/degradazione/busta_prato.png"/>
          <p:cNvPicPr/>
          <p:nvPr/>
        </p:nvPicPr>
        <p:blipFill>
          <a:blip r:embed="rId9"/>
          <a:stretch/>
        </p:blipFill>
        <p:spPr>
          <a:xfrm>
            <a:off x="4786200" y="5072040"/>
            <a:ext cx="10288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Rockwel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Inquinano la natura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Mettono in pericolo la vita umana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Mettono in pericolo la vita delle piante e degli animali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Diffondono malattie infettive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a1d"/>
                </a:solidFill>
                <a:latin typeface="Arial"/>
                <a:ea typeface="Arial"/>
              </a:rPr>
              <a:t>Possono essere infiammabili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75" name="Picture 1" descr="C:\Documents and Settings\Korisnik\Local Settings\Temporary Internet Files\Content.IE5\94F3D5B1\MCj00904960000[1].wmf"/>
          <p:cNvPicPr/>
          <p:nvPr/>
        </p:nvPicPr>
        <p:blipFill>
          <a:blip r:embed="rId2"/>
          <a:stretch/>
        </p:blipFill>
        <p:spPr>
          <a:xfrm>
            <a:off x="4786200" y="1285920"/>
            <a:ext cx="4071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 flipH="1">
            <a:off x="785880" y="358920"/>
            <a:ext cx="7215120" cy="642600"/>
          </a:xfrm>
          <a:prstGeom prst="rect">
            <a:avLst/>
          </a:prstGeom>
          <a:solidFill>
            <a:srgbClr val="c4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Arial"/>
              </a:rPr>
              <a:t>Che cosa sono i rifiu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7" descr="MPj04069540000[1]"/>
          <p:cNvPicPr/>
          <p:nvPr/>
        </p:nvPicPr>
        <p:blipFill>
          <a:blip r:embed="rId1"/>
          <a:stretch/>
        </p:blipFill>
        <p:spPr>
          <a:xfrm>
            <a:off x="4143240" y="3643200"/>
            <a:ext cx="4810320" cy="261936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500040" y="1170720"/>
            <a:ext cx="76438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a1d"/>
                </a:solidFill>
                <a:latin typeface="Calibri"/>
                <a:ea typeface="Calibri"/>
              </a:rPr>
              <a:t>I rifiuti sono oggetti che non ci servono pi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NON TUTTI I RIFIUTI SONO SPAZZATURA, ma solo quelli non riutilizzabi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I rifiuti si raccolgo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e smaltisc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nelle discarich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a1d"/>
                </a:solidFill>
                <a:latin typeface="Calibri"/>
                <a:ea typeface="Calibri"/>
              </a:rPr>
              <a:t>negli incenerito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Naslov 1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8485200" cy="11048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213840" y="164628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produzione e la gestione dei rifiuti negli ultimi decenni ha mostrato una crescit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norm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n Itali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lla metà degli anni ‘90 è quasi raddoppiat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ta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da farne uno dei problemi più urgenti per il futuro del pianeta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333a1d"/>
                </a:solidFill>
                <a:latin typeface="Arial"/>
                <a:ea typeface="Arial"/>
              </a:rPr>
              <a:t>Impariamo come possiamo diminuire la quantità di rifiuti.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82" name="Picture 1" descr="C:\Documents and Settings\Korisnik\Local Settings\Temporary Internet Files\Content.IE5\1TLSZ4G1\MCj04382190000[1].wmf"/>
          <p:cNvPicPr/>
          <p:nvPr/>
        </p:nvPicPr>
        <p:blipFill>
          <a:blip r:embed="rId2"/>
          <a:stretch/>
        </p:blipFill>
        <p:spPr>
          <a:xfrm>
            <a:off x="4643280" y="1143000"/>
            <a:ext cx="35006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Naslov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16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648320" y="1428840"/>
            <a:ext cx="40384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88720" indent="-28872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La </a:t>
            </a:r>
            <a:r>
              <a:rPr b="0" i="1" lang="it-IT" sz="2600" spc="-1" strike="noStrike">
                <a:solidFill>
                  <a:srgbClr val="000000"/>
                </a:solidFill>
                <a:latin typeface="Rockwell"/>
              </a:rPr>
              <a:t>raccolta differenziata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 è un sistema di raccolta dei rifiuti che consente di raggruppare quelli urbani in base </a:t>
            </a:r>
            <a:r>
              <a:rPr b="0" lang="hr-HR" sz="2600" spc="-1" strike="noStrike">
                <a:solidFill>
                  <a:srgbClr val="000000"/>
                </a:solidFill>
                <a:latin typeface="Rockwell"/>
              </a:rPr>
              <a:t>ai materiali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, compres</a:t>
            </a:r>
            <a:r>
              <a:rPr b="0" lang="hr-HR" sz="2600" spc="-1" strike="noStrike">
                <a:solidFill>
                  <a:srgbClr val="000000"/>
                </a:solidFill>
                <a:latin typeface="Rockwell"/>
              </a:rPr>
              <a:t>i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Rockwell"/>
              </a:rPr>
              <a:t>quelli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 organic</a:t>
            </a:r>
            <a:r>
              <a:rPr b="0" lang="hr-HR" sz="2600" spc="-1" strike="noStrike">
                <a:solidFill>
                  <a:srgbClr val="000000"/>
                </a:solidFill>
                <a:latin typeface="Rockwell"/>
              </a:rPr>
              <a:t>i </a:t>
            </a:r>
            <a:r>
              <a:rPr b="0" lang="it-IT" sz="2600" spc="-1" strike="noStrike">
                <a:solidFill>
                  <a:srgbClr val="000000"/>
                </a:solidFill>
                <a:latin typeface="Rockwell"/>
              </a:rPr>
              <a:t>e di destinarli al riciclaggio, e quindi al riutilizzo di materia prima. 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88720" indent="-28872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85" name="Picture 0" descr="recycle.gif"/>
          <p:cNvPicPr/>
          <p:nvPr/>
        </p:nvPicPr>
        <p:blipFill>
          <a:blip r:embed="rId2"/>
          <a:stretch/>
        </p:blipFill>
        <p:spPr>
          <a:xfrm>
            <a:off x="428760" y="2000160"/>
            <a:ext cx="40384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Naslov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IL SIMBOLO  per oggetti riciclabili è formato da  tre frecce  che indicano: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raccogliere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trasformare in nuovi oggetti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a1d"/>
                </a:solidFill>
                <a:latin typeface="Arial"/>
                <a:ea typeface="Arial"/>
              </a:rPr>
              <a:t>usare nuovamente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88" name="Picture 5" descr="144px-Recycle001_svg.png"/>
          <p:cNvPicPr/>
          <p:nvPr/>
        </p:nvPicPr>
        <p:blipFill>
          <a:blip r:embed="rId2"/>
          <a:stretch/>
        </p:blipFill>
        <p:spPr>
          <a:xfrm>
            <a:off x="785880" y="1928880"/>
            <a:ext cx="3571920" cy="3714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C:\Documents and Settings\Korisnik\Local Settings\Temporary Internet Files\Content.IE5\Y3O90JZB\MCj04381770000[1].wmf"/>
          <p:cNvPicPr/>
          <p:nvPr/>
        </p:nvPicPr>
        <p:blipFill>
          <a:blip r:embed="rId3"/>
          <a:stretch/>
        </p:blipFill>
        <p:spPr>
          <a:xfrm>
            <a:off x="7072200" y="3214800"/>
            <a:ext cx="1428840" cy="1643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riciclo_anim.gif"/>
          <p:cNvPicPr/>
          <p:nvPr/>
        </p:nvPicPr>
        <p:blipFill>
          <a:blip r:embed="rId4"/>
          <a:stretch/>
        </p:blipFill>
        <p:spPr>
          <a:xfrm>
            <a:off x="1643040" y="2714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22:46:42Z</dcterms:created>
  <dc:creator/>
  <dc:description/>
  <cp:keywords>ekologija</cp:keywords>
  <dc:language>en-US</dc:language>
  <cp:lastModifiedBy/>
  <dcterms:modified xsi:type="dcterms:W3CDTF">2014-04-21T19:09:35Z</dcterms:modified>
  <cp:revision>1</cp:revision>
  <dc:subject/>
  <dc:title>-Alda  Šlen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