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691-297E-40B9-BADF-E0D70E23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2FA-0632-4BE0-BD7C-1FD512A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4CC-369E-4FB4-8AAF-712C7813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0D4-2F51-452D-A162-D3632A5D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27A-523C-4C99-846D-20C59DCE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FE2-FBAC-4313-9631-15FA758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AE27-DE0B-4079-9F61-D9CD815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EC05-E5FE-4415-BE2F-912D5AE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BE70-E2F1-4402-81B3-6040076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33E-4FF9-4876-BB36-A0AEB59C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B43C-8265-44AE-B59E-550BBF1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74F-E56A-4665-A63F-7344098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9B2D-919E-44D6-9CA3-BEFDC435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05C-6CE8-49D7-8833-AB0227A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62F-F066-4185-8C23-154A20C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FB8D-A9BB-4319-B29A-4587F832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6B2-98AF-4911-A497-1AA4730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862-37B6-4106-94DD-2865338C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2FC-66DE-41F2-A7E3-8FBDE9E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FA0-2FD8-45D4-B573-2D5551A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FAC-8C1C-4087-ACB6-02045256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C1B-39C5-4C77-A54A-08E0B45C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DD1-73BC-45A2-A66B-842CB23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441-676B-4C92-8CB5-BF99D2E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BC95-A7F2-428D-B020-D6932D5F8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7C3-35BF-4F5B-A39A-FAFDD86DAB6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Motivazioni per l’educazione ambientale nella scuola dell’infanzi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Didattica dell’educazione ambientale e protomatemat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Arial Black"/>
              </a:rPr>
              <a:t>mr.sc. Nevia Močinić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Approccio metodologico all’educazione ambiental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Tappe dell’intervento organizzato della maestra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Individuazione di contenuti e itinerari metodologi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Precisazione degli obiettivi da raggiunge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Attivazione delle corrispondenti attiv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didattic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Suggerimenti metodologic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Esaminare le esperienze precedenti dei bambi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Evitare l’isolamento dell’ed. ambienta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apportare il grado di compless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all’e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ei bambi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rivilegiare il contatto e il lavoro con materiali concret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redisporre sequenze di apprendimento limitate nel temp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are dell’ambiente esterno uno degli ambiti privilegiati delle ricerch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ontinuazion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Utilizzare gli spazi disponibili senza formalizzarsi sulle strutture (angoli verdi, cucina, al posto di laboratori sofisticat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rodurre numerosi materiali didattici come documentazione delle esperienze vissu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Non trascurare la componente fantastico-immaginativ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rocedere a verifiche pubbliche delle ricerche fatte (mostre dei lavori: raccolte di oggetti, costruzioni, filmati, fotografie, ecc.; inserimento sulla pagina web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Finali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 generali dell’educazione ambiental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i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formative – maturazione di atteggiamenti generali nelle varie sfere della perso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i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isciplinari – acquisizione di specifiche abi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 capac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e contenuti legati all’educazione scientifica (base per effetto formativo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nstatazione: nelle scuole dell’infanzia troppo spesso si trascurano le fi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formative (poco precise e scarsamente misurabili) a favore di quelle disciplinar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Final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formati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Riguardano lo sviluppo delle sfere cognitiva, psicomotoria, affettivo-emotiva, sociale della personali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del bambin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Finali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da realizzare nella sfera cognitiva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Formare un comportamento consapevole e raziona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Esaminare sistematicamente i fatt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Educare ad uno spirito critico e scientific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Incentivare la capaci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di giudizio persona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timolare la curiosi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e l’apertura menta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Entrare in possesso di strumenti mentali per intervenire sulla real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e modificarl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Finali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 formative – sfera 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affettivo-</a:t>
            </a: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emotiv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3534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timolare lo sviluppo dell’autonomia e indipendenza dagli adult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avorire il controllo delle emozio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avorire lo sviluppo di un’immagine positiva di se stess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Valorizzare i sentimenti di simpatia, amicizia e aiuto recipro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mparare a reagire costruttivamente di fronte a difficol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 conflitti e frustrazio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rendersi cura degli oggetti personal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Finalit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 formative - sfera sociale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Imparare a collaborare con gli altr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Inserirsi nel grupp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Accettare le regole di comportamento socia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Adempiere con responsabili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a piccole incombenz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Confrontarsi con gli altri e accettare serenamente i propri limit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oddisfare il bisogno di appartenenz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viluppare la fiducia, la solidariet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, la comprensione, la simpatia, l’affetto verso gli altr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Imparare ad ascoltare e tollerare le opinioni altru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Finali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 formative – sfera psicomotori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</a:t>
            </a: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ostruzione dello schema corporeo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viluppo delle capac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manipolative e percettiv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viluppo delle </a:t>
            </a: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unità di base del movimento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 capacità motorie, schemi motori dinamici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 coordinazione oculo-manuale e segmentari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</a:t>
            </a: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viluppo della coordinazione dinamica general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Obiettivi dell’educazione ambient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Le fi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si concretizzano negli obiettivi generali e specifici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Gli obiettivi generali rappresentano mete p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ù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concrete delle fin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a inserire nella programmazion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Gli obiettivi specifici sono le mete operative da inserire nelle preparazioni per le attiv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idattich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agi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Agire sugli oggetti (piegare, modellare, tagliare, incollare, ecc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Manipolare e confrontare ogget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Cogliere il senso e il significato delle azioni sugli ogget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iflettere sulle azioni efficaci e non effica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Perch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é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è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necessaria l’educazione ambient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nterrotto rapporto uomo-natu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Ambiente naturale sconvolto dalla tecnologia e dall’industrializzazio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Tutto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è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correlato nell’ambiente naturale: i problemi della natura sono problemi dell’uo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mportamento fino ad oggi: natura selvaggia da modificare senza riguardi allo sfruttamento delle risorse natural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percettiv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Compiere osservazioni e riconoscere caratteristiche di oggetti, materiali, situazion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aper effettuare discriminazioni visive (acutezza, seguire con gli occhi, memoria visiva, differenziazione figura-sfondo, persistenza percettiva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aper effettuare discriminazioni uditive (acutezza, orientamento, memoria uditiva, …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aper effettuare discriminazioni olfattive, tattili (morbido, ruvido, duro, liscio) e gustative (dolce, amaro, salato, acido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Essere in grado di coordinare le diverse informazioni percettive (suoni, visioni, gusti…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classifica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89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Distinguere oggetti per funzione, forma, colore, dimensione, materiale, ec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aggruppare oggetti secondo caratteristiche quantitative e qualitat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Individuare criteri di classificazione e inventarne nuov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osservare e descrive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0629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iconoscere e denominare persone, animali, piante, oggetti (es. mestieri, persone secondo le e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 animali della fattoria, del bosco, del prato, fiori primaverili, estivi e autunnali, ecc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iconoscere e descrivere fenomeni naturali (precipitazioni atmosferiche, sviluppo di una pianta, nascita e sviluppo di animali, …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mettere in relazi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struire e confrontare insiemi di piante, animali, persone, 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mpiere operazioni e trasformazioni concrete sugli insiemi (trovare sottoinsiemi, aggiungere, togliere, …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Mettere in relazione persone, piante, animali (bambini – case tipiche; frutto – colore; frutto-albero; animale-tana; uovo-uccellino; piccoli-animali adulti,…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strutturazione del temp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Ordinare eventi e azioni quotidiane secondo la loro successione nel temp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Usare e comprendere le relazioni temporali prima, ora, dopo applicandole a fenomeni naturali, eventi personali o altrui 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iordinare gli eventi in base all’ascolto di storie narr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791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 di rappresentazione simbol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nventare e utilizzare alcuni simboli concreti per registrare fenomeni, avvenimenti, incontri, ec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ndividuare, produrre e rappresentare ritmi (di oggetti, colori, forme, suoni, ecc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appresentare graficamente eventi e azion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Utilizzare matrici a doppia entra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Visualizzare relazioni e variabil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pac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di strutturazione spazi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Padroneggiare nozioni topologiche elementari: sopra - sotto, vicino - lontano, su – g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ù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 dentro – fuori, a destra – a sinist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aper effettuare ricostruzioni rappresentative delle relazioni topologich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iconoscere e confrontare distanze, lunghezze e for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ndividuare un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i misura convenzionali e utilizzarle praticamen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ompetenze linguistich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municare ed esprimersi attraverso molteplici linguagg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Descrivere verbalmente oggetti e loro relazioni spazial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Narrare eventi nelle loro sequenze temporal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Utilizzare le potenzi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logiche della lingua (uso connettivi logici non, e, o; enunciati veri e falsi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Formulare spiegazioni, previsioni, inferenz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 Black"/>
              </a:rPr>
              <a:t>Esperienze di allevamento e coltivazion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Scoperta – gli animali e le piante non sono cose 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è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giocattol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Sono esseri viventi come noi, hanno bisogno di acqua, luce, cibo e tante cocc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apporto emotivo molto intenso e via via p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ù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stret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Zelo, perseveranza e responsabil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nella cur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Util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nell’apprendimen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Scoperta di relazioni, regolar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negli eventi, costruzione di funzioni simboliche (intelligenza di tipo rappresentativo e concettual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Sviluppo delle abili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 percettive, manipolative, linguistich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Necessario rispettare lo stile conoscitivo del singolo bambi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oncetto di sviluppo sostenib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497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Terra – pianeta a sistema chiuso (tutto ci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ò</a:t>
            </a: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 che avviene all’interno, all’interno rimane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Boom economico: modello di vita improntato all’insegna dell’usa e getta (borse e bottiglie di plastica, lattine, carta), dell’uso indiscriminato delle automobili, dello spreco aliment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Riciclaggio, interrare i rifiuti – crea l’illusione di risolvere i problemi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Arial Black"/>
              </a:rPr>
              <a:t>Sviluppo sostenibile – utilizzare le risorse razionalmente, senza sprechi, cercando di non compromettere l’esistenza delle generazioni futu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renze esperienzial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978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Nonostante la tanto decantata centra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ell’infanzia nella socie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contemporanea – nuove forme di pover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(isolamento, mancanza di contatti con la natura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ause: mancanza di spazi verdi, parchi-gioco, poca disponibi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egli adulti, dipendenza dalla TV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Ambito di esperienze: casa, scuola, strade trafficate, negozi, aree verdi scarse e, spesso, pericolos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Carenze dell’infanzi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ncontri di tipo artificiale da immagini e messaggi indiretti (TV, videocassette, c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La mancanza della percezione diretta dei materiali impedisce una varie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di sensazioni e percezioni da provare attraverso il corp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Impedisce lo sperimentare al di fuori di qualsiasi vincolo (a causa di paure o diviet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Esigenze mortificate e deprivate nella vita socia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Educazione ambient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Richiede valori morali, senso di responsabi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e convinzioni personali dell’educatri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Un maestro non pu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ò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insegnare ai bambini c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ò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che non conosce o non condivide (coinvolgimento attivo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ensibi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ai problemi dell’ambiente - un modo di essere e di pensare anche nei piccoli gesti della vita quotidia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Opportunit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à</a:t>
            </a: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 offerte dall’ed. ambient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Incontro diretto e frequente con ambienti naturali (giardino, parco, prato, bosco, …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Permette di riprendere il dialogo con la natura sopraffatto dall’incalzare della vita frenet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Far conoscere ai bambini la natura incontaminata come la ricordano gli adul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Influenza sullo sviluppo personale del bambi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353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ntatto diretto con la natura – influisce sullo sviluppo affettivo (tenerezza, semplic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, entusiasmo, stupore, meraviglia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nsapevolezza della propria ident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nquista dell’autonomia (fare, sperimentare, esplorare, manipolar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Consolidamento delle abilit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à</a:t>
            </a: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 e delle competenz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Arial Black"/>
              </a:rPr>
              <a:t>Soddisfazione dei bisogni di conoscere ed esplora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 Black"/>
              </a:rPr>
              <a:t>Programmazion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Deve tener conto di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itmi di apprendimento dei bambin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Maturazione cognitiva dei bambin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Ruolo del mae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00"/>
                </a:solidFill>
                <a:latin typeface="Arial Black"/>
              </a:rPr>
              <a:t>Suggerimenti metodologic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01:43Z</dcterms:created>
  <dc:creator>miro</dc:creator>
  <dc:description/>
  <dc:language>en-US</dc:language>
  <cp:lastModifiedBy>Miro</cp:lastModifiedBy>
  <dcterms:modified xsi:type="dcterms:W3CDTF">2014-03-25T20:20:57Z</dcterms:modified>
  <cp:revision>31</cp:revision>
  <dc:subject/>
  <dc:title>Motivazioni per un’educazione ambientale</dc:title>
</cp:coreProperties>
</file>