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9CAF-F455-4EC0-9A84-51A5EF63E5A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E8DD-AA5E-472F-886A-B053CA59CF31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C77D-7D75-48E8-8AE2-A3FF8FE4146F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5BA9-CE78-459B-A460-758E4AC5DB85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C345-8786-4F01-8116-CFCCC823692A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3D7-F6BE-4838-A5AE-8877794BEC56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DB3C-372C-4B62-A65C-EABBF8C9F27F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3DF-118A-49FE-B1CE-BCBBBB91D309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BE8-B405-4C43-BE13-73888BEA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E6F-E433-4390-AC4E-0E29974D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E52-0275-4233-905E-0329537E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059-E3CB-496F-82C3-0EA89539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231E-E5B7-4A77-9EFA-A2B2C42D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0656-C801-4E90-8CD1-9785BA5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F21C-A3C0-46A2-AC99-F670D679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91B6-D8E4-43FC-98C0-6EC1C514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09FA-BE1E-4D7B-BC24-71926541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C01A-4EDF-46D1-AA2A-06BC994B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A0F9-C712-4B8B-981D-2E88EA16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1C0-EA03-4517-89E8-961B017D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2AB3-FE72-4A4C-8730-F2D5039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B8F6-2151-4463-924B-1285F086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46E1-DF49-4F9B-831A-0E590F8C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9236-F3CF-43ED-A679-2F8B782F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EAA-818F-49D2-9254-8C0623B8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B7D-4E3A-4119-8497-E9C6F44D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D48-5EA1-4546-ACE9-160695BA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2A5-12A0-46F2-BCD0-005D1AE9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DDA-49B9-4456-90CF-9061C577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D8F-0E38-409A-9266-74D38B9B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6AD-A263-4847-9D5F-0B6FD544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5E9-70F1-4C5B-807A-DB57F53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41BE-0FF3-4DEE-870C-1D5D6AD84963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461D-456A-49F3-8782-F779A85CF9E7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424720" cy="3225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FARE RICERCA NELLA</a:t>
            </a:r>
            <a:br>
              <a:rPr sz="4400"/>
            </a:b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SCUOLA MATER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71680" y="4857480"/>
            <a:ext cx="85723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so di studio: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ducazione Prescolar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idattica ambientale e protomatema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ente: Mr.sc. Nevia Močini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33160" y="1218960"/>
            <a:ext cx="79246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uscitare l’interesse per un argo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rganizzare le uscite e predisporre le situazioni di apprend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eparare insieme ai bambini i supporti didattici: es. cartelloni, calendari, schedari, grafici, ecc. per la raccolta dei d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rigere e indirizzare le ricerche, gli esperimenti, la produzione di supporti didatt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598400" y="509760"/>
            <a:ext cx="45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Ruolo dell’educato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ase - Osserv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dicazioni metodologich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dividuazione dell’oggetto d’indag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nalisi del presapere dei bambio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pproccio didattic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nversazione, passeggiata, gioco, narrazione di storie, lettura di poesie, drammatizzazioni di racconti, imprevisto, interesse specifico dei bambini, ec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31520" y="738360"/>
            <a:ext cx="63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Schema-matrice della ricer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2. Fase - Formulazione delle ipotes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dicazioni metodologich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accolta di interessi e curiosit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imolazione dei perch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ormulazione di ipote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edisposizione dei materiali necessa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dividuazione di itinerari specif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involgimento di “esterni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3. fase - Sperimentazio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ssa in atto dei progetti di ricerca individu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scita/e libere o guid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dagine sulla veridicità o falsità delle ipotesi formu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rticolazione dei lavori secondo i tempi, i modi, i materiali, i linguaggi previ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4. fase - Verif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447920"/>
            <a:ext cx="79293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same dei d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ormulazione delle conclusioni ed elaborazione dei d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ocializzazione delle esperien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alutazione e controllo delle differenze rilevabili tra le situazioni di partenza e arrivo, ovvero confronto tra il “prima” e il “dopo”dell’esperien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3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bambini conoscono il mond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m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diante un’interazione attiva con l’ambiente naturale, tecnologico e soci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sperienza globale (non attività separate per campi d’esperienz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ono necessari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   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sperienze molteplici, complesse e concre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   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verbalizzazioni delle esperienze   vissute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   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rganizzazione delle nozioni apprese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memorizza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7"/>
          <p:cNvSpPr/>
          <p:nvPr/>
        </p:nvSpPr>
        <p:spPr>
          <a:xfrm>
            <a:off x="1066680" y="457200"/>
            <a:ext cx="762012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ricerca scientific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datta all’apprendimento globale e alla successiva strutturazione cogni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spetta i bisogni e le capacità dei bambi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i rivolge a motivazioni deprivate nella vita familiare (es. comunicazione, socializzazione, esplorazione, fare da sè, costruzione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uò assumere l’aspetto di un gio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Funzioni della ricerca 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scientif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57120" y="1828800"/>
            <a:ext cx="850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onfiggere il mondo prelogico del bambino, cioè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non sovrapporre la propria visione del mondo a quella del bambino (impregnata di animismo, finalismo, artificialism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otenziare un diverso accostamento alla realtà basato sulla sperimentazione, sul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flessione, sulla generalizz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8"/>
          <p:cNvSpPr/>
          <p:nvPr/>
        </p:nvSpPr>
        <p:spPr>
          <a:xfrm>
            <a:off x="762120" y="380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mparare ad usare il metodo scientifi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914400" y="16765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l metodo scientifico comprend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l’osservazione sistemat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l’ipotesi (intuizioni, domande, curiosità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la sperimentazione (realizzazione operativa delle ipotesi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la verifica (mette i bambini di fronte all’evidenza dei fatti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881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ensibilizza i bambini ai problemi dell’inquina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a scoprire esempi di degrado ambient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bitua a comportamenti di rispetto verso la natu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bitua a forme di risparmio delle risorse natura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85800" y="4572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La ricerca sviluppa la sensibilità ecolog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6960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Comic Sans MS"/>
              </a:rPr>
              <a:t>Ricerca morfologic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ornisce i dati, le informazioni, le nozioni conoscitive di 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mprende i prodotti dell’ esperienza operativa e motoria (proprietà e funzioni delle cose, descrizioni dei fatti e dei fenomeni, successioni temporali, ec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mette di esercitare la manipolazione e la percezione sensori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053080" y="66204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Esempi di ricerca scientif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62120" y="1295280"/>
            <a:ext cx="795312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glie il significato della realtà come sistema, come insieme organico, omogeneo, coerente e struttura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ntra dentro le cose, cerca i perché, i collegamenti, i nessi, le strutture, i processi, le relazioni dei sistemi articol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981080" y="6094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000000"/>
                </a:solidFill>
                <a:uFillTx/>
                <a:latin typeface="Comic Sans MS"/>
              </a:rPr>
              <a:t>2. Ricerca struttura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840" y="914400"/>
            <a:ext cx="82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hema di interven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imolo fantastico-creativo (es. lettura di racconti, invenzione di storie, drammatizzazione teatrale, recitazione di poesie, visione di filmati, ec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sperienze ludiche ed esplorative (uscite per esplorare l’ambien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sperienze scientifiche (prove di laboratorio, esperiment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elaborazioni in codici simbol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752480" y="304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Realizzazione della ricer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35:01Z</dcterms:created>
  <dc:creator>Korisnik</dc:creator>
  <dc:description/>
  <dc:language>en-US</dc:language>
  <cp:lastModifiedBy>Miro</cp:lastModifiedBy>
  <dcterms:modified xsi:type="dcterms:W3CDTF">2010-05-25T16:33:41Z</dcterms:modified>
  <cp:revision>31</cp:revision>
  <dc:subject/>
  <dc:title>IL RAPPORTO FRA LA DIDATTICA DELLA NATURA E SOCIETÀ E LE ALTRE SCIENZE</dc:title>
</cp:coreProperties>
</file>