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47A-0446-470E-8BAF-AA092CB1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5DC-B17E-49FB-8130-C9E38E1D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7EE-6E94-41C6-BC63-772DC51B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4F81-618C-47A4-BB68-969583C6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F2D1-0873-44A2-B68A-47641945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56C4-7649-4621-830B-7E7AF714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8FC9-6D60-4301-9BF3-2613A35F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F61A-C1A9-4594-8259-C5D4BC0E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315B-E260-4C34-A6C5-21D0AEF3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A97D-205B-4F4C-B041-2C0EC89F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6C03-2B56-445C-AD2F-EAF8E69F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34F-D3A0-4D27-A180-E7E2C81F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2276-B02D-4E56-93DE-80E07B32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F4C3-F9D5-438E-8397-79782493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1B21-CD60-4253-81BA-683869B0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4B44-E348-4560-B414-077CC2F1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7176-76E6-4A9F-BDBA-9D355D54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749-8C09-4382-9F17-C39C54C4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00B-2AE0-46DC-A64F-5AC2CC29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D1A-38EC-42CA-A00F-36FFD43C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883E-FF81-48D8-A71C-3FE0DC0E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AB28-1ACA-4122-8CFB-2678063F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222-B127-435D-8B9F-3DF6B01A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2F1-6C08-4640-B156-EEF214CC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9420-AE5C-4C51-9752-745E2A61A5AD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E991-DBAE-46E6-8B21-7786D4E320FD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Attività topologic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440" y="4051440"/>
            <a:ext cx="6299280" cy="19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Didattica dell’educazione ambientale e protomatemat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Mr.sc. Nevia Močini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Schede 9,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cheda 9 – logico completamento della scheda 2 (percorso dell’eroe della storia senza suggerimenti di tappa in tappa, ma seguendo la narrazione come filo condutto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cheda 10 – ricorda la Caccia al tesoro; uso di codici convenzionali di lettura ben precisi, concordati in preceden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Percorsi ad ostacol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Content Placeholder 3" descr="percorso-ostacoli1.jpg"/>
          <p:cNvPicPr/>
          <p:nvPr/>
        </p:nvPicPr>
        <p:blipFill>
          <a:blip r:embed="rId1"/>
          <a:stretch/>
        </p:blipFill>
        <p:spPr>
          <a:xfrm>
            <a:off x="5000760" y="2071800"/>
            <a:ext cx="3809880" cy="3619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percorso-ostacoli.jpg"/>
          <p:cNvPicPr/>
          <p:nvPr/>
        </p:nvPicPr>
        <p:blipFill>
          <a:blip r:embed="rId2"/>
          <a:stretch/>
        </p:blipFill>
        <p:spPr>
          <a:xfrm>
            <a:off x="0" y="2357280"/>
            <a:ext cx="49816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Motivazione dei bambin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Agire sugli aspetti emotivo, affettivo, sociale e cognitivo della personalit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oinvolgere operativamente i bambini: progettare assieme a loro il gioco e allestire l’ambi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Utilizzare il supporto narrativo/ fiabesco o immaginario per contestualizzare il gio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Il ruolo dell’insegnan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Osservatore – rileva la presenza o meno delle capacità topologiche nei bambi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artecipatore – assume le attività in funzione promozionale ed educati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l gioco funge sia da strumento di verifica che da materiale idoneo a sviluppare le capacità topologi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Esempio di percorso obbliga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828440"/>
            <a:ext cx="76960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Situazione motivante</a:t>
            </a:r>
            <a:br>
              <a:rPr sz="3200"/>
            </a:b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Seduti in cerchio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apriamo la scatola e scopriamo il delfino Velocino, il personaggio che ci accompagnerà nella nostra avventura e che ci racconta del suo mondo sotto il mare.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copriamo su un cartoncino la parola magica per aprire la porta ed entrare  nel m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713880" y="571680"/>
            <a:ext cx="769644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Velocino è un delfino molto curioso che nuota sempre per trovare nuovi amici. Ama  anche cercare gli anemoni di mare che regala sempre alla sua mamm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2786040" y="2857680"/>
            <a:ext cx="57610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omic Sans MS"/>
              </a:rPr>
              <a:t>INGRESS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28760" y="1142640"/>
            <a:ext cx="8286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assiamo la porta che ci condurrà nel mare. Con musica di sottofondo che imita le sonorità del mare e dei delfini. Magicamente diventiamo tutti pesci e con la musica nuotiamo in un grande acquario facciamo la gimcana delle perle e delle onde del mare (si deve portare la propria perla, spingendola solo con i piedi, attraverso un percorso dove le onde sono ostacoli e posizionando degli anemoni di ma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0960" y="7920"/>
            <a:ext cx="7808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ff"/>
                </a:solidFill>
                <a:latin typeface="Calibri"/>
                <a:ea typeface="Times New Roman"/>
              </a:rPr>
              <a:t>Si legge la parola magica che è MA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foto della parola  magica per entrare nel mondo sottomarino: mare!"/>
          <p:cNvPicPr/>
          <p:nvPr/>
        </p:nvPicPr>
        <p:blipFill>
          <a:blip r:embed="rId1"/>
          <a:stretch/>
        </p:blipFill>
        <p:spPr>
          <a:xfrm>
            <a:off x="2143080" y="1928880"/>
            <a:ext cx="4702320" cy="35272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Si entra dalla porta magica e ci 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immergiamo nel mar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Content Placeholder 3" descr="foto dei bambini che fanno il percorso rappresentante &quot;nel mare&quot;"/>
          <p:cNvPicPr/>
          <p:nvPr/>
        </p:nvPicPr>
        <p:blipFill>
          <a:blip r:embed="rId1"/>
          <a:stretch/>
        </p:blipFill>
        <p:spPr>
          <a:xfrm>
            <a:off x="2214720" y="2071800"/>
            <a:ext cx="5643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rendiamo all'inizio del percorso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egli anemoni di m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Content Placeholder 3" descr="foto dei bambini che fanno il percorso rappresentante &quot;nel mare&quot;"/>
          <p:cNvPicPr/>
          <p:nvPr/>
        </p:nvPicPr>
        <p:blipFill>
          <a:blip r:embed="rId1"/>
          <a:stretch/>
        </p:blipFill>
        <p:spPr>
          <a:xfrm>
            <a:off x="2000160" y="1928880"/>
            <a:ext cx="58579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Tipi di attività topologic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Realizzazione di percorsi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Individuazione di relazioni spaziali (sopra – sotto, dentro – fuori, vicino – lontano, davanti – dietro, in alto – in basso, su – giù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172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Facciamo il percorso spostando 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solo con i piedi una grande per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13880" y="17859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3" descr="foto dei bambini che fanno il percorso rappresentante &quot;nel mare&quot;"/>
          <p:cNvPicPr/>
          <p:nvPr/>
        </p:nvPicPr>
        <p:blipFill>
          <a:blip r:embed="rId1"/>
          <a:stretch/>
        </p:blipFill>
        <p:spPr>
          <a:xfrm>
            <a:off x="2214720" y="2000160"/>
            <a:ext cx="5429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Ad ogni ostacolo mettiamo un anemone di ma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3" descr="foto dei bambini che fanno il percorso rappresentante &quot;nel mare&quot;"/>
          <p:cNvPicPr/>
          <p:nvPr/>
        </p:nvPicPr>
        <p:blipFill>
          <a:blip r:embed="rId1"/>
          <a:stretch/>
        </p:blipFill>
        <p:spPr>
          <a:xfrm>
            <a:off x="2071800" y="2143080"/>
            <a:ext cx="564336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77151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Torniamo indietro nel percorso sempre 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controllando la perla con i piedi e..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3" descr="foto dei bambini che fanno il percorso rappresentante &quot;nel mare&quot;"/>
          <p:cNvPicPr/>
          <p:nvPr/>
        </p:nvPicPr>
        <p:blipFill>
          <a:blip r:embed="rId1"/>
          <a:stretch/>
        </p:blipFill>
        <p:spPr>
          <a:xfrm>
            <a:off x="2286000" y="2357280"/>
            <a:ext cx="51436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...togliendo gli anemoni di mare messi prim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3" descr="foto dei bambini che fanno il percorso rappresentante &quot;nel mare&quot;"/>
          <p:cNvPicPr/>
          <p:nvPr/>
        </p:nvPicPr>
        <p:blipFill>
          <a:blip r:embed="rId1"/>
          <a:stretch/>
        </p:blipFill>
        <p:spPr>
          <a:xfrm>
            <a:off x="2428920" y="2000160"/>
            <a:ext cx="50720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86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Arrivati al traguardo infiliamo di nuovo gli anemoni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i mare  nel ramo marino, contandol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3" descr="foto dei bambini che fanno il percorso rappresentante &quot;nel mare&quot;"/>
          <p:cNvPicPr/>
          <p:nvPr/>
        </p:nvPicPr>
        <p:blipFill>
          <a:blip r:embed="rId1"/>
          <a:stretch/>
        </p:blipFill>
        <p:spPr>
          <a:xfrm>
            <a:off x="3000240" y="1857240"/>
            <a:ext cx="364356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I percors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cc"/>
                </a:solidFill>
                <a:latin typeface="Comic Sans MS"/>
              </a:rPr>
              <a:t>Percorsi liberi</a:t>
            </a:r>
            <a:r>
              <a:rPr b="0" lang="hr-HR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( vengono date alcune indicazioni formali: punto di partenza 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i arrivo, limitazioni al percors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cc"/>
                </a:solidFill>
                <a:latin typeface="Comic Sans MS"/>
              </a:rPr>
              <a:t>Percorsi obbligati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(vengono date indicazioni ben precise sulla strada da seguire). Possono essere complicati per l’uso di ostacoli insoliti o perché mettono in forse la padronanza  dell’ambiente del bambino o la sua sicurezz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Gli ostacol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cc"/>
                </a:solidFill>
                <a:latin typeface="Comic Sans MS"/>
              </a:rPr>
              <a:t>Ostacoli naturali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: es. i muri, le porte e tutto ciò che rientra nell’ambiente come oggetto fisso e stab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cc"/>
                </a:solidFill>
                <a:latin typeface="Comic Sans MS"/>
              </a:rPr>
              <a:t>Ostacoli artificiali</a:t>
            </a:r>
            <a:r>
              <a:rPr b="0" lang="hr-HR" sz="3200" spc="-1" strike="noStrike">
                <a:solidFill>
                  <a:srgbClr val="0033cc"/>
                </a:solidFill>
                <a:latin typeface="Comic Sans MS"/>
              </a:rPr>
              <a:t>: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sono fissati a piacere dall’arbitro del gioco (la maestra o un gruppo di bambini). Nei percorsi liberi – si tratta di zone proibite, più o meno vaste. Nei percorsi obbligati si tratta di strisce colorate, file di sedie, linee tratteggiate sul pavimento, ec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0992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Obiettivi didattici dei percors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igliorare le capacità deambulator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mparare ad orientarsi nello spazio e usare con proprietà i punti di riferim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mparare a dominare lo spazio con sempre maggiore sicure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viluppare un atteggiamento critico e riflessivo nei confronti dell’ambi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Aumentare le capacità espressive (arr. lessicale, esprimersi correttament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Fasi di realizzazione </a:t>
            </a:r>
            <a:br>
              <a:rPr sz="4400"/>
            </a:b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del gio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hr-HR" sz="3200" spc="-1" strike="noStrike">
                <a:solidFill>
                  <a:srgbClr val="0033cc"/>
                </a:solidFill>
                <a:latin typeface="Comic Sans MS"/>
              </a:rPr>
              <a:t>Fase orale del gioco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(progettazione del gioco; narrazione storia; regol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hr-HR" sz="3200" spc="-1" strike="noStrike">
                <a:solidFill>
                  <a:srgbClr val="0033cc"/>
                </a:solidFill>
                <a:latin typeface="Comic Sans MS"/>
              </a:rPr>
              <a:t>Fase del gioco attivo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(preparazione ostacoli, gioco vero e propri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hr-HR" sz="3200" spc="-1" strike="noStrike">
                <a:solidFill>
                  <a:srgbClr val="0033cc"/>
                </a:solidFill>
                <a:latin typeface="Comic Sans MS"/>
              </a:rPr>
              <a:t>Commento e discussione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dello svolgimento del gioco (difficoltà, errori propri o altrui, pareri, stati d’animo, soluzioni alternative, ecc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hr-HR" sz="3200" spc="-1" strike="noStrike">
                <a:solidFill>
                  <a:srgbClr val="0033cc"/>
                </a:solidFill>
                <a:latin typeface="Comic Sans MS"/>
              </a:rPr>
              <a:t>Fase grafico-pittorica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(disegnare le tappe del gioc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Schede 1 e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ercorsi liberi molto semplic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imiti – alcune zone viet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ifficoltà crescenti (es. dominio assoluto dell’ambiente / dominio parziale dell’ambient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ercorso del tutto libero / tappe obbligatorie per numero e ord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ercorsi basati su una storia concordata con i bambi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Schede 3,4,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i tratta di percorsi obbligati e labirin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ifficoltà gradualmente più al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ominio assoluto dell’ambiente (aul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Verifica della capacità di rispettare le regole e della sicurezza di se stess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al percorso lineare si passa al vero e proprio labirinto con un solo percorso giusto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Schede 6, 7,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i tratta di percorsi obbligati con ostacoli o gimk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ercorso circolare con ostacoli artificiali (in aula, in palestra, nel cortile, sul campo da gioco, ecc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Gli ostacoli hanno lo scopo di distogliere l’attenzione dal percor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Gli ostacoli richiedono: a) impegno fisico, b) impegno logico e fisico, c) impegno mental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o</cp:lastModifiedBy>
  <dcterms:modified xsi:type="dcterms:W3CDTF">2013-12-10T17:55:03Z</dcterms:modified>
  <cp:revision>13</cp:revision>
  <dc:subject/>
  <dc:title>PowerPoint Presentation</dc:title>
</cp:coreProperties>
</file>