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F61E-AB15-4765-9E94-DE701E4C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7BAF-9768-4E50-B928-E22D1C0A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7B1A-ECDD-47C3-9054-3596530D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911E-4D34-443A-B95A-D527E3BE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9C58-3312-4C8A-A339-C648D63E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402F-292F-488A-883A-96665B93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D415-1CD5-43EC-BE68-D8D8AF2A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2CCA-E9CC-41E3-96BD-D391AB02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6E02-6A1C-4692-857E-01CB33D9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0B89-BFAC-47A1-B92A-B7D8A2E3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4586-22BA-44C3-8BEA-6FEB1677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477C-BE9B-4382-93FE-487D52DE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7F80-76DD-4AB6-9DC6-A8A12CC0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9A94-2E40-49BA-A05F-FE36883C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CA18-4E56-4285-8CFC-4E2A7D1E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30A0-7042-4BCC-9C08-34B59015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6DB1-B6B5-433B-B618-4F0D71D7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06A4-C35D-4A06-97F5-7D7191D6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4D91-7CAC-446B-96C7-D39E5554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5D43-941D-44D3-94E5-5BCCE904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0153-4C14-4690-8A59-D0D2F2A1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5D60-13AA-4F17-A781-EB4FBAAD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5050-7C8D-4507-BBD9-0DAEFCE9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16F9-655A-4E7C-9864-35ECADC2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E8A6-82F1-4A86-96E4-21643DFEE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6B8F-338D-46D6-803E-59CA257314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dfdef6"/>
                </a:solidFill>
                <a:latin typeface="Arial"/>
              </a:rPr>
              <a:t>Organizzazione funzionale dello spazio</a:t>
            </a:r>
            <a:br>
              <a:rPr sz="4800"/>
            </a:br>
            <a:r>
              <a:rPr b="0" lang="hr-HR" sz="4800" spc="-1" strike="noStrike">
                <a:solidFill>
                  <a:srgbClr val="dfdef6"/>
                </a:solidFill>
                <a:latin typeface="Arial"/>
              </a:rPr>
              <a:t>nella scuola d’infanzia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idattica dell’educazione ambientale e protomatema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Mr.sc. Nevia Močini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5. Lo spazio aula </a:t>
            </a:r>
            <a:br>
              <a:rPr sz="4000"/>
            </a:b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Possibili scelte organizzativ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rganizzazione classica dell’aula in uno spazio unico per attiv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front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aboratori – centri privilegiati di esperienza e di sviluppo dei bambini in piccoli grup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ei laboratori si svolgono attiv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pensate e preparate con c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Il laboratorio permette di curiosare, provare e riprovare, concentrarsi, esplorare, cercare soluzioni, agire con calma e riflettere su 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ò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che si sta facendo, divertir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Privilegia i processi e non i risultati, i metodi e non i contenu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Le scelte organizzative </a:t>
            </a:r>
            <a:br>
              <a:rPr sz="4000"/>
            </a:b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dello spazio aul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evono tener cont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elle dimensioni di sviluppo dei bamb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elle sfere di esperien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elle modal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 di procedere nella soluzione di proble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dei significati e delle funzioni insiti nello spazio per una sua efficace azione educa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L’allestimento degli angol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L’angolo logico-matemat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ecessari materiali strutturati e non strutturati che permettono di operare con grandezze, misure, quant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, relazioni spaziali, ec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Materiali occorrent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Materiali di recupero (foglie, conchiglie, frutta secca, ec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Sussidi strutturati: carte, domino, corpi e forme geometri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Bastoncini, gettoni, fiche per la numera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Cestini con materiali come pasta, riso, botto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Oggetti e immagini per riconoscere le dimensio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Schede e quaderni operativi per attiv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logiche e matemati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Percorsi e labirinti per le relazioni topologi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L’angolo 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“</a:t>
            </a: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esplorazione e sperimentazione</a:t>
            </a:r>
            <a:r>
              <a:rPr b="0" lang="hr-HR" sz="4000" spc="-1" strike="noStrike">
                <a:solidFill>
                  <a:srgbClr val="dfdef6"/>
                </a:solidFill>
                <a:latin typeface="Arial"/>
                <a:ea typeface="Arial"/>
              </a:rPr>
              <a:t> “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Elementi necessari per l’angolo della natura viv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iante in vaso da curare e su cui constatare il fenomeno della cresc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errario con piante e animalett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nnaffiatoi, terra, vasi, bastoncini per reggere le piante, filo, corda, concimi va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iano d’appoggio o mensola per le pi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emi (fagioli, piselli, grano, granoturco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iccoli animali da curare: tartarughe, pesci rossi, criceti, uccellini, ec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L’angolo “esplorazione e sperimentazione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ontinu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eperti naturalistici (sassi, minerali, foglie, fiori essicati, erbe, semi) da ordinare e classifi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lbi illustrati di animali e pi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accolte di farfalle, insetti, conchiglie, nidi di uccelli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artelloni murali temati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enti d’ingrandi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trumenti per la misurazione del tempo, del peso, della lunghezza, del volume, della tempera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Radici del laboratori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John Dewey - l’apprendimento deve collocarsi sul piano della ricerca, dell’azione e dell’esplor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Kilpatrick - inventore del metodo dei progetti (progetto del produttore; progetto del consumatore, progetto del problem-solving, progetto dell’addestramen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orelle Agazzi – le “cianfrusaglie” per soddisfare il bisogno di esplorazione e di scoperta, e mantenere un costante riferimento al mondo es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Maria Montessori – il bambino protagonista della propria educazione, si mette alla prova, saggia le proprie potenzial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I punti qualit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  <a:ea typeface="Arial"/>
              </a:rPr>
              <a:t>à</a:t>
            </a:r>
            <a:r>
              <a:rPr b="0" lang="hr-HR" sz="4400" spc="-1" strike="noStrike">
                <a:solidFill>
                  <a:srgbClr val="dfdef6"/>
                </a:solidFill>
                <a:latin typeface="Arial"/>
                <a:ea typeface="Arial"/>
              </a:rPr>
              <a:t> del laboratori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pazio didattico attrezzato per attiv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specifi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Eccellente analizzatore dei bisogni espressi dai bambi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Risveglia bisogni  fortemente deprivati: comunicazione, socializzazione, esplorazione, costruzione, fantasia, avventura, movimento, fare da 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Sede di produzione di c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Struttura didattica adatta a praticare un metodo scienti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I livelli metodologici </a:t>
            </a:r>
            <a:br>
              <a:rPr sz="4000"/>
            </a:b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del laboratori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1. livello – aspetto esteriore: spazi, arredi, materiali a disposizione, tecni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2. livello – percorsi che vengono attivati per la realizzazione di un obiettivo – scelte metodologiche dominanti, strategie e metodi didatt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3. livello – attiv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 creativa,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 linguaggi usati, il tipo di coinvolgimento dei bambini, le motivazioni che sottendono le scelte effettuate, il raccordo con il cont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1. livello: il laboratorio come cassetta degli attrezz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aboratorio – centro polivalente di riso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e risorse materiali: pennelli, martelli, strumenti musicali, raccolte di oggetti, immagini, libri, fumet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e tecniche: - sequenza di azioni organizzate per la realizzazione di un prodotto. Tecniche operative o pratiche e tecniche di tipo astrat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Forme possibili: magazzino, banco di lavoro (falegname, fioraio, calzolaio), archivio - attiv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di classificazione e ordinamento per dimensione, funzione, genere, autore, ec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2. Il laboratorio come spazio</a:t>
            </a:r>
            <a:br>
              <a:rPr sz="4000"/>
            </a:b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 di progettazion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362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ipi di percorsi didattic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a palestra – esercitazione delle proprie abil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La bottega dell’apprendista – lavoro guidato in vista di un obiettivo preciso senza perdere di vista la ricerca di soluzioni nuove, cre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Il museo – oggetti esposti secondo regole pre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L’imprinting culturale – immersione nel proprio contesto culturale e nei suoi tipici modi di f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Importanza dello spazio organizzat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eve essere un ambiente finalizzato, ma non artifici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i carica di risonanze e connotazioni sogget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Evitare continue destrutturazio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Evitare tipologie di organizzazioni standardizz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pazie e arredi predisposti al fine di facilitare l’incontro con le persone, gli oggetti e l’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uolo di promozione e sviluppo delle competen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pazio di vita e di cultura che favorisce l’apprendimento e le attiv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relazio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4" descr="bambini_lettura"/>
          <p:cNvPicPr/>
          <p:nvPr/>
        </p:nvPicPr>
        <p:blipFill>
          <a:blip r:embed="rId8"/>
          <a:stretch/>
        </p:blipFill>
        <p:spPr>
          <a:xfrm>
            <a:off x="6372360" y="26028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3. Il laboratorio come </a:t>
            </a:r>
            <a:br>
              <a:rPr sz="4000"/>
            </a:b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bottega dell’art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l laboratorio come corso di formazione, come addestramento per utilizzare nel miglior modo le riso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ipolog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l gioco – l’impegno nel fa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anche diverti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’atelier creativo – sede e regno della fant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l laboratorio di id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l laboratorio di progett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Funzioni dello spazio </a:t>
            </a:r>
            <a:br>
              <a:rPr sz="4000"/>
            </a:b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organizzat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viluppo delle capac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di comprens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di organizzazione del pensi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di espressione di idee e sentimen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di stare con gli alt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del senso di sicurezza e autost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di accettare le regole di v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Caratteristiche dello spazio organizzat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roporzionato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lle capac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motorie, operative, mentali del bambino per permettergli di padroneggiarlo e trovarsi a proprio ag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Ordinato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– per offrirgli punti di riferimento e rassicurarlo sul piano emo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Calmo e armonios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– per favorire le esperienze e rafforzare la fiducia in se stes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Curato nei particolari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– per favorire il senso dell’ordine e il senso este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Funzionale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– per aiutarlo a capire le funzioni molteplici degli arredi, degli angoli, dei materiali didatt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Flessibile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– possibili interventi e modificazio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Differenziat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– per rispondere alle diverse esigenze dei bamb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Comunicativ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– per favorire le relazioni interpersonali e la comunica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L’allestimento degli spaz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L’atrio per la comunic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pazio della presentazione, l’identikit della scuo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ffre una visione sintetica di quello che succede all’interno della scuo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tilizza le pareti o le bacheche per informare e documentare i visitatori sul lavoro che vi si svol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ggiunge alle informazioni elementi accoglienti e invitanti (piante verdi, elementi stagionali, manifesti per feste e ricorrenze, pitture alle pareti, cartelloni piacevoli, ec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Mostre dei lavori dei bambi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2. I corrido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lteriore spazio di presentazione della scu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ulle pareti in alto inserire lavori dei bamb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n basso panche e armadietti per le scar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3. I servizi igienic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Comunicanti con la se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Contenenti tutto l’occorrente per l’igiene personale di ciascun bambino (spazzolino, carta per asciugare le mani, spazzole o pettini, ec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ggetti per attiv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 didattiche (contenitori vari per i giochi con l’acqua, grembiuli in plasti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Spazzolone e straccio per pul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4. Il cortile o altri spazi all’aper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ffre ai bambini l’opportun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d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sperimentare il contatto con la natura e rafforzare la propria autono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integrare le esperienze vissute all’interno della scuo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interagire con i compagni in un ambiente diver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acquisire padronanza dei movimenti e migliorare la capac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di coordinamento motorio degli ar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scoprire l’ambiente natur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Il corti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E’ opportuno suddividerlo in zo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ona del movim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ona dei percor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ona dell’orto e del giardinagg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ona di manipol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ona di sperimentazione e ricer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4" descr="bambino"/>
          <p:cNvPicPr/>
          <p:nvPr/>
        </p:nvPicPr>
        <p:blipFill>
          <a:blip r:embed="rId6"/>
          <a:stretch/>
        </p:blipFill>
        <p:spPr>
          <a:xfrm>
            <a:off x="6786720" y="2428920"/>
            <a:ext cx="685800" cy="12096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giardino"/>
          <p:cNvPicPr/>
          <p:nvPr/>
        </p:nvPicPr>
        <p:blipFill>
          <a:blip r:embed="rId7"/>
          <a:stretch/>
        </p:blipFill>
        <p:spPr>
          <a:xfrm>
            <a:off x="4572000" y="5143680"/>
            <a:ext cx="1285920" cy="9619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violaciocca"/>
          <p:cNvPicPr/>
          <p:nvPr/>
        </p:nvPicPr>
        <p:blipFill>
          <a:blip r:embed="rId8"/>
          <a:stretch/>
        </p:blipFill>
        <p:spPr>
          <a:xfrm>
            <a:off x="7286760" y="3929040"/>
            <a:ext cx="1309680" cy="17496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girotondo"/>
          <p:cNvPicPr/>
          <p:nvPr/>
        </p:nvPicPr>
        <p:blipFill>
          <a:blip r:embed="rId9"/>
          <a:stretch/>
        </p:blipFill>
        <p:spPr>
          <a:xfrm>
            <a:off x="4929120" y="2071800"/>
            <a:ext cx="10382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4:33:45Z</dcterms:created>
  <dc:creator>miro</dc:creator>
  <dc:description/>
  <dc:language>en-US</dc:language>
  <cp:lastModifiedBy>Miro</cp:lastModifiedBy>
  <dcterms:modified xsi:type="dcterms:W3CDTF">2014-01-07T18:39:29Z</dcterms:modified>
  <cp:revision>41</cp:revision>
  <dc:subject/>
  <dc:title>Organizzazione funzionale dello spazio</dc:title>
</cp:coreProperties>
</file>