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9A1F-4A5E-422A-A33E-C21252A2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F1A5-AECF-4136-95F9-A496194B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62AB-181A-417E-A014-C3F20BE1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C95B-7582-407C-8CF7-D0C3CF50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1927-9522-4F2D-B5B0-C3203B73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DA5D-DD5B-42A4-B3BF-1A02F5F3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682-6B4E-4351-B94F-32C1D0D8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024-29AC-4E4A-BD21-A803265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413F-1AE6-4CFA-A98E-A8D20657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3D60-5BB2-402D-915B-EB304B9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90FB-8997-4628-AAA5-C8CB8B9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C708-9122-4511-8D2F-4E2796CD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6F52-C807-490E-B8D6-A3BB699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5206-AFEB-424F-B7ED-1610F28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05D8-9B87-4A32-92A6-9C2AA81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51EE-8567-4A17-A546-D80131C4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AFC5-C693-4CED-A05D-B540AFA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D048-1FE4-43C9-992E-0191DEFC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3B5F-3BFE-46A7-90CF-A9F6204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7345-3203-43D9-AA81-1853F42B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C45D-23FB-4B08-87CC-BF17BDA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ACB1-C271-4F4A-8233-603E59D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246A-D0B8-49BE-8DA6-0535295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CC30-A753-4E42-8D4F-3790A3A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15C-BC06-42B4-91CC-5A3B6E67C6ED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8B0-F09A-44C0-A9E9-75E85AF69977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LO SPAZI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6248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Mr.sc. Snježana Nevia Močini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bili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legate allo schema corpo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criminare le parti del co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ere i legami tra i segmenti del corpo e le relazioni spa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criminare e organizzare stimoli percettivi (tattili, sonori, olfattivi e visi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llocare se stesso nelle posizioni in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calizzare gli oggetti secondo i riferimenti prev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ordinazione oculo-manuale dei mov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lazioni spaz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iste una correlazione forte tra la costituzione dello schema corporeo e dei rapporti tra esso e lo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scuola materna -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inalizzate alla costituzione dello schema corporeo e dei rapporti tra esso e lo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lazioni spaziali: sopra – sotto; su – g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in alto - in basso; dentro – fuori; davanti – dietro; vicino – lontano; destra – sinis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Gli spazi esterni: microspazio e macro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crospazio – spazio di piccole dimen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crospazio – spazio di grandi dimen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 real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a distinzione fa riferimento all’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cognitiva del soggetto nel corso dell’esplo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23880" y="2514600"/>
            <a:ext cx="914400" cy="800280"/>
          </a:xfrm>
          <a:prstGeom prst="flowChartPunched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giardin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00200" y="3809880"/>
            <a:ext cx="15429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riteri di differenziazi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nclusion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il sogget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cluso nel macrospazio ed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sterno al micro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dali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di esplora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l soggetto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muoversi nel macrospazio, mentre esplora con la vista e la manipolazione il micro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erce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l macrospazio non si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bbracciare tutto con lo sguardo (cambiamenti di prospettiva lenti); il microspazio – percezione istantanea e facili cambiamenti di prospe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siderazioni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giardino della scuola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ssere macrospazio o microspazio a seconda dell’esplorazione possibile per i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aminare con cautela le situazioni di apprendimento evitando facili generalizzazioni (es. esplorare il giardino e la palestra della scuola 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tes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passaggio dal microspazio al macrospazio e viceversa 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utomatico, ma richiede esperienze specif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 astra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pazio della geometria nella cultura occid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condo Piage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pazio delle operazioni formali, collocato come stadio evolutivo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udi recenti di protomatematica suggeriscono cautela nel generalizzare (dipende dalla cultura in cui si op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la nostra cultura – geometria euclidea – ruolo fortissimo nelle proposte edu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pprendimento dello spazio astr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naturalmente indotto da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seguenza di un progetto intenzionale di accultu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fonda sull’intervento intenzional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. esperimento con donne analfab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tenuti geometrici nella scuola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inzione delle forme geometriche (cerchio, quadrato, rettangolo, triango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inzione dei corpi geometrici (cubo, parallelepipedo, cilindro, sfera, piramide, c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rendere l’uso dei grafici e saperli leggere (es. tabelle a doppia entrata, istogrammi, diagrammi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parare a leggere le ma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spressione delle relazioni spaz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Tramite proposizion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 cui alcuni oggetti o referenti sono collegati da predic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less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lle proposiz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predicato unario: es. Il campani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l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predicato binario: es. La pall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ul tav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) predicato ternario: es. Giovann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eduto tra Carlo e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ndice della complessi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cognitiva delle proposizioni spaz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ncipio di informa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ggio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 numero di argomenti o predicati, maggio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a probabi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vi siano errori di comprensione o di produzione di relazioni spaziali (specialmente nei soggetti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iova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Principio di invaria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spaziali invarianti (su-g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 dentro-fuori; sopra-sotto; in alto - in bas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spaziali diverse a seconda dell’osserv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’ un concetto estremamente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psic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pedag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culturale (scienze: geografia, geometria, astronomia, ecologia; arti: architettura, pittura, scultura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egliamo lo spazio nella prospettiva della mate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rientamento nello spazio – I sistemi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stema di riferimento (in uno spazio esterno) – luogo (oggetto) o insieme di luoghi (oggetti) rispetto a cui le posizioni spaziali possono essere descri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atteristiche spazio este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temente determinato dagli oggetti che cont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iene punti ed oggetti privileg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iene direzioni privileg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Pia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egocentric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il punto di riferimento fondament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l soggetto che esp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allocentrici 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l punto di riferimento fondament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luogo o oggetto esterno a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geocentrici -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 punti di riferimento sono scelti in modo astr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studi pi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recent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scelta del sistema di riferimento non appare legata allo sviluppo cognitivo, ma al tipo di comp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corpo - corpo: (es. succhiare un dito, battere le mani, battere il petto, saltellare, ecc.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fficiente un riferimento egocen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corpo – oggetto (es. sollevare un sacco, saltare ostacoli, inseguire una palla, ecc.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fficiente un riferimento egocentrico nel microspazio e uno allocentrico nel macrospa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studi pi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recent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lazioni oggetto – oggetto (es. lanciare una palla contro un birillo, avvitare una vite con il cacciavite, ecc.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pesso necessario un riferimento all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geocentrici – non sono necessari nelle situazioni di esperienza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evoluzione si svolge da un sistema di riferimento egocentrico alla scelta del sistema allocentrico, quando il problema lo es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a scelta del punto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rme implicite usate per definire un punto di riferimento opport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isso, inserito nel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rande e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eometricamente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ompl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era g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esente sulla scena e nella memoria delle persone coinvo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ercizi: camion-casa; fiore-albero; Arena-parcheggio Carolina; scuola materna Calimero-macelleria Li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lassificazione dei punti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Oggettivi o assoluti – indipendenti dal soggetto che descrive la relazione spa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Soggettivi – dipendono dal soggetto e dal modo in cui proietta il suo schema corpo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iferimenti soggettivi si dividono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riferimenti egocentrici – punto di riferimento il soggetto st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riferimenti allocentrici – punto di riferimento oggetto o persona diversi da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locentr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portuno distinguere tra oggetti canonici e oggetti non cano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get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canonic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hanno delle parti privilegiate: es. automobile, animali, persone, manichino, bambolotto; armadio, specchio, casa, quadro; divano, sedia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get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non canonic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senza parti privilegiate per l’orientamento: es. albero, sasso, scatola senza etichette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ell’orientamento -microspa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ferimenti egocentrici – si verificano conflitti di orientamento tra soggetto ed oggetto: es. problemi di lateralizzazione – la destra non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alla stessa parte di chi sta di f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ferimenti allocentrici – si verificano conflitti tra le diverse orientazioni indotte dal soggetto prima e dopo uno spostamento nello spa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ausate dalla mod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proiettare lo schema corporeo sull’oggetto di fronte: per traslazione (oggetti adattati al corpo), per rotazione (ogg. canonici animati), per riflessione (oggetti canonici inanim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nell’orientamento – microspazio: eserci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ercitazioni da eseguire: cambiare posizione o punto di osservazione di alcuni oggetti posti su un tav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rimere le visuali diverse tramite linguaggio iconico, verbale, g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mbiare consegna: scegliere il disegno, la fotografia, la descrizione, il plastico che rappresenta la visuale, oppure esegui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nell’orientamento – macro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guarda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orientamento in senso pragmatico – saper trovare la strada senza perd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ostruzione di piante e carte topografiche (dal macrospazio al microspaz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lettura di piante e carte topografiche (dal microspazio al macrospaz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efinizione dello 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tensione illimitata in cui sono contenuti tutti gli oggetti mate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Qua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relativa alla posizione nel mondo degli oggetti mate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trambe le definizioni = libere creazioni dell’immaginazione umana per una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acile comprensione della nostra esperienza sensi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’orientamento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hiede 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definire in modo pragmatico o descrittivo le posizioni di uno o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ggetti nello spazio in relazione a uno o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istemi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pende dalla ricchezza della mappa cogni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mappa cognitiva ha la funzione di facilitare la localizzazione e il movimento del soggetto nonch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ornirgli un sistema di riferimento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delle mappe cogn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cesso-prodotto di una serie di trasformazioni psicologiche tramite le quali un soggetto acquisisce, codifica, archivia, ricorda, decodifica informazioni relative a posizioni e attributi dei fenomeni nel suo ambiente qutid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ppresentazione tridimensionale con informazioni affettive; struttura attiva in grado di accettare e fornir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lante cognitivo – insieme di mapp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delle mappe cogn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complete – non contengono tutte le 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orte – interpretazioni soggettive d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hematizzate – ridotte a stereotipi o simboli legati all’ambiente (es. torre di Pi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mentate – completate con l’aggiunta di particolari fantasi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costruzione delle mappe cognitive dipende 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Fattori individu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tezza del sog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ipo di movimento effettu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fidenza con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uant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Fattori legati all’ambiente fis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senza di oggetti significativi e dotati di un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olar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certe forme urbanistiche o architetto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livell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costruzione delle mappe cognitive dipende da: (continuazi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) Fattori legati ai codici rappresentativi (es. linguaggio verbale, graf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) Fattori legati alla storia e all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iettivi generali del gru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stemi di codifica di uso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ovimento e strumenti disponibili fin dalla prima inf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odello di costruzione di una mappa cogni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viduazione di punti di riferimento con le caratteristiche che li rendono facilmente identific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dinamento dei punti di riferimento secondo percorsi sequenziali (traccia mentale delle vie di mov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como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struzione di mappe d’insi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ostruzione di piante o carte topograf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erazione complessa – le carte geografiche odierne -  prodotto culturale relativamente re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plica una serie di operazioni diverse tra cui ricordi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identificazione degli oggetti da riprodu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identificazione delle relazioni spaziali fra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la riduzione di dimensioni in 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identificazione di 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deve essere descritto dalla pianta (uti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ella pia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Esperimento di costruzione della pianta di un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al bambin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affidata la costruzione di un modello in miniatura di un locale con arredi in scala sistemati in una scat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scatta una foto digitale dall’alto per simulare la proiezione ortog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commenta la foto e si chiede al bambino di disegnare il modello copiando la f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chiede al bambino di disegnare nello stesso modo un altro ambiente a lui molto n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isultati possibili dell’esperimen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realistici con persone e oggetti non in scala all’interno di un recinto che simboleggia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realistici con elementi in pianta, senza attenzione alle relazioni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in pianta con elementi realistici, in cui la maggior parte degli arred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appresentata in pianta rispettando la riduzione in scala e le relazioni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in pianta, secondo i canon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ettura e costruzione di piante o carte topograf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pretazione di piante costruite da altri -risulta problematica per questa fascia d’e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te in genere nel gioco dell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ccia al tesor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struzione di piante e relativa interpretazione - per usi scolastici (es. disposizione dei bambini intorno ai tavoli della men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mportamento 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 spaziale –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nso-motoria ne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– processo di ricostruzione dell’esperienza usando un sistema simbolico qualsiasi (disegno, linguaggio, ge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ambina 3-anni"/>
          <p:cNvPicPr/>
          <p:nvPr/>
        </p:nvPicPr>
        <p:blipFill>
          <a:blip r:embed="rId1"/>
          <a:stretch/>
        </p:blipFill>
        <p:spPr>
          <a:xfrm>
            <a:off x="7308720" y="990720"/>
            <a:ext cx="1835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dotta 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sso causale tra i due concet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Il comportamento spaziale precede la costruzione dello spazio concettu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La rappresentazione spazi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mezzo propulsivo per la condotta spazi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siderare le divergenze di teorizzazione nell’ottica dell’ut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er la spiegazione dei fenomeni concreti a livello della scuol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mbigui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del termin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esterna – osservabile direttamente tramite i medium usati (linguaggio, gesto, disegn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interna – pensiero e memoria spaziale usate nella soluzione di problemi, processo volontario, accessibile all’introsp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interna – codifica e archiviazione nella memoria (a livello inconscio), processo involo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ontenuti della rappresentazione spaz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no soggetti a variabili individuali ed evolutive e a fattori di tipo storico-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Lo spazio del corpo presa di coscienza del proprio corpo, delle sue parti, dei suoi mov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Gli spazi esterni specifici – gli spazi ambientali concreti e gli spazi rappresent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Lo spazio astratto – modello geometrico della cultura occid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siderazio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ascuno dei filoni di esperienza richiede ed implica modi di esplorazione ed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ognitiv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esistono ab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paziali generali, ma sono legate al contesto specifico dell’esperienza viss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istono comunque collegamenti e intersezioni signif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 del co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cquisizione della posizione eretta – serve alla costruzione del sistema di riferimento postu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hema corporeo – rappresentazione dell’immagine del corpo sia a livello globale che segmentario, sia in posizione statica che din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sultato dei legami tra spazio posturale e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1-05T17:30:00Z</dcterms:modified>
  <cp:revision>32</cp:revision>
  <dc:subject/>
  <dc:title>PowerPoint Presentation</dc:title>
</cp:coreProperties>
</file>