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213F-9B12-421C-8B91-FE69FF63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79F0-489B-46A6-9B9D-9EF6D9E6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848-F057-4C8A-80CE-AD571265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EEE4-7DCC-40B8-8538-F853324D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B677-CD5D-4626-8BBC-0201A256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F498-1F1E-42B1-81C4-02909476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43A2-2643-4730-8DE4-55890CC8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7E66-4F41-4938-938D-86B4B15D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D2FA-9D9A-4994-9F78-8D96783B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E17D-0BF4-4D47-BBFF-BB18EA26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1FD1-25F9-4828-B83F-EAE0065B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4395-A842-4A04-9683-F10A1481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4593-8062-4FC6-AF6A-CD8D97F4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EE90-F2C9-4656-9EAE-7DD7F255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726F-F4CA-407C-921A-E73DC995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5DBE-6432-491D-959E-912DEEDE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B2F5-4F15-4499-B020-811E1599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316-F036-4FA7-AAF6-719A2403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32F-2B2C-460F-8293-7C0F062C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F0D2-1FE8-4616-A69D-759D19C9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C96B-89F0-4312-A9D3-E4C16DD1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FC7D-A109-4063-8BB3-6FE5D0CB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A496-E906-4B08-BBDF-BDC3F386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A5E7-3D4B-4A8C-8205-21F44EA1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57AB-18D9-4441-9236-B3B8E75E8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1FA5-EE8D-4050-A421-DE821527722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I contenuti geometric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Didattica dell’educazione ambienta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e protomatema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Mr.sc. Nevia Močinić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Ulteriori attivit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Attiv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 di associazione o un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258920" y="2781360"/>
            <a:ext cx="1800360" cy="79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258920" y="2637000"/>
            <a:ext cx="93672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195640" y="2637000"/>
            <a:ext cx="43164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627280" y="2637000"/>
            <a:ext cx="43200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1258920" y="5373720"/>
            <a:ext cx="27367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4427640" y="5373720"/>
            <a:ext cx="15127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6372360" y="5373720"/>
            <a:ext cx="9144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1258920" y="4076640"/>
            <a:ext cx="10573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2556000" y="4581360"/>
            <a:ext cx="1057320" cy="554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3851280" y="4797360"/>
            <a:ext cx="914400" cy="301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1187280" y="364500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Attiv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di confro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Giochi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ndovina di quale corpo geometrico si tratta! Es.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Ha una faccia curva e due piane a forma di cerch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Ha tutte le facce di forma quadrat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l sacchetto magic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toccare i corpi nascosti in un sacchetto e indovinare in base al tatto di quale corpo si trat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far descrivere al bambino che cosa sta toccando e chiedere agli altri di indovin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La forma euclid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Forme congruenti - sovrapponibi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Forme simili – stessa for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Forma rettangolare, quadrata, triangolare, roto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Forma di foglia, di cuore, di pesce, ec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Riferimenti ad oggetti tridimensionali o immagini bidimensionali dell’ogget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Dall’oggetto all’immag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dea di forma – nasce dal confronto di immagini sulla base di relazioni spazia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Fasi di attiv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con i bambin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ercezione fisica dell’ogget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Confronto di oggetti simili (simmetria, lati, grandezza, ec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Ricostruzione dell’immagine (stampa, ricalco, proiezi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Riproduzione dal vero mediante diseg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Indagini sulla for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2017440"/>
            <a:ext cx="834372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ggetti: martelli, cacciaviti, tenaglie, lime, seghetti; casseruole, padelle, tegami, tortiere, setacci, grattugie, taglieri, matterelli, formine per dolci, ec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Elementi di osservazione: forma, materiale, uso e funz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Attivi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  <a:ea typeface="Tahoma"/>
              </a:rPr>
              <a:t> utili: discussione in piccoli gruppi, manipolazione e sperimentazione, disegno, progettazione e realizzazione di modell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Contenuti geometrici nella scuola mater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Distinzione delle forme geometriche (cerchio, quadrato, rettangolo, triangol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Distinzione dei corpi geometrici (cubo, parallelepipedo, cilindro, sfera, piramide, con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Comprendere l’uso dei grafici e saperli leggere (es. tabelle a doppia entrata, istogrammi, diagrammi,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mparare a leggere le map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Forme geometrich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ime attivi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  <a:ea typeface="Tahoma"/>
              </a:rPr>
              <a:t>: osservazione degli oggetti nei giochi di costruz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  <a:ea typeface="Tahoma"/>
              </a:rPr>
              <a:t>Abbinamenti di oggetti che combaciano per forma (associazione in base alla form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  <a:ea typeface="Tahoma"/>
              </a:rPr>
              <a:t>Concetti da assimilare: faccia, spigolo, diritto, curvo, vertice, simile, congruente, rotondo, rettangolare, quadrato, triangolar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Le forme nel pian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2017440"/>
            <a:ext cx="841536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Figure geometriche: quadrato, cerchio, rettangolo, triango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Figure geometriche da costrui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5 cerchi (raggio – 8 cm, 4 cm, 2 c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5 quadrati (lato – 16 cm, 8 cm, 4 c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10 rettangoli (8x16 cm, 4x8 cm, 2x4 cm; 4x16 cm, 2x8 cm, 1x4 cm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21 triangoli (equilateri – lato 16, 8, 4 cm, rettangolari isosceli – 16, 8, 4 cm, rettangolari – me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 del rettangol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Attivit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à</a:t>
            </a:r>
            <a:r>
              <a:rPr b="0" lang="hr-HR" sz="4400" spc="-1" strike="noStrike">
                <a:solidFill>
                  <a:srgbClr val="333399"/>
                </a:solidFill>
                <a:latin typeface="Tahoma"/>
                <a:ea typeface="Tahoma"/>
              </a:rPr>
              <a:t> consigli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tampa con i colori a tempera di facce dei corpi geometrici, stampa con le pa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Collage con figure geometriche preparate in preceden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258920" y="4941720"/>
            <a:ext cx="9144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995640" y="4941720"/>
            <a:ext cx="505080" cy="914400"/>
          </a:xfrm>
          <a:prstGeom prst="rect">
            <a:avLst/>
          </a:prstGeom>
          <a:solidFill>
            <a:srgbClr val="78776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635280" y="3860640"/>
            <a:ext cx="1224000" cy="1130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908000" y="5734080"/>
            <a:ext cx="28908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258920" y="5734080"/>
            <a:ext cx="28872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11"/>
          <p:cNvSpPr/>
          <p:nvPr/>
        </p:nvSpPr>
        <p:spPr>
          <a:xfrm rot="19800000">
            <a:off x="2195640" y="4941720"/>
            <a:ext cx="2887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12"/>
          <p:cNvSpPr/>
          <p:nvPr/>
        </p:nvSpPr>
        <p:spPr>
          <a:xfrm rot="1800000">
            <a:off x="971640" y="4941720"/>
            <a:ext cx="2887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Oval 13"/>
          <p:cNvSpPr/>
          <p:nvPr/>
        </p:nvSpPr>
        <p:spPr>
          <a:xfrm>
            <a:off x="1547640" y="5084640"/>
            <a:ext cx="287640" cy="230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547640" y="4869000"/>
            <a:ext cx="289080" cy="193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5076720" y="4581360"/>
            <a:ext cx="3167280" cy="1490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Oval 16"/>
          <p:cNvSpPr/>
          <p:nvPr/>
        </p:nvSpPr>
        <p:spPr>
          <a:xfrm>
            <a:off x="5292720" y="5877000"/>
            <a:ext cx="57636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Oval 17"/>
          <p:cNvSpPr/>
          <p:nvPr/>
        </p:nvSpPr>
        <p:spPr>
          <a:xfrm>
            <a:off x="7380360" y="5877000"/>
            <a:ext cx="57636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5292720" y="4724280"/>
            <a:ext cx="431640" cy="433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5867280" y="4724280"/>
            <a:ext cx="432000" cy="433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6443640" y="4724280"/>
            <a:ext cx="432000" cy="433440"/>
          </a:xfrm>
          <a:prstGeom prst="rect">
            <a:avLst/>
          </a:prstGeom>
          <a:solidFill>
            <a:srgbClr val="f3d6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7020000" y="4724280"/>
            <a:ext cx="431640" cy="433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22"/>
          <p:cNvSpPr/>
          <p:nvPr/>
        </p:nvSpPr>
        <p:spPr>
          <a:xfrm>
            <a:off x="7596360" y="4724280"/>
            <a:ext cx="431640" cy="433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23"/>
          <p:cNvSpPr/>
          <p:nvPr/>
        </p:nvSpPr>
        <p:spPr>
          <a:xfrm>
            <a:off x="5867280" y="5229360"/>
            <a:ext cx="505080" cy="8427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2771640" y="5589720"/>
            <a:ext cx="100836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AutoShape 25"/>
          <p:cNvSpPr/>
          <p:nvPr/>
        </p:nvSpPr>
        <p:spPr>
          <a:xfrm rot="8100000">
            <a:off x="2842920" y="5157720"/>
            <a:ext cx="914400" cy="9144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26"/>
          <p:cNvSpPr/>
          <p:nvPr/>
        </p:nvSpPr>
        <p:spPr>
          <a:xfrm>
            <a:off x="2843280" y="5734080"/>
            <a:ext cx="288720" cy="193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27"/>
          <p:cNvSpPr/>
          <p:nvPr/>
        </p:nvSpPr>
        <p:spPr>
          <a:xfrm>
            <a:off x="3419640" y="5734080"/>
            <a:ext cx="288720" cy="193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28"/>
          <p:cNvSpPr/>
          <p:nvPr/>
        </p:nvSpPr>
        <p:spPr>
          <a:xfrm>
            <a:off x="3132000" y="6165720"/>
            <a:ext cx="289080" cy="336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29"/>
          <p:cNvSpPr/>
          <p:nvPr/>
        </p:nvSpPr>
        <p:spPr>
          <a:xfrm>
            <a:off x="1332000" y="4149720"/>
            <a:ext cx="698400" cy="69840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Altre attivit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l gioco del tangram (tagliare il quadrato secondo le righe e comporre delle figure con i pezzi ottenut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4" descr="tangram"/>
          <p:cNvPicPr/>
          <p:nvPr/>
        </p:nvPicPr>
        <p:blipFill>
          <a:blip r:embed="rId1"/>
          <a:stretch/>
        </p:blipFill>
        <p:spPr>
          <a:xfrm>
            <a:off x="1042920" y="3213000"/>
            <a:ext cx="1990800" cy="1990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Tangram_casa"/>
          <p:cNvPicPr/>
          <p:nvPr/>
        </p:nvPicPr>
        <p:blipFill>
          <a:blip r:embed="rId2"/>
          <a:stretch/>
        </p:blipFill>
        <p:spPr>
          <a:xfrm>
            <a:off x="3348000" y="3213000"/>
            <a:ext cx="1565280" cy="200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Tangram_pesci"/>
          <p:cNvPicPr/>
          <p:nvPr/>
        </p:nvPicPr>
        <p:blipFill>
          <a:blip r:embed="rId3"/>
          <a:stretch/>
        </p:blipFill>
        <p:spPr>
          <a:xfrm>
            <a:off x="5364000" y="3213000"/>
            <a:ext cx="217332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6:53:49Z</dcterms:created>
  <dc:creator>miro</dc:creator>
  <dc:description/>
  <dc:language>en-US</dc:language>
  <cp:lastModifiedBy>Miro</cp:lastModifiedBy>
  <dcterms:modified xsi:type="dcterms:W3CDTF">2012-07-03T18:10:47Z</dcterms:modified>
  <cp:revision>15</cp:revision>
  <dc:subject/>
  <dc:title>I contenuti geometrici</dc:title>
</cp:coreProperties>
</file>