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4EF-D57F-45D0-8B05-D7AA25C1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EFA-3ED1-427B-AAD0-E91AB5E4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065-41B8-4D32-A6A1-6BB56446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8E6-D810-45FC-A098-799CAA8E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20DD-0EBC-4764-9EDA-E92827C8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0B5-4CF2-4438-AC94-14EB3BB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A0A4-6B0C-4095-AFE6-5D638920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DDFC-FA97-4C0F-A7F3-2C0D82D5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B87A-29C6-4897-9083-2F13D018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71B-8881-42E3-952C-22E7BBE7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71D-0C06-485C-87A0-C8F8965E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650-80B0-4F7E-A8CB-CA85F9CA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89EB-03AD-4B3B-A749-16A8E9C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3E03-9C86-43AF-8175-58DDCD8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42B9-A3EC-4E82-8488-AB241FD6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6760-3B06-4DB5-A667-1BE0F5C5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96C-BFC4-46FD-90EC-D13259AC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3D83-B39C-4D11-AB44-17275790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B283-1C7D-488A-ADCE-7E13976F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E8DA-1458-4471-BE87-89648AE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2F8D-866F-4F6A-95B0-7E4786EA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9701-7670-4258-8C13-1ED77DD4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50B-D512-4052-AE8D-D0BDD962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4118-98C4-4544-8C17-A13308B2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1273-B138-4F45-894A-A9299CA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6013-C4EC-4055-ACE7-77DCCF3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92D3-3D97-46BA-9695-FB417E6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E8B2-F80A-49F8-BBAE-0D61152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5B74-1129-473A-8C51-C2F79F38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1D90-BA54-4772-80CA-7A13CE61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F3D5C-8EB0-476B-B552-20146325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9A528-FDFE-4D26-95DD-7C48C3B0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9D4BB-552F-4FAA-A486-1750824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45A-7F7A-47C4-B7FE-AB2EA697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38613-B259-466E-887C-E431674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75E44-1D90-48CE-8EDC-7DC2E81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6129C-1563-4CE1-A18A-2C298383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31842-3428-400F-971D-BEE4871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C9511-BB77-4A36-8FFC-3E25B5A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15836-D3C5-488C-9DF2-2457629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C0406-99F0-4DBF-9408-CC0483B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7735C-5F1C-4942-B393-C4320778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AE19A-BFD0-4F51-B35D-EF2D1613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D9993-CD6F-41EB-B96C-DA0BBF48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4E-E014-43A4-838E-2841954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38437-26F4-4C1A-9FF8-EBB37019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1CB76-93CA-49C4-984D-276621E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260B7-C401-4172-B9B9-27B38391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0452A-B0FB-4488-8B29-02721C65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35BEB-88D8-46F6-B140-34D0D75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49EAA-6E8C-4404-B311-B8629C5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6E50E-D64B-4614-990D-52AE847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547BA-C44F-4C97-8958-4274A7E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421A8-E2FC-4CD0-B748-C586B8D4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2D8A3-E2F8-41E3-B35E-4C0EE329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467-D7AE-4001-91F1-BAF82842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4DEE7-A817-4B0A-B6C8-09952ECA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70E3A-9955-45EA-B424-02B38EF2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D7C16-5B15-4F81-9061-F479FE66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1BB88-118A-483B-848B-E0884BB6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BF2C8-1062-451B-9E64-A8F136A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36616-61D0-4C10-8BDB-C9EC83A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286F0-6836-4B7B-80F2-5DEAE71E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3B0EE-FFEA-49F0-B582-DD256AA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46330-D60D-4B09-862E-DC39C0A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644C1-387F-48E2-BC17-D3222BF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0B3-E473-40A4-B269-A413ED1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9A264-3DE5-4326-955D-630007FC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F2450-4568-454E-9788-9F25C387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6017F-B09F-4635-9017-578FBCF1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231-A5AF-48F3-A036-4607704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55A-8A67-4A65-885E-0F4FD72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97F5-A27C-4D2F-8F60-AF1F2CFD08F9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E25-CA53-46FD-BE63-31F4575A1183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6ec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d6ec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DE0-2A91-4149-BA59-197D0D807E1D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9BA-E6CC-4D52-94AA-CD698A664264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23DD-7084-4153-967F-BDE077F9C4F0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9DA3-66B8-4E9F-B574-A8F81C90DCC0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28600" y="1285560"/>
            <a:ext cx="552924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Comic Sans MS"/>
              </a:rPr>
              <a:t>I METODI </a:t>
            </a:r>
            <a:r>
              <a:rPr b="1" lang="hr-HR" sz="4400" spc="-1" strike="noStrike">
                <a:solidFill>
                  <a:srgbClr val="4e5b6f"/>
                </a:solidFill>
                <a:latin typeface="Arial"/>
              </a:rPr>
              <a:t>DI LAVORO</a:t>
            </a:r>
            <a:endParaRPr b="0" lang="en-US" sz="44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642760" y="4929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Docente</a:t>
            </a: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: Mr.sc. Nevia Močini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Corso di studio: </a:t>
            </a:r>
            <a:r>
              <a:rPr b="1" lang="hr-HR" sz="1800" spc="-1" strike="noStrike">
                <a:solidFill>
                  <a:srgbClr val="0f0102"/>
                </a:solidFill>
                <a:latin typeface="Arial"/>
              </a:rPr>
              <a:t>Educazione Prescolare</a:t>
            </a: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 III an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e5b6f"/>
                </a:solidFill>
                <a:latin typeface="Comic Sans MS"/>
              </a:rPr>
              <a:t>La percezione sensoriale di oggetti, fenomeni, processi, movimenti</a:t>
            </a:r>
            <a:endParaRPr b="0" lang="en-US" sz="2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’oggetto concre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a preferire rispetto alla sua foto o illu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fenomeni naturali in genere durano nel tempo e per osservarli nella loro interezza bisogna registrarli (foto, filmati, serie di illustrazion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enomeni naturali dinamici e processi: es. giro dell’acqua in natura, metamorfosi girino-rana, bruco-farfalla, crescita fagiolo o pisello; esperimenti provocati (es. decomposizione materiali naturali e artificiali) – da curare in ogni partico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ovimenti: pronuncia corretta di suoni e parole, esecuzione di movimenti specifici, operazioni tipiche di mestieri e profess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54380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r>
              <a:rPr b="1" lang="hr-HR" sz="2800" spc="-1" strike="noStrike">
                <a:solidFill>
                  <a:srgbClr val="4e5b6f"/>
                </a:solidFill>
                <a:latin typeface="Comic Sans MS"/>
              </a:rPr>
              <a:t>Il metodo della conversazione</a:t>
            </a:r>
            <a:br>
              <a:rPr sz="2300"/>
            </a:br>
            <a:endParaRPr b="0" lang="en-US" sz="28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ato per conoscere l’ambiente, consolidare e sistemare il sapere, formare conc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basa su una serie di domande e rispo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ccompagna ogni osservazione o percezione sensoriale in gen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 organizzata in modo efficace, non si limita ad una serie arida di domande e risposte, m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ricca di spunti, mantiene un ritmo vivace che ne conserva la freschezza e stimola l’interesse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conversazione deve stimolare lo sviluppo delle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omunicative del bamb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successo della conversazione dipende: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conduzione corretta della stes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’interesse dei bambini per l’argo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ll’educatrice di dimostrare entusiasmo e interesse per l’argomento tratt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tecnica usata nel fare le domande (domande chiare, semplici, formulate correttamente, adatte alla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comprensione dei bambin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regola stabilita per prendere la parola (utile usare un oggetto che funge da passaparola, come se si usasse il microfon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preparazione dell’educatrice sul tema della conversazione, analizzato da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unti di vi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5b6f"/>
                </a:solidFill>
                <a:latin typeface="Comic Sans MS"/>
              </a:rPr>
              <a:t>Il metodo dell’esposizione</a:t>
            </a:r>
            <a:br>
              <a:rPr sz="2700"/>
            </a:br>
            <a:endParaRPr b="0" lang="en-US" sz="32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9152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i espongono di solito contenuti sconosciuti ai bambini, temi che non conoscono abbastanza per partecipare alla conversazi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’esposizione serve per avvicinare avvenimenti, fenomeni o oggetti lontani nello spazio e nel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orme di esposizione: a) raccontare; b) spiegare; c) descriv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RACCONTARE - REGOLE DA RISPETTARE: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725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pressione corretta dal punto di vista della sintassi e della morfolo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urare l’espress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l racconto (accenti, tono, ritmo della vo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tenuto adeguato ai bambini che ascolt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ndere il racconto vivace e dinamico per influire sulle emozioni dei bambini (rallentare o accelerare l’esposizione, alzare o abbassare il tono della voce, cambiare timbro all’occorrenz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r attenzione alla diffusione acustica del suono nell’ambiente (cattiva diffusione del suono – racconto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SPIEGARE E DESCRIVERE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Spiega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si usa durante la dimo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rve per stimolare la riflessione dei bambini e cogliere legami e relazioni tra oggetti e fenome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r attenzione a spiegare in modo comprensibile per 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Descrivere: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spesso si descrivono gli oggetti che si trovano nella stanza, o nel resto della scuola dell’infanzia, i fenomeni naturali (tramonto del sole, nuvole, pioggia, ghiaccio, brina, ...), gli avvenimenti (la vendemmia, le vacanze estive, la festa del compleanno, l’arrivo di Babbo Natale, .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nvitare i bambini a raccontare esperienze viss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metodo del lavoro sul testo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ato soltanto dall’educatr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ettura di testi informativi su argomenti di alto interesse per 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empi: storie di animali o piante, descrizioni della natura, storie sulla vita sociale, storie su luoghi o tempi lontan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rre attenzione all’espress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nella let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cegliere racconti movimentati, dinamici, con tanti dialogh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rammatizzare i racconti con dialogh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re nel bambino l’amore per la lettura, approfondire l’esperienza, influire sulle emo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metodo dei lavori pratici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 l’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, migliora la loro indipendenza, la coordinazione dinamica generale, la coordinazione oculo-manuale, lo sviluppo della motri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fine della mano, del senso estetico e della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usa soprattutto nell’educazione artistica, nelle 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sui concetti protomatematici, sugli esperimenti riguardanti la natura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empi di lavori pratici: soluzione di schede, costruzione di regali per i propri cari, di modellini di animali, di oggetti vari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ateriali usati: frutti, legno, cartone, carta, stoffa, plastilina, pasta al sale, das, oggetti di recup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rve per imparare ad usare determinati attrezzi, a rispettare le sequenze corrette delle operazioni da esegu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4e5b6f"/>
                </a:solidFill>
                <a:latin typeface="Arial"/>
              </a:rPr>
              <a:t>I metodi didattici nella scuola dell’infanzia</a:t>
            </a:r>
            <a:br>
              <a:rPr sz="2700"/>
            </a:br>
            <a:endParaRPr b="0" lang="en-US" sz="27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ar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i modi di definire e classificare i metodi di lav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na delle definizioni: strategie, comportamenti intenzionali e tecniche usate per insegnare nuovi concetti, abi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norme di comportamento, abitud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zione o meno con i metodi usati nei gradi di istruzione superi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gola condivisa da tutti gli studiosi: l’insegnamento nella scuola dell’infanzia deve essere integr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e differenze nei comportamenti e tecniche usate dipendono soprattutto dall’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e dalle 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Criteri di scelta dei metodi didattici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5840" y="980640"/>
            <a:ext cx="80438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rganizzare nel modo migliore l’apprendimento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ndere i bambini at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re lo sviluppo integrale della persona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el bambino (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ntellettuali, riconoscimento e controllo delle emozioni, 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sociali, sviluppo psicomoto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alizzare gli obiettivi operativi dell’attiv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rgan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deguare il metodo al campo d’esperienza e alle capacità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er conto delle possibi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ateriali della scu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er conto dello spazio e dei mezzi didattici a disposi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deguare la scelta alle proprie 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rofession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5b6f"/>
                </a:solidFill>
                <a:latin typeface="Comic Sans MS"/>
              </a:rPr>
              <a:t>Elenco dei metodi pi</a:t>
            </a:r>
            <a:r>
              <a:rPr b="0" lang="en-US" sz="3200" spc="-1" strike="noStrike">
                <a:solidFill>
                  <a:srgbClr val="4e5b6f"/>
                </a:solidFill>
                <a:latin typeface="Comic Sans MS"/>
              </a:rPr>
              <a:t>ù</a:t>
            </a:r>
            <a:r>
              <a:rPr b="0" lang="hr-HR" sz="3200" spc="-1" strike="noStrike">
                <a:solidFill>
                  <a:srgbClr val="4e5b6f"/>
                </a:solidFill>
                <a:latin typeface="Comic Sans MS"/>
              </a:rPr>
              <a:t> usati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42680" y="1341000"/>
            <a:ext cx="62816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la dimostr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la convers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l’esposi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 lavoro sul tes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i lavori prat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metodo della dimostrazione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699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basa sulla percezione sensoriale di oggetti, processi e fenome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gnifica far osservare, toccare gli oggetti, le piante, gli animali, sentire gli odori, i suoni, i gu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percezione sensoriale facilita la formazione dei conc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mportante per arricchire la scarsa esperienza del bamb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vorisce una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fficace memorizz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ssibilmente bisogna attivare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sensi contemporaneamen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Ruolo dell’educatrice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71720" y="1356840"/>
            <a:ext cx="685296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egliere un oggetto, un fenomeno, un’attiv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tipica e non cose eccentr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terminare le fasi dell’osservazione o altro tipo di percezione sensori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vedere e procurare i materiali necess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pararsi per le dimostrazioni comples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egliere di preferenza la dimostrazione di oggetti concre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Regole da rispettare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0755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’oggetto da osservare deve essere abbastanza grande e sistemato in modo da essere visto da tu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Gli oggetti da odorare, sentire il profumo, toccare con le mani, sentire il gusto, non devono essere pericolosi per i bambini (contenuto, fragi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oggetti appuntiti.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el corso della dimostrazione l’educatrice attira l’attenzione dei bambini con domande opportune, stimola i bambini a riflettere, confrontare e trarre conclus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dimostrazione deve essere ordinata; se necessario si usa un cartellone per annotare le osserv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l tempo dell’osservazione deve tener conto delle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 e del loro interesse per l’ogget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Si possono dimostrare: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pic>
        <p:nvPicPr>
          <p:cNvPr id="343" name="Content Placeholder 2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155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Osservazione di modellini, fotografie, illustrazio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00120"/>
            <a:ext cx="7829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l pregio dei modellini: far vedere l’aspetto esterno e la struttura interna, se il modellin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smontab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l pregio delle fotografie: mettere in evidenza particolari essenziali di un oggetto o fenomeno; presentare l’oggetto o il fenomeno nei suoi aspetti reali (colori, forme e dimension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 illustrazioni: molto utili per fornire informazioni nuove organizzate in sequenze logic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22:41:28Z</dcterms:created>
  <dc:creator>pc</dc:creator>
  <dc:description/>
  <dc:language>en-US</dc:language>
  <cp:lastModifiedBy>Miro</cp:lastModifiedBy>
  <dcterms:modified xsi:type="dcterms:W3CDTF">2014-01-07T20:30:42Z</dcterms:modified>
  <cp:revision>29</cp:revision>
  <dc:subject/>
  <dc:title>I METODI VISIVI</dc:title>
</cp:coreProperties>
</file>