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02E-7344-4889-A241-377F8737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059-34EB-4518-87A8-859E755B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254-BC7E-47D9-AED1-428E3778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4FE-1152-4C8B-A2AD-B6443FD3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BE64-1038-4716-B1B0-28BB7F4A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F730-3C32-4827-B788-A9F2383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098A-C9D3-47CC-9AB5-1E6E6801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35D7-9C2A-4DBE-8B83-8AE01248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75B2-9AD0-4C0C-A278-0668D360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85D7-7403-478C-90C7-969068E1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D1C0-5396-4D91-844B-894F013A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A63-C5FD-4565-AA62-CE5CB559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D40C-EED1-4BD9-AC2F-94E2AB48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27CD-54A5-4687-8794-8201224C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E3FC-CFD9-48BA-AD90-4B86E95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777F-E879-47E7-B0B4-868BDB76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E3BD-5A1C-4986-95CB-87683249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01A6-87D5-4352-B42C-B3077364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09E9E-18AC-41EF-9033-0A532E2E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F321-4937-4FA5-91A7-56B01152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CB2E-BFD3-4DA4-9D39-649DE607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800F-232F-459B-B317-4C28CB5D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AE8-C8A3-4A1E-B2C6-DF2A5FA2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E17F-0AF4-4FBA-B386-35ED35D4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69CA-39E5-4E88-B880-2A798D98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9FB0-C465-42A4-B182-5BAC2AAA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C79C-F6F1-48E1-B00F-8AF902D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DEBD-0A66-488E-8B33-E3A103CD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D34B-BFFC-4BDD-9E19-27DEA0CD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20B0-020A-43AC-86EF-A08CCF11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FEAA9-46C3-452A-9452-13C59758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410EB-C2C5-4AEE-A15C-D562D66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8A9C4-21C9-426F-BF68-4041399B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F9B-AFC2-4BCE-9C24-5205263E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283FE-E7E1-4910-8263-0B38CD4F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D9295-3F0F-4539-B45D-C23672B1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0F7B7-A78A-4ED7-9DC8-4B0975CD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2C19A-75CF-46B5-9A1E-0CFBF5C8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1D859-A89C-4045-8A89-A974166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64DD0-1159-4590-822F-399B13C6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3A67A-8D41-4936-B5B6-432AE73C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089CE-5500-455E-A206-3D73389A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65760-F31E-4D8A-97BE-E3B57996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B0B9C-252D-43B0-9179-DAA3493C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B96-C7F7-4E11-AAAD-0F23C79F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E48B7-DDB0-47D0-B59A-BFFAB8C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59EB1-1F08-4C70-80F7-35D9F6E4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4FC79-64D9-40BA-854D-61988C78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8E01B-D3A2-4C81-B0BA-BC28456C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2E19D-9772-46C9-A87A-BC720720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B6C56-E6DF-4CBB-A7E7-55C7E25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3BAD1-9C63-41D5-A16C-C84C04B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8A05C-44CD-45A5-855A-C189826D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A5F39-20ED-49B4-8F80-A4DBF361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69358-8BDC-427F-AEF8-7F1E14CC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5B4-FE4C-4D25-A967-51D360DF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ABD23-C303-4E65-841B-77F707B5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082E3-5C4D-4469-90BC-38DAA61E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8770E-5CDF-4D93-A28D-50B69BCB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CBB3E-BB6C-473E-94D9-0866246D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FCFDB-59E2-4CC5-B1E3-CD884E26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2DCD7-0F74-4D63-AAF3-788D2E6A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3999A-61FF-4587-BB20-4E2E259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5A6AF-B4C5-477E-AC91-CDF0B1ED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561CC-1984-4ADC-BCAB-3F326B8B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2E362-3901-4981-A008-B47E6FDF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415-DE37-46BF-A69B-27006A24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5C0A4-AEBD-4C93-A391-DC7AEB2E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0F257-6B12-4532-AFA0-167852A4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46DEF-1D78-4DDC-AF91-3FD7374E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73A-DFDA-4D2F-A087-97F31B26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D9F-2B32-4F75-84DB-A1152F7D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4F03-DC12-48E4-A1FF-9E6BDC256F1D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C2D2-28BF-40DB-8FA4-EA15513159CD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EDB3-F637-4C7F-973D-89D0F5C1485C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BEB7-73D6-474F-A527-AB41DE5C7C81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137-FA3F-4C31-B5AA-E35025E26C24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BB67-9CFD-4030-BA0F-F5D174092B40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28600" y="1285560"/>
            <a:ext cx="5529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Comic Sans MS"/>
              </a:rPr>
              <a:t>I </a:t>
            </a:r>
            <a:r>
              <a:rPr b="1" lang="hr-HR" sz="4400" spc="-1" strike="noStrike">
                <a:solidFill>
                  <a:srgbClr val="4e5b6f"/>
                </a:solidFill>
                <a:latin typeface="Arial"/>
              </a:rPr>
              <a:t>PROBLEMI</a:t>
            </a:r>
            <a:endParaRPr b="0" lang="en-US" sz="44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555640" y="49417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f0102"/>
                </a:solidFill>
                <a:latin typeface="Arial"/>
              </a:rPr>
              <a:t>Didattica ambientale e protomatema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Mr.sc. Nevia Močini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Fasi di soluzione di un problema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orre il problema in modo corretto, riflettere sulla situazione problema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comporre a poco a poco il problema complesso in una serie di piccole tappe successive; ad ogni tappa formulare con chiarezza l’obiettivo usando il linguaggio verbale o i simbo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icerca delle soluzio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dividuare la soluzione migliore:  documentare con fotografie, disegni, schem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e5b6f"/>
                </a:solidFill>
                <a:latin typeface="Comic Sans MS"/>
              </a:rPr>
              <a:t>La rappresentazione dei problemi</a:t>
            </a:r>
            <a:endParaRPr b="0" lang="en-US" sz="2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mportante per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ermette di precisare le id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ivelli di rappresentazion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ppresentazione concret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es. Unirsi in gruppi secondo determinati criteri; mettersi seduti attorno ai tavolini; mettersi in fila per due, ecc. Lavoro con oggetti: raggruppare mediante il supporto usato: es. tavolo, cesto, scatola, barattolo, cerchio, cordicella, nastro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ppresentazione semiconcret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rappresentare il plastico della sezione o della scuola usando uno scatolone di cartone e altre scatole che rappresentano gli arredi; oppure il plastico di un paesagg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ppresentazione simbolic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disegno, schema, grafici, frecce; lasciare i bambini ad arrivare gradualmente all’uso del simbo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Ruolo della maestra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apere bene gli obiettivi da raggiung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noscere a fondo le nozioni matematiche alla base dei problemi affrontati da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on insegnare concetti sbagli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iutare i bambini a chiarire la situazione problema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on procedere troppo in fretta senza dare il tempo sufficiente per risolvere con calma le difficol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individuate o pos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sciare ai bambini il tempo per maturare e arrivare al simbolo gradua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 problemi secondo le et</a:t>
            </a: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à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on esistono contenuti specifici. E’ importante favorire lo sviluppo psicologico del bambino e la sua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i simbolizza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Bambini di tre ann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blemi che portano alla scoperta della classific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’uso del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ì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 del no per definire le colle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blemi di corrisponden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blemi vissuti di scoperta del tempo e dello spaz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blemi di ritmi alternati (visuali, auditiv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umerazioni spontan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utti i problemi vanno risolti con l’azion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Bambini di quattro an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iprendere tutti i problemi g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sollev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ccompagnare i problemi da una graduale simbolizzazione (soprattutto disegn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ccentuare la scoperta dello spazio e del t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ventare le regole dei gioc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odificare i problemi (spiegarli verbalment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’azione e il linguaggio devono precedere la simbolizzazion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Bambini di cinque - sei an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28036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accesso al simbol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ricette di cucina, messaggi, codificazione e decodificazione di poesie, danze, giochi, ec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logic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regole di giochi, composizione della figura umana, vero – falso, no –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ì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 nozione di ident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ersona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classificazion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es. calzature, libri della biblioteca da riordinare, i fiori da inserire nei vasi, ec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relazion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alto di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lungo di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esante di, appartiene/non appartiene a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fratello / sorella di, ec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Continuazione – 5-6 an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corrispondenz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frutta per merenda e bambini, fette di torta e bambini, coppie di bambini per la danza, bambini e attrezzi ginnici (clavette, palle, corde, cerchi…), bambini e mezzi didattici (matite, schede, colori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strutturazione dello spazi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schema corporeo, scoperta dello spazio concreto dell’aula, rappresentazione di ambienti, di un percorso, di un gioco, di una danza, problemi di misura dello spazio, di orientamento nello spaz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alternanze ritmat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decorazioni, collane, ghirlande, bambini nella danza, decorazione di cornici, tappezzerie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strutturazione del temp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riordinare le vignette di una storia, le tappe di un gioco, le tappe di una gita, le fasi di realizzazione di una ricet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Arial"/>
              </a:rPr>
              <a:t>Definizioni del concetto di problema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tuazione di conflitto tra soggetto e ogget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tuazione di squilibrio fra 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c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e 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che si deside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stacolo che va eliminato per giungere allo scop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Impegno ulteriore per raggiungere obiettivi superio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Criterio per riconoscere la capa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crea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Intervento pedagogico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imolare lo sviluppo della sensibil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ai proble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tere il bambino in una situazione problema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endere chiaro il problema senza influire sulle possibili soluzio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cerca delle soluzio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Questioni da risolvere: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tuazioni problematiche spontanee e provocate: far attenzione a non cadere nell’artificio; necessario intuito psicologico e preparazione pedagogico-didat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Qua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 quant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 vari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di situazioni e materiali da proporre ai bambini: scegliere tra un unico tipo di at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controllo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facile) o tanti tipi (maggiore possibi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i soddisfare i bisogni e gli interessi dei bambin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n il materiale unic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necessario offrire tanti strumenti diversi per la manipolazione e una grande vari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i materiali e occupa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Ricerca delle soluzioni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77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eazioni diverse dei bambini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Intuitiv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ha l’illuminazione e trova la soluzione senza tuttavia sapere per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zionale –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nalizza con calma tutte le possibi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Confusionari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intempes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Metodic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lento – ha bisogno di molto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inunciatari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aspetta le soluzioni degli alt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ssibili situazioni nella ricerca delle soluzion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entativi confu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potesi irre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ercezione non oggettiva del probl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appresentazione del problema con schemi graf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Livelli di soluzione del problema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075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livello – manipolazione degli ogget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Funzioni: serve per conoscere il materiale, sviluppare la motrici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fine della mano, la coordinazione oculo-manuale, la soddisfazione del bisogno di divertir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livello – mettere gli oggetti in relazione tra lo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Funzioni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rricchisce l’interazione dei bambini con l’amb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ermette di modificare la real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circos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iuta il bambino a controllare lo spazio che lo circon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a ad usare strumenti (uso insolito per gli adult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ffina i movimenti del co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ichiede di agire in base ad un’idea, un progetto inizi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Situazioni problematiche provocate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57080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problemi didatticamente preparat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Devono corrisponder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alle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i bambini, al loro bagaglio esperienziale, ai loro interessi e alle motivazioni, al loro sviluppo cogni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Esempi di situazioni provocat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chiodo conficcato nel polistirolo – se disturba cosa facciamo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me  facciamo a riempire di acqua le provette usando un tubo di gomma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me si fa a trasportare un oggetto di ferro da una scatola all’altra senza toccarlo con le man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ali richieste devono essere basate su esperienze precedenti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Arial"/>
              </a:rPr>
              <a:t>Originalit</a:t>
            </a:r>
            <a:r>
              <a:rPr b="0" lang="en-US" sz="3000" spc="-1" strike="noStrike">
                <a:solidFill>
                  <a:srgbClr val="4e5b6f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4e5b6f"/>
                </a:solidFill>
                <a:latin typeface="Arial"/>
                <a:ea typeface="Arial"/>
              </a:rPr>
              <a:t> delle soluzio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oluzioni originali dei bambini – indice di crea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 origina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rima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comportamenti di routine diventano dominanti per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conomici ed effica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ell’at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i bambini si alternano momenti di ordine e crea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a momenti di disordine e confus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ricerca della soluzione del problema va lasciata ai bambini sotto la guida della maestra che deve aiutarli a scoprire l’errore e a superar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Trovare la soluzione: effetti sulla psiche </a:t>
            </a:r>
            <a:br>
              <a:rPr sz="3000"/>
            </a:b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dei bambi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rovare la soluzione soddisfacente ad un problem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causa d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iacere ed entusias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afforzamento dell’immagine positiva di se stes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oddisfazione e motivazione a continuare con nuove sf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iglioramento e ristrutturazione delle strutture cogni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viluppo della fantasia e della crea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o alla ricerca delle cause di fenomeni va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nclusione: offrire numerose occasioni al bambino per ricercare, scoprire, esprimere le cose fat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22:41:28Z</dcterms:created>
  <dc:creator>pc</dc:creator>
  <dc:description/>
  <dc:language>en-US</dc:language>
  <cp:lastModifiedBy>Miro</cp:lastModifiedBy>
  <dcterms:modified xsi:type="dcterms:W3CDTF">2009-06-19T09:33:47Z</dcterms:modified>
  <cp:revision>29</cp:revision>
  <dc:subject/>
  <dc:title>I METODI VISIVI</dc:title>
</cp:coreProperties>
</file>