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6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14.jpeg" ContentType="image/jpeg"/>
  <Override PartName="/ppt/media/image8.png" ContentType="image/png"/>
  <Override PartName="/ppt/media/image19.jpeg" ContentType="image/jpeg"/>
  <Override PartName="/ppt/media/image20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12.png" ContentType="image/pn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C1CC-CD09-4411-ABB1-CF9982419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52B7-C4BA-46C3-BD40-544D7A0CF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FF0F-308B-4511-B54F-A89EF632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8716-B367-4355-AA7B-2B346862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06D9-3261-4D87-8BA6-632F6567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743E-0988-4B81-B78E-F9E9EB90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DFC7-7214-48A7-A9FF-A7A9079D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153F-6176-4EFA-978D-2E2176B9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8C10-F325-42E3-9ADA-8371A35C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298C-521F-424F-B9C5-0C2DB81A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696D-C20D-496C-A98C-131DED04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22DA-9314-453C-B77A-CFA1E2D3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930A-C95D-4D05-9D59-C6A68AD1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DE4C-C454-4580-B994-4889BB05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5534-BC15-4005-8909-A370052A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095B-F3B1-45E7-BDCE-2EA4356F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3C0B-131E-44A7-8619-C65A67A6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88B6-DAE0-4134-9AAE-56C47360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6FCB-7579-4492-AA51-0D30B2650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E8AF9-DDED-4BAC-B40C-EAA4662B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E6969-7C22-4C58-BFAB-E2333F18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F7697-5D48-4C4D-BFAA-C7835AB2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7765B-7A13-4B4A-BB0C-0B944446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AD716-0BA0-4BC6-83DA-D1020D2C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1DCB-6255-41F8-BCE9-65CCF75E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E32B2-7CD2-4FEE-AFA2-8B39FECB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49F8A-8EB4-4F72-BED2-3F570947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B857E-AE01-4B61-BBE2-C96A701D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D54EA-EF5D-4BC0-9635-E702AFDD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2158B-9D4A-43C2-9EC7-E1A1395F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D01D3-10D4-413A-8151-30DACC39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D5E50-1CFC-4210-9AF5-0141289A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199EF-4DF9-45D0-ABE3-CA611268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B812B-EA10-475C-8BC6-44056BCC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909E7-6FE2-484D-9BEA-8B5D8FE6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E6D3-9836-4D58-8D56-22797BD3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E5816-AEE0-4043-8596-AB0DDEE7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EE2D7-DB1A-4895-B20F-82BEC6A4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63D3E-54FE-4710-B0ED-45A07E2F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40C49-E79E-458E-B292-9F677DAA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C5EE1-93F2-47CA-947B-F4A3EE0B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551BB-EC00-4C4C-A24D-BE6C6135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49DFC-D59B-4D0D-8C4F-4FCD2B4C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EAE48-A135-4658-B246-1169E183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1BEB6-BDE4-4F62-8B9B-AF22504A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D36B-CF95-40DF-B7FD-D36C0773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F6DE-3E89-4FB4-A273-3D3D1A1C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B360-E3D8-4F16-A604-CFDAEE3D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39AC-25F6-498F-B97C-4550F874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5B3A-BACC-4600-AB72-2AE2DD45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2D23-46AA-4726-9D1C-AF7296490505}" type="slidenum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5459-12CB-4CD4-99C6-5F5D4A886387}" type="slidenum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A8A7-135D-4A84-8518-77EB6C365ED7}" type="slidenum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41DB-10C4-44A7-B419-DDD3D883CB79}" type="slidenum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420840" y="1243080"/>
            <a:ext cx="8454960" cy="2012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mr.sc. Nevia Močini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Altri argoment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7856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i mezzi di riscaldamento usati dalle famiglie dei bambin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i tipi di case in cui vivono i bambini (es. palazzo, villa, grattacielo, condominio, ecc.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gli alimenti preferiti (es. minestra, pasta, pizza, brodo, carne, patatine, ecc.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i lavori di mamma e papà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ecc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Istogramma orizzonta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57200" y="1643040"/>
          <a:ext cx="8229600" cy="4851360"/>
        </p:xfrm>
        <a:graphic>
          <a:graphicData uri="http://schemas.openxmlformats.org/drawingml/2006/table">
            <a:tbl>
              <a:tblPr/>
              <a:tblGrid>
                <a:gridCol w="1257480"/>
                <a:gridCol w="774360"/>
                <a:gridCol w="774720"/>
                <a:gridCol w="774720"/>
                <a:gridCol w="774720"/>
                <a:gridCol w="774720"/>
                <a:gridCol w="774720"/>
                <a:gridCol w="774720"/>
                <a:gridCol w="774720"/>
                <a:gridCol w="774720"/>
              </a:tblGrid>
              <a:tr h="12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Picture 4" descr="arancia.jpg"/>
          <p:cNvPicPr/>
          <p:nvPr/>
        </p:nvPicPr>
        <p:blipFill>
          <a:blip r:embed="rId1"/>
          <a:srcRect l="7937" t="3968" r="4749" b="8718"/>
          <a:stretch/>
        </p:blipFill>
        <p:spPr>
          <a:xfrm>
            <a:off x="500040" y="171468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limone.jpg"/>
          <p:cNvPicPr/>
          <p:nvPr/>
        </p:nvPicPr>
        <p:blipFill>
          <a:blip r:embed="rId2"/>
          <a:stretch/>
        </p:blipFill>
        <p:spPr>
          <a:xfrm>
            <a:off x="571680" y="3000240"/>
            <a:ext cx="1133280" cy="962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mandarino.jpg"/>
          <p:cNvPicPr/>
          <p:nvPr/>
        </p:nvPicPr>
        <p:blipFill>
          <a:blip r:embed="rId3"/>
          <a:srcRect l="0" t="15630" r="0" b="0"/>
          <a:stretch/>
        </p:blipFill>
        <p:spPr>
          <a:xfrm>
            <a:off x="571680" y="4286160"/>
            <a:ext cx="1066680" cy="900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pompelmo.jpg"/>
          <p:cNvPicPr/>
          <p:nvPr/>
        </p:nvPicPr>
        <p:blipFill>
          <a:blip r:embed="rId4"/>
          <a:srcRect l="12100" t="6484" r="9265" b="9482"/>
          <a:stretch/>
        </p:blipFill>
        <p:spPr>
          <a:xfrm>
            <a:off x="500040" y="5357880"/>
            <a:ext cx="11160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La tabella a doppia entrat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7856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a tabella a doppia entrata è costituita da un reticolo ortogonale, formato a sua volta da quadrati sistemati in righe e colonne perpendicolari tra di lor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i si inseriscono i dati di due tipi di categorie, nella prima colonna e nella prima riga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’uso del reticolo ortogonale è utile per preparare i bambini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all’orientamento sulla carta topografica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sulla carta geografic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e nel grafico delle coordinate cartesia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400" y="785520"/>
            <a:ext cx="825804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4617b"/>
                </a:solidFill>
                <a:latin typeface="Calibri"/>
              </a:rPr>
              <a:t>Esempio di tabella a doppia entrat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Content Placeholder 3" descr="tabella-grafico1.jpg"/>
          <p:cNvPicPr/>
          <p:nvPr/>
        </p:nvPicPr>
        <p:blipFill>
          <a:blip r:embed="rId1"/>
          <a:stretch/>
        </p:blipFill>
        <p:spPr>
          <a:xfrm>
            <a:off x="2798640" y="1643040"/>
            <a:ext cx="379116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07228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4617b"/>
                </a:solidFill>
                <a:latin typeface="Calibri"/>
              </a:rPr>
              <a:t>Esempio di tabella a doppia entrata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1935000"/>
          <a:ext cx="7829640" cy="4754880"/>
        </p:xfrm>
        <a:graphic>
          <a:graphicData uri="http://schemas.openxmlformats.org/drawingml/2006/table">
            <a:tbl>
              <a:tblPr/>
              <a:tblGrid>
                <a:gridCol w="1305000"/>
                <a:gridCol w="1305000"/>
                <a:gridCol w="1304640"/>
                <a:gridCol w="1305000"/>
                <a:gridCol w="1305000"/>
                <a:gridCol w="1305000"/>
              </a:tblGrid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3" name="Picture 4" descr="cane.jpg"/>
          <p:cNvPicPr/>
          <p:nvPr/>
        </p:nvPicPr>
        <p:blipFill>
          <a:blip r:embed="rId1"/>
          <a:stretch/>
        </p:blipFill>
        <p:spPr>
          <a:xfrm>
            <a:off x="7286760" y="200016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gatti.jpg"/>
          <p:cNvPicPr/>
          <p:nvPr/>
        </p:nvPicPr>
        <p:blipFill>
          <a:blip r:embed="rId2"/>
          <a:stretch/>
        </p:blipFill>
        <p:spPr>
          <a:xfrm>
            <a:off x="2071800" y="2000160"/>
            <a:ext cx="815760" cy="61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coniglio1.bmp"/>
          <p:cNvPicPr/>
          <p:nvPr/>
        </p:nvPicPr>
        <p:blipFill>
          <a:blip r:embed="rId3"/>
          <a:stretch/>
        </p:blipFill>
        <p:spPr>
          <a:xfrm>
            <a:off x="3357720" y="2000160"/>
            <a:ext cx="768240" cy="576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porcellino-India1.bmp"/>
          <p:cNvPicPr/>
          <p:nvPr/>
        </p:nvPicPr>
        <p:blipFill>
          <a:blip r:embed="rId4"/>
          <a:srcRect l="21655" t="16379" r="3326" b="5788"/>
          <a:stretch/>
        </p:blipFill>
        <p:spPr>
          <a:xfrm>
            <a:off x="4643280" y="2000160"/>
            <a:ext cx="700200" cy="684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tartaruga.jpg"/>
          <p:cNvPicPr/>
          <p:nvPr/>
        </p:nvPicPr>
        <p:blipFill>
          <a:blip r:embed="rId5"/>
          <a:stretch/>
        </p:blipFill>
        <p:spPr>
          <a:xfrm>
            <a:off x="5857920" y="2000160"/>
            <a:ext cx="914400" cy="684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Calimero 1.jpg"/>
          <p:cNvPicPr/>
          <p:nvPr/>
        </p:nvPicPr>
        <p:blipFill>
          <a:blip r:embed="rId6"/>
          <a:stretch/>
        </p:blipFill>
        <p:spPr>
          <a:xfrm>
            <a:off x="857160" y="2786040"/>
            <a:ext cx="550800" cy="612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ape.bmp"/>
          <p:cNvPicPr/>
          <p:nvPr/>
        </p:nvPicPr>
        <p:blipFill>
          <a:blip r:embed="rId7"/>
          <a:stretch/>
        </p:blipFill>
        <p:spPr>
          <a:xfrm>
            <a:off x="857160" y="3429000"/>
            <a:ext cx="630360" cy="539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2" descr="cardellino.bmp"/>
          <p:cNvPicPr/>
          <p:nvPr/>
        </p:nvPicPr>
        <p:blipFill>
          <a:blip r:embed="rId8"/>
          <a:stretch/>
        </p:blipFill>
        <p:spPr>
          <a:xfrm>
            <a:off x="857160" y="4143240"/>
            <a:ext cx="652680" cy="503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3" descr="coccinella1.bmp"/>
          <p:cNvPicPr/>
          <p:nvPr/>
        </p:nvPicPr>
        <p:blipFill>
          <a:blip r:embed="rId9"/>
          <a:stretch/>
        </p:blipFill>
        <p:spPr>
          <a:xfrm>
            <a:off x="857160" y="4786200"/>
            <a:ext cx="684360" cy="576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4" descr="giglio.bmp"/>
          <p:cNvPicPr/>
          <p:nvPr/>
        </p:nvPicPr>
        <p:blipFill>
          <a:blip r:embed="rId10"/>
          <a:stretch/>
        </p:blipFill>
        <p:spPr>
          <a:xfrm>
            <a:off x="857160" y="5429160"/>
            <a:ext cx="627120" cy="540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5" descr="margherita.bmp"/>
          <p:cNvPicPr/>
          <p:nvPr/>
        </p:nvPicPr>
        <p:blipFill>
          <a:blip r:embed="rId11"/>
          <a:stretch/>
        </p:blipFill>
        <p:spPr>
          <a:xfrm>
            <a:off x="857160" y="6072120"/>
            <a:ext cx="75564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600" cy="142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4617b"/>
                </a:solidFill>
                <a:latin typeface="Calibri"/>
              </a:rPr>
              <a:t>E</a:t>
            </a:r>
            <a:r>
              <a:rPr b="0" lang="it-IT" sz="4400" spc="-1" strike="noStrike">
                <a:solidFill>
                  <a:srgbClr val="04617b"/>
                </a:solidFill>
                <a:latin typeface="Calibri"/>
              </a:rPr>
              <a:t>sempi d’uso delle tabelle a doppia entrat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071440"/>
            <a:ext cx="82296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la tabella con gli ambienti della cas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la tabella degli aliment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la tabella dei fiori (le preferenze</a:t>
            </a: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i tipi di case in cui vivono i bambini (es. palazzo, villa, grattacielo, condominio, ecc.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gli alimenti preferiti (es. minestra, pasta, pizza, brodo, carne, patatine, ecc.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4617b"/>
                </a:solidFill>
                <a:latin typeface="Calibri"/>
              </a:rPr>
              <a:t>Materiale occorrente per le attività descritte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785600"/>
            <a:ext cx="84009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scatole di fiammiferi, quadrati, cerchi di carta autoadesiv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fogli di carta a quadratini per disegnare gli istogramm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un grande reticolo ortogonale per esercizi di orientamento su di esso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giochi didattici che prevedono l’uso del reticolo ortogonale (es. memory, battaglia navale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2600" y="928800"/>
            <a:ext cx="764388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500" spc="-1" strike="noStrike">
                <a:solidFill>
                  <a:srgbClr val="04617b"/>
                </a:solidFill>
                <a:latin typeface="Calibri"/>
              </a:rPr>
              <a:t>I grafici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85688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onstantia"/>
              </a:rPr>
              <a:t>Il grafico è un disegno che rappresenta il rapporto tra due o più grandezze numerich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nstantia"/>
              </a:rPr>
              <a:t>Richiede il </a:t>
            </a:r>
            <a:r>
              <a:rPr b="0" lang="it-IT" sz="3600" spc="-1" strike="noStrike">
                <a:solidFill>
                  <a:srgbClr val="000000"/>
                </a:solidFill>
                <a:latin typeface="Constantia"/>
              </a:rPr>
              <a:t>passaggio dall’esperienza concreta</a:t>
            </a:r>
            <a:r>
              <a:rPr b="0" lang="hr-HR" sz="3600" spc="-1" strike="noStrike">
                <a:solidFill>
                  <a:srgbClr val="000000"/>
                </a:solidFill>
                <a:latin typeface="Constantia"/>
              </a:rPr>
              <a:t> alla rappresentazione astratta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it-IT" sz="3600" spc="-1" strike="noStrike">
                <a:solidFill>
                  <a:srgbClr val="000000"/>
                </a:solidFill>
                <a:latin typeface="Constantia"/>
              </a:rPr>
              <a:t> bambini possono usare </a:t>
            </a:r>
            <a:r>
              <a:rPr b="0" lang="hr-HR" sz="3600" spc="-1" strike="noStrike">
                <a:solidFill>
                  <a:srgbClr val="000000"/>
                </a:solidFill>
                <a:latin typeface="Constantia"/>
              </a:rPr>
              <a:t>i grafici d</a:t>
            </a:r>
            <a:r>
              <a:rPr b="0" lang="it-IT" sz="3600" spc="-1" strike="noStrike">
                <a:solidFill>
                  <a:srgbClr val="000000"/>
                </a:solidFill>
                <a:latin typeface="Constantia"/>
              </a:rPr>
              <a:t>ai cinque anni in poi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Gli istogramm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43040"/>
            <a:ext cx="8329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Si possono </a:t>
            </a: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usare gli istogrammi per rappresentare i risultati di indagini svolte in vari campi</a:t>
            </a: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nell’osservazione della natura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negli esperimenti di scienze naturali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nei questionari proposti ai bambini del gruppo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nelle misurazioni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nell’analisi del traffico, </a:t>
            </a: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ecc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Preparativi precedent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430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Prima di disegnare il grafico bisogna</a:t>
            </a: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rappresentare il numero degli animali domestici posseduti dai bambini usando scatole di fiammiferi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oppure </a:t>
            </a: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usando </a:t>
            </a: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carte con le immagini degli animali</a:t>
            </a: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;</a:t>
            </a: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passare poi alla rappresentazione c</a:t>
            </a: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 rettangoli colorati su un foglio a quadratini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Ogni colonna </a:t>
            </a: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va costruita dalla base in su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Istogramma degli animali da compagn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935000"/>
          <a:ext cx="8229600" cy="45658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ess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4" descr="cane.jpg"/>
          <p:cNvPicPr/>
          <p:nvPr/>
        </p:nvPicPr>
        <p:blipFill>
          <a:blip r:embed="rId1"/>
          <a:stretch/>
        </p:blipFill>
        <p:spPr>
          <a:xfrm>
            <a:off x="714240" y="5357880"/>
            <a:ext cx="1105200" cy="1104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gattino.bmp"/>
          <p:cNvPicPr/>
          <p:nvPr/>
        </p:nvPicPr>
        <p:blipFill>
          <a:blip r:embed="rId2"/>
          <a:srcRect l="14378" t="0" r="23755" b="0"/>
          <a:stretch/>
        </p:blipFill>
        <p:spPr>
          <a:xfrm>
            <a:off x="2428920" y="5286240"/>
            <a:ext cx="996840" cy="1187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coniglio.jpg"/>
          <p:cNvPicPr/>
          <p:nvPr/>
        </p:nvPicPr>
        <p:blipFill>
          <a:blip r:embed="rId3"/>
          <a:stretch/>
        </p:blipFill>
        <p:spPr>
          <a:xfrm>
            <a:off x="3929040" y="5357880"/>
            <a:ext cx="1285920" cy="1019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criceti.jpg"/>
          <p:cNvPicPr/>
          <p:nvPr/>
        </p:nvPicPr>
        <p:blipFill>
          <a:blip r:embed="rId4"/>
          <a:stretch/>
        </p:blipFill>
        <p:spPr>
          <a:xfrm>
            <a:off x="5643720" y="5500800"/>
            <a:ext cx="12380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4617b"/>
                </a:solidFill>
                <a:latin typeface="Calibri"/>
              </a:rPr>
              <a:t>Comment</a:t>
            </a:r>
            <a:r>
              <a:rPr b="0" lang="hr-HR" sz="4800" spc="-1" strike="noStrike">
                <a:solidFill>
                  <a:srgbClr val="04617b"/>
                </a:solidFill>
                <a:latin typeface="Calibri"/>
              </a:rPr>
              <a:t>o de</a:t>
            </a:r>
            <a:r>
              <a:rPr b="0" lang="it-IT" sz="4800" spc="-1" strike="noStrike">
                <a:solidFill>
                  <a:srgbClr val="04617b"/>
                </a:solidFill>
                <a:latin typeface="Calibri"/>
              </a:rPr>
              <a:t>i dati rappresentati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430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Quanti cani hanno in tutto i bambini del gruppo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Qual è l’animale domestico posseduto da più bambini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Quanti bambini possiedono in tutto un animale da compagnia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I bambini possiedono più cani o conigli? Di quanti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Perché ci sono sul grafico più rettangoli che bambini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Quanti sono gli animali do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estici in tutto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Istogramma degli alber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428840"/>
          <a:ext cx="8229600" cy="54291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LLO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C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AGOLA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EC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I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0" name="Picture 4" descr="alloro.bmp"/>
          <p:cNvPicPr/>
          <p:nvPr/>
        </p:nvPicPr>
        <p:blipFill>
          <a:blip r:embed="rId1"/>
          <a:stretch/>
        </p:blipFill>
        <p:spPr>
          <a:xfrm>
            <a:off x="571680" y="5429160"/>
            <a:ext cx="1409400" cy="936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acero-monte.bmp"/>
          <p:cNvPicPr/>
          <p:nvPr/>
        </p:nvPicPr>
        <p:blipFill>
          <a:blip r:embed="rId2"/>
          <a:stretch/>
        </p:blipFill>
        <p:spPr>
          <a:xfrm>
            <a:off x="2286000" y="5429160"/>
            <a:ext cx="1285920" cy="1019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bagolaro-ramo.bmp"/>
          <p:cNvPicPr/>
          <p:nvPr/>
        </p:nvPicPr>
        <p:blipFill>
          <a:blip r:embed="rId3"/>
          <a:stretch/>
        </p:blipFill>
        <p:spPr>
          <a:xfrm>
            <a:off x="4000680" y="5429160"/>
            <a:ext cx="1245960" cy="1079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leccio-ghiande.bmp"/>
          <p:cNvPicPr/>
          <p:nvPr/>
        </p:nvPicPr>
        <p:blipFill>
          <a:blip r:embed="rId4"/>
          <a:srcRect l="0" t="0" r="6064" b="5104"/>
          <a:stretch/>
        </p:blipFill>
        <p:spPr>
          <a:xfrm>
            <a:off x="5643720" y="5357880"/>
            <a:ext cx="1100160" cy="1152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pino.bmp"/>
          <p:cNvPicPr/>
          <p:nvPr/>
        </p:nvPicPr>
        <p:blipFill>
          <a:blip r:embed="rId5"/>
          <a:stretch/>
        </p:blipFill>
        <p:spPr>
          <a:xfrm>
            <a:off x="7215120" y="5357880"/>
            <a:ext cx="12556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4617b"/>
                </a:solidFill>
                <a:latin typeface="Calibri"/>
              </a:rPr>
              <a:t>Comment</a:t>
            </a:r>
            <a:r>
              <a:rPr b="0" lang="hr-HR" sz="4800" spc="-1" strike="noStrike">
                <a:solidFill>
                  <a:srgbClr val="04617b"/>
                </a:solidFill>
                <a:latin typeface="Calibri"/>
              </a:rPr>
              <a:t>o de</a:t>
            </a:r>
            <a:r>
              <a:rPr b="0" lang="it-IT" sz="4800" spc="-1" strike="noStrike">
                <a:solidFill>
                  <a:srgbClr val="04617b"/>
                </a:solidFill>
                <a:latin typeface="Calibri"/>
              </a:rPr>
              <a:t>i dati rappresentati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Quale albero ha più quadratini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Quale albero ha meno quadratini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Quanti alberi in tutto abbiamo registrato nelle vicinanze della scuola dell’infanzia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Quali alberi perdono le foglie d’inverno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Quali alberi non perdono le foglie d’inverno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Le foglie di quale albero si usano in cucina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4617b"/>
                </a:solidFill>
                <a:latin typeface="Calibri"/>
              </a:rPr>
              <a:t>A</a:t>
            </a:r>
            <a:r>
              <a:rPr b="0" lang="it-IT" sz="4800" spc="-1" strike="noStrike">
                <a:solidFill>
                  <a:srgbClr val="04617b"/>
                </a:solidFill>
                <a:latin typeface="Calibri"/>
              </a:rPr>
              <a:t>rgomenti </a:t>
            </a:r>
            <a:r>
              <a:rPr b="0" lang="hr-HR" sz="4800" spc="-1" strike="noStrike">
                <a:solidFill>
                  <a:srgbClr val="04617b"/>
                </a:solidFill>
                <a:latin typeface="Calibri"/>
              </a:rPr>
              <a:t>da </a:t>
            </a:r>
            <a:r>
              <a:rPr b="0" lang="it-IT" sz="4800" spc="-1" strike="noStrike">
                <a:solidFill>
                  <a:srgbClr val="04617b"/>
                </a:solidFill>
                <a:latin typeface="Calibri"/>
              </a:rPr>
              <a:t>rappresentare con un istogramma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a trasmissione televisiva preferita o i programmi preferi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I mesi in cui i bambini sono na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Il tempo atmosferico nel mese di magg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I mezzi di trasporto che passano vicino alla scuola dell’infanz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e attività dei bambini al di fuori della scuola dell’infanz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Il modo di arrivare a scuol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e misurazioni, ec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18:41:08Z</dcterms:created>
  <dc:creator>Luana Buić</dc:creator>
  <dc:description/>
  <dc:language>en-US</dc:language>
  <cp:lastModifiedBy>Miro</cp:lastModifiedBy>
  <dcterms:modified xsi:type="dcterms:W3CDTF">2010-11-09T20:26:46Z</dcterms:modified>
  <cp:revision>41</cp:revision>
  <dc:subject/>
  <dc:title>Le informazioni più importanti sono:</dc:title>
</cp:coreProperties>
</file>